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834E-75FB-48F8-AF93-0B4AC6038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0913-7BF9-4694-B651-C139D0FC9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EB56-6F06-4F74-BCA4-C0F923121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CB4D-5585-43B9-85FE-E4F168112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28E9-48C9-4854-A064-4E8490426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AB3A-D16A-4A2E-9E1B-9DD28B4B4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5FDD-F8BA-409F-8EDC-A6C40FF20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2890-FA9A-46A9-A6B6-03A6EFE75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C6F1-98B9-4646-B9D7-023DFA39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64C3-7ED9-4D84-B617-B05CF3BBC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5434-01D0-49B0-845F-46A3E335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982A-149D-48D7-A261-4F4E27A7E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Ken Arnold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A5D67EB2-2D57-440D-86BC-08339F57B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12720" y="1931400"/>
            <a:ext cx="7056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is Jini™</a:t>
            </a:r>
            <a:r>
              <a:rPr b="0" lang="en-US" sz="800" spc="-1" strike="noStrike" baseline="100000">
                <a:solidFill>
                  <a:srgbClr val="ffffff"/>
                </a:solidFill>
                <a:latin typeface="Times New Roman"/>
              </a:rPr>
              <a:t>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uff, Any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Arn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tt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has to go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r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mpre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obustnes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essage 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tensibil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ffic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ase of productio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se of consum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erges “what I do” with “how I do it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y define too mu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w capable are the endpoi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ck down tradeoff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flex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terface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o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at I do”: Implementations v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invented any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moved whe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can be adapted to the application dom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XML (A Digression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 the local case, we have learned that object oriented programming is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gramming with data structures has proven to be not so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XML is (nice) data stru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 relearn the lesson on the network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Architecture is Objects on the Wi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are defined by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move where they a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one can create a new service using existing stuf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are a private mat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urrent Uses/Resear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nal service find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 extensible internal expansion b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ternal service publicatio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ication servers, proxy serv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ilitary field information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nting, storage working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ration, service interfaces, accessi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1680" y="1630440"/>
            <a:ext cx="7373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ini.or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sun.com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ini-users@java.sun.co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ok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he Jini Specificati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JavaSpaces Principles, Patterns, and Practices,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ison-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re Jin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Prentice H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ava.sun.com/docs/books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Jini Series, Addison 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get the source: use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write tools: share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create products: sell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have an itch: scratch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27160" y="27410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ompletely New Tal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370584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m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als of Jini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Archite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lug-and-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rase the hardware/software disti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ow spontaneous network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able a service-based archite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bove all, to provide the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system poss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Technology Makes It Wor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2040" y="198108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 virtual machine = Homogeneous Net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rtable object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fety through verifi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single type system for the network and th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ynamic environ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pontaneous Network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61680" y="1805040"/>
            <a:ext cx="73738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join federation by discovering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gistering with Lookup Service = advertising your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find services by Java programming languag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moves from service to cli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needed to use service i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dynamically load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when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giste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63760" y="1241280"/>
            <a:ext cx="7162560" cy="4407120"/>
            <a:chOff x="1463760" y="1241280"/>
            <a:chExt cx="7162560" cy="4407120"/>
          </a:xfrm>
        </p:grpSpPr>
        <p:sp>
          <p:nvSpPr>
            <p:cNvPr id="54" name=""/>
            <p:cNvSpPr/>
            <p:nvPr/>
          </p:nvSpPr>
          <p:spPr>
            <a:xfrm>
              <a:off x="5400720" y="1762200"/>
              <a:ext cx="3225600" cy="1993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44640" y="3933720"/>
              <a:ext cx="2819520" cy="171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4302000"/>
              <a:ext cx="190476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3760" y="3463920"/>
              <a:ext cx="28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13280" y="1241280"/>
              <a:ext cx="24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kup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473720" y="3235320"/>
              <a:ext cx="134604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19760" y="239724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4213080"/>
              <a:ext cx="190476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13280" y="230832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nding a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264200"/>
            <a:ext cx="3225960" cy="1993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637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3939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0" y="3743280"/>
            <a:ext cx="24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48040" y="2355840"/>
            <a:ext cx="1790640" cy="210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3280" y="4898880"/>
            <a:ext cx="19047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48040" y="3149640"/>
            <a:ext cx="1790640" cy="21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43280" y="4809960"/>
            <a:ext cx="190476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638680" y="2664000"/>
            <a:ext cx="1905120" cy="914400"/>
            <a:chOff x="5638680" y="2664000"/>
            <a:chExt cx="1905120" cy="914400"/>
          </a:xfrm>
        </p:grpSpPr>
        <p:sp>
          <p:nvSpPr>
            <p:cNvPr id="73" name=""/>
            <p:cNvSpPr/>
            <p:nvPr/>
          </p:nvSpPr>
          <p:spPr>
            <a:xfrm>
              <a:off x="5638680" y="275292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66400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8618600">
            <a:off x="3712320" y="266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ing the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978200"/>
            <a:ext cx="2819520" cy="171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2867040"/>
            <a:ext cx="190512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5080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59120" y="3679920"/>
            <a:ext cx="1917720" cy="1257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1720" y="43909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20840" y="39211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778120"/>
            <a:ext cx="190512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0400" y="228276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define what goes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faces define what you 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SansTypewriter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public void flipSwitch(boolean on)</a:t>
            </a:r>
            <a:endParaRPr b="0" lang="en-US" sz="2000" spc="-1" strike="noStrike">
              <a:solidFill>
                <a:srgbClr val="ffffff"/>
              </a:solidFill>
              <a:latin typeface="SunSans-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Interfa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25960" y="3117960"/>
            <a:ext cx="3895560" cy="519120"/>
            <a:chOff x="3225960" y="3117960"/>
            <a:chExt cx="3895560" cy="519120"/>
          </a:xfrm>
        </p:grpSpPr>
        <p:sp>
          <p:nvSpPr>
            <p:cNvPr id="88" name=""/>
            <p:cNvSpPr/>
            <p:nvPr/>
          </p:nvSpPr>
          <p:spPr>
            <a:xfrm>
              <a:off x="3225960" y="3117960"/>
              <a:ext cx="3693960" cy="49068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  17  33  9F  77 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02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3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11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97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56280" y="3117960"/>
              <a:ext cx="10652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74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Ken Arnold</cp:lastModifiedBy>
  <cp:lastPrinted>1999-01-15T22:44:49Z</cp:lastPrinted>
  <dcterms:modified xsi:type="dcterms:W3CDTF">1999-09-20T17:01:55Z</dcterms:modified>
  <cp:revision>15305</cp:revision>
  <dc:subject/>
  <dc:title>No Slide Title</dc:title>
</cp:coreProperties>
</file>