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800"/>
            <a:ext cx="29732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-1800"/>
            <a:ext cx="29732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35080" y="694800"/>
            <a:ext cx="4589280" cy="344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323779" dir="288929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5840" y="4373640"/>
            <a:ext cx="5026320" cy="414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746920"/>
            <a:ext cx="29732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746920"/>
            <a:ext cx="29732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60DFBD2-43C6-406C-8A5E-D68E0062270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35080" y="69516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5840" y="4373640"/>
            <a:ext cx="5026320" cy="414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7520" bIns="4752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plication Server 4.0 will also support non EJB-based CORBA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44255-AB60-45B8-A1D5-18B50EE204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68216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70A41-B178-4C4F-9663-C94BB06C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68216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68216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51BDF-8CF9-4B96-93B6-4303E7F9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584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584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68216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68216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68216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E3806-C46D-44D7-89DA-73CAC9B370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31233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5840"/>
            <a:ext cx="31233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116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5840"/>
            <a:ext cx="31233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68216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FB19C-B683-499A-AF15-60505914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31233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68216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68216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68216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68216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68216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584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584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68216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68216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68216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32C7C-9E30-478D-8A1B-982B9CA0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31233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5840"/>
            <a:ext cx="31233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9767C-A9A1-4460-BE0B-8205454A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83BC8-4F66-4F76-8255-95351578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116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37611-99CB-4898-8269-939C429D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5840"/>
            <a:ext cx="31233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68216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B025D-087E-4CB6-AFB8-E290C636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31233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68216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1B6F4-F653-4995-B9B4-05A27484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68216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0DD05-0445-4CCC-9B8A-4A9DBDB7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152280"/>
            <a:ext cx="8686800" cy="1371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0360" indent="-33444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304280" indent="-26208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7521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9160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916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916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2743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87FE-C41F-4D9D-AE55-912C263CDF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152280"/>
            <a:ext cx="1295280" cy="1371600"/>
          </a:xfrm>
          <a:prstGeom prst="rect">
            <a:avLst/>
          </a:prstGeom>
          <a:ln w="0">
            <a:noFill/>
          </a:ln>
        </p:spPr>
      </p:pic>
      <p:pic>
        <p:nvPicPr>
          <p:cNvPr id="6" name="bor_inp_logo" descr=""/>
          <p:cNvPicPr/>
          <p:nvPr/>
        </p:nvPicPr>
        <p:blipFill>
          <a:blip r:embed="rId4"/>
          <a:stretch/>
        </p:blipFill>
        <p:spPr>
          <a:xfrm>
            <a:off x="7924680" y="6477120"/>
            <a:ext cx="1162080" cy="3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276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bor_inp_logo" descr=""/>
          <p:cNvPicPr/>
          <p:nvPr/>
        </p:nvPicPr>
        <p:blipFill>
          <a:blip r:embed="rId3"/>
          <a:stretch/>
        </p:blipFill>
        <p:spPr>
          <a:xfrm>
            <a:off x="7924680" y="6477120"/>
            <a:ext cx="1162080" cy="333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  <a:p>
            <a:pPr lvl="1" marL="4068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813600" indent="122760" algn="ctr">
              <a:spcBef>
                <a:spcPts val="601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220400" indent="1512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627560" indent="4932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627560" indent="493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627560" indent="493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27320" y="2133720"/>
            <a:ext cx="6478560" cy="456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JB Development and Deployment with the Inprise Application Serv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tin Pamde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Business Development Mana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rise Corporatio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pamdeth@inprise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newlogo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4191120" cy="135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Responsibilities of the EJB Contain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oper creation, initialization, and removal of bea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nsuring that methods run in the proper TX contex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Visibility of the home object in a JNDI namespac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ssion Bean Cach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ersistence management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mplementation of security servic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495680" y="1523880"/>
            <a:ext cx="381240" cy="53341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Bean Architectur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02" name=""/>
          <p:cNvSpPr/>
          <p:nvPr/>
        </p:nvSpPr>
        <p:spPr>
          <a:xfrm>
            <a:off x="1638360" y="1892160"/>
            <a:ext cx="2190600" cy="205740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EJB H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3067200"/>
            <a:ext cx="2190600" cy="2057400"/>
          </a:xfrm>
          <a:prstGeom prst="ellipse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Bean In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38360" y="4419720"/>
            <a:ext cx="2190600" cy="205740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emo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895480"/>
            <a:ext cx="838080" cy="0"/>
          </a:xfrm>
          <a:prstGeom prst="line">
            <a:avLst/>
          </a:prstGeom>
          <a:ln w="44280">
            <a:solidFill>
              <a:srgbClr val="ffff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4267080"/>
            <a:ext cx="1219320" cy="762120"/>
          </a:xfrm>
          <a:prstGeom prst="line">
            <a:avLst/>
          </a:prstGeom>
          <a:ln w="44280">
            <a:solidFill>
              <a:srgbClr val="ffff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5486400"/>
            <a:ext cx="609480" cy="0"/>
          </a:xfrm>
          <a:prstGeom prst="line">
            <a:avLst/>
          </a:prstGeom>
          <a:ln w="44280">
            <a:solidFill>
              <a:srgbClr val="ffff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6200000">
            <a:off x="3881520" y="3834720"/>
            <a:ext cx="15444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onta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3429000"/>
            <a:ext cx="609480" cy="0"/>
          </a:xfrm>
          <a:prstGeom prst="line">
            <a:avLst/>
          </a:prstGeom>
          <a:ln w="44280">
            <a:solidFill>
              <a:srgbClr val="ffff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57200" y="3276720"/>
            <a:ext cx="1143000" cy="914400"/>
          </a:xfrm>
          <a:prstGeom prst="line">
            <a:avLst/>
          </a:prstGeom>
          <a:ln w="44280">
            <a:solidFill>
              <a:srgbClr val="ffff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89520" y="4775040"/>
            <a:ext cx="609480" cy="0"/>
          </a:xfrm>
          <a:prstGeom prst="line">
            <a:avLst/>
          </a:prstGeom>
          <a:ln w="44280">
            <a:solidFill>
              <a:srgbClr val="ffff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EJB Deployment Descriptor Element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402120" indent="-4021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ean’s clas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02120" indent="-4021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ean’s home interfac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02120" indent="-4021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ean’s remote interfac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02120" indent="-4021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ate Management typ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02120" indent="-4021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ransaction demarcation typ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02120" indent="-4021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tainer Managed Fiel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02120" indent="-4021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urity Role Referenc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973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ll Described in XM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Bean Type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397440" indent="-397440">
              <a:spcBef>
                <a:spcPts val="700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ssion Bea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usiness Process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xecute on behalf of single clien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an be transaction awar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oes not represent directly shared data in a databas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re relatively short live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oes not survive EJB server crash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ransien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97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0600" y="16765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406800" indent="-406800">
              <a:spcBef>
                <a:spcPts val="700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ntity Bea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09640" indent="-3006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usiness Entiti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9640" indent="-3006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llows shared access by multiple users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9640" indent="-3006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re transactiona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9640" indent="-3006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epresents data in a databas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9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9640" indent="-3006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Long lived (as data in DB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9640" indent="-3006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rvives crash of EJB serv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9640" indent="-3006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ersisten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Session Bean Types 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411480" indent="-411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tateless Session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18640" indent="-304200">
              <a:spcBef>
                <a:spcPts val="55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Does not contain conversational state between method invocations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818640" indent="-304200">
              <a:spcBef>
                <a:spcPts val="55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Any session bean instance can be used for any client.  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818640" indent="-304200">
              <a:spcBef>
                <a:spcPts val="55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Stateless beans are designed to be pooled.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76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tateful Session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55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Contains conversational state which is kept across method invocations and transactions.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55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Once a client has obtained a specific session bean it must use this instance for the life of the session.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 rot="16200000">
            <a:off x="4686120" y="1637640"/>
            <a:ext cx="3886200" cy="50292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c194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1e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JB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ents View of Session Bean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334120" y="2209320"/>
            <a:ext cx="2438280" cy="39625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c194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1e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JB Conta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79360" y="2133720"/>
            <a:ext cx="1673280" cy="4258440"/>
            <a:chOff x="279360" y="2133720"/>
            <a:chExt cx="1673280" cy="4258440"/>
          </a:xfrm>
        </p:grpSpPr>
        <p:sp>
          <p:nvSpPr>
            <p:cNvPr id="224" name=""/>
            <p:cNvSpPr/>
            <p:nvPr/>
          </p:nvSpPr>
          <p:spPr>
            <a:xfrm>
              <a:off x="381240" y="2133720"/>
              <a:ext cx="1476360" cy="42177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c194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1e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9360" y="5904000"/>
              <a:ext cx="167328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840" bIns="42840" anchor="t">
              <a:spAutoFit/>
            </a:bodyPr>
            <a:p>
              <a:pPr marL="312840" indent="-312840" algn="ctr">
                <a:lnSpc>
                  <a:spcPct val="120000"/>
                </a:lnSpc>
                <a:tabLst>
                  <a:tab algn="l" pos="0"/>
                  <a:tab algn="l" pos="758880"/>
                  <a:tab algn="l" pos="1517760"/>
                  <a:tab algn="l" pos="2276640"/>
                  <a:tab algn="l" pos="3035160"/>
                  <a:tab algn="l" pos="3794040"/>
                  <a:tab algn="l" pos="4552920"/>
                  <a:tab algn="l" pos="5311800"/>
                  <a:tab algn="l" pos="6070680"/>
                  <a:tab algn="l" pos="6829560"/>
                  <a:tab algn="l" pos="7588080"/>
                  <a:tab algn="l" pos="8346960"/>
                  <a:tab algn="l" pos="9105840"/>
                  <a:tab algn="l" pos="9864720"/>
                  <a:tab algn="l" pos="106236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 Narrow"/>
                </a:rPr>
                <a:t>Thin Cli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3520" y="3017880"/>
              <a:ext cx="1219320" cy="6764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Windows</a:t>
              </a:r>
              <a:br>
                <a:rPr sz="2200"/>
              </a:b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Cli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3520" y="3780000"/>
              <a:ext cx="1219320" cy="685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Java</a:t>
              </a:r>
              <a:br>
                <a:rPr sz="2200"/>
              </a:b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Cli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3520" y="4541760"/>
              <a:ext cx="1219320" cy="685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Browser</a:t>
              </a:r>
              <a:br>
                <a:rPr sz="2200"/>
              </a:b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Cli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3520" y="5303880"/>
              <a:ext cx="1219320" cy="685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Mobile</a:t>
              </a:r>
              <a:br>
                <a:rPr sz="2200"/>
              </a:b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Cli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914400" y="2157480"/>
              <a:ext cx="601920" cy="920880"/>
              <a:chOff x="914400" y="2157480"/>
              <a:chExt cx="601920" cy="920880"/>
            </a:xfrm>
          </p:grpSpPr>
          <p:sp>
            <p:nvSpPr>
              <p:cNvPr id="231" name=""/>
              <p:cNvSpPr/>
              <p:nvPr/>
            </p:nvSpPr>
            <p:spPr>
              <a:xfrm flipH="1">
                <a:off x="914040" y="2379960"/>
                <a:ext cx="567000" cy="566640"/>
              </a:xfrm>
              <a:custGeom>
                <a:avLst/>
                <a:gdLst/>
                <a:ahLst/>
                <a:rect l="l" t="t" r="r" b="b"/>
                <a:pathLst>
                  <a:path w="357" h="357">
                    <a:moveTo>
                      <a:pt x="147" y="0"/>
                    </a:moveTo>
                    <a:lnTo>
                      <a:pt x="356" y="207"/>
                    </a:lnTo>
                    <a:lnTo>
                      <a:pt x="208" y="356"/>
                    </a:lnTo>
                    <a:lnTo>
                      <a:pt x="0" y="148"/>
                    </a:lnTo>
                    <a:lnTo>
                      <a:pt x="147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914040" y="2706840"/>
                <a:ext cx="235080" cy="333360"/>
              </a:xfrm>
              <a:custGeom>
                <a:avLst/>
                <a:gdLst/>
                <a:ahLst/>
                <a:rect l="l" t="t" r="r" b="b"/>
                <a:pathLst>
                  <a:path w="148" h="210">
                    <a:moveTo>
                      <a:pt x="147" y="0"/>
                    </a:moveTo>
                    <a:lnTo>
                      <a:pt x="147" y="60"/>
                    </a:lnTo>
                    <a:lnTo>
                      <a:pt x="0" y="209"/>
                    </a:lnTo>
                    <a:lnTo>
                      <a:pt x="0" y="149"/>
                    </a:lnTo>
                    <a:lnTo>
                      <a:pt x="147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147320" y="2614680"/>
                <a:ext cx="335160" cy="425520"/>
              </a:xfrm>
              <a:custGeom>
                <a:avLst/>
                <a:gdLst/>
                <a:ahLst/>
                <a:rect l="l" t="t" r="r" b="b"/>
                <a:pathLst>
                  <a:path w="211" h="268">
                    <a:moveTo>
                      <a:pt x="0" y="0"/>
                    </a:moveTo>
                    <a:lnTo>
                      <a:pt x="210" y="207"/>
                    </a:lnTo>
                    <a:lnTo>
                      <a:pt x="209" y="267"/>
                    </a:lnTo>
                    <a:lnTo>
                      <a:pt x="0" y="5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984240" y="2424240"/>
                <a:ext cx="455760" cy="455760"/>
              </a:xfrm>
              <a:custGeom>
                <a:avLst/>
                <a:gdLst/>
                <a:ahLst/>
                <a:rect l="l" t="t" r="r" b="b"/>
                <a:pathLst>
                  <a:path w="287" h="287">
                    <a:moveTo>
                      <a:pt x="109" y="0"/>
                    </a:moveTo>
                    <a:lnTo>
                      <a:pt x="286" y="177"/>
                    </a:lnTo>
                    <a:lnTo>
                      <a:pt x="176" y="286"/>
                    </a:lnTo>
                    <a:lnTo>
                      <a:pt x="0" y="108"/>
                    </a:lnTo>
                    <a:lnTo>
                      <a:pt x="109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1155960" y="2286000"/>
                <a:ext cx="279360" cy="561960"/>
              </a:xfrm>
              <a:custGeom>
                <a:avLst/>
                <a:gdLst/>
                <a:ahLst/>
                <a:rect l="l" t="t" r="r" b="b"/>
                <a:pathLst>
                  <a:path w="176" h="354">
                    <a:moveTo>
                      <a:pt x="0" y="0"/>
                    </a:moveTo>
                    <a:lnTo>
                      <a:pt x="175" y="177"/>
                    </a:lnTo>
                    <a:lnTo>
                      <a:pt x="175" y="353"/>
                    </a:lnTo>
                    <a:lnTo>
                      <a:pt x="0" y="1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1189080" y="2359080"/>
                <a:ext cx="208080" cy="390600"/>
              </a:xfrm>
              <a:custGeom>
                <a:avLst/>
                <a:gdLst/>
                <a:ahLst/>
                <a:rect l="l" t="t" r="r" b="b"/>
                <a:pathLst>
                  <a:path w="131" h="246">
                    <a:moveTo>
                      <a:pt x="0" y="0"/>
                    </a:moveTo>
                    <a:lnTo>
                      <a:pt x="130" y="130"/>
                    </a:lnTo>
                    <a:lnTo>
                      <a:pt x="130" y="245"/>
                    </a:lnTo>
                    <a:lnTo>
                      <a:pt x="0" y="11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3366ff"/>
                  </a:gs>
                  <a:gs pos="100000">
                    <a:srgbClr val="2346b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1379520" y="2341800"/>
                <a:ext cx="30240" cy="212760"/>
              </a:xfrm>
              <a:custGeom>
                <a:avLst/>
                <a:gdLst/>
                <a:ahLst/>
                <a:rect l="l" t="t" r="r" b="b"/>
                <a:pathLst>
                  <a:path w="19" h="134">
                    <a:moveTo>
                      <a:pt x="0" y="0"/>
                    </a:moveTo>
                    <a:lnTo>
                      <a:pt x="18" y="11"/>
                    </a:lnTo>
                    <a:lnTo>
                      <a:pt x="18" y="126"/>
                    </a:lnTo>
                    <a:lnTo>
                      <a:pt x="0" y="1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1188720" y="2544840"/>
                <a:ext cx="220680" cy="230400"/>
              </a:xfrm>
              <a:custGeom>
                <a:avLst/>
                <a:gdLst/>
                <a:ahLst/>
                <a:rect l="l" t="t" r="r" b="b"/>
                <a:pathLst>
                  <a:path w="139" h="145">
                    <a:moveTo>
                      <a:pt x="8" y="0"/>
                    </a:moveTo>
                    <a:lnTo>
                      <a:pt x="138" y="129"/>
                    </a:lnTo>
                    <a:lnTo>
                      <a:pt x="138" y="144"/>
                    </a:lnTo>
                    <a:lnTo>
                      <a:pt x="0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983880" y="2705400"/>
                <a:ext cx="174600" cy="199800"/>
              </a:xfrm>
              <a:custGeom>
                <a:avLst/>
                <a:gdLst/>
                <a:ahLst/>
                <a:rect l="l" t="t" r="r" b="b"/>
                <a:pathLst>
                  <a:path w="110" h="126">
                    <a:moveTo>
                      <a:pt x="109" y="0"/>
                    </a:moveTo>
                    <a:lnTo>
                      <a:pt x="109" y="15"/>
                    </a:lnTo>
                    <a:lnTo>
                      <a:pt x="0" y="125"/>
                    </a:lnTo>
                    <a:lnTo>
                      <a:pt x="0" y="108"/>
                    </a:lnTo>
                    <a:lnTo>
                      <a:pt x="109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1157040" y="2597400"/>
                <a:ext cx="282600" cy="307800"/>
              </a:xfrm>
              <a:custGeom>
                <a:avLst/>
                <a:gdLst/>
                <a:ahLst/>
                <a:rect l="l" t="t" r="r" b="b"/>
                <a:pathLst>
                  <a:path w="178" h="194">
                    <a:moveTo>
                      <a:pt x="0" y="0"/>
                    </a:moveTo>
                    <a:lnTo>
                      <a:pt x="176" y="176"/>
                    </a:lnTo>
                    <a:lnTo>
                      <a:pt x="177" y="193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1195200" y="2716200"/>
                <a:ext cx="320760" cy="346320"/>
              </a:xfrm>
              <a:custGeom>
                <a:avLst/>
                <a:gdLst/>
                <a:ahLst/>
                <a:rect l="l" t="t" r="r" b="b"/>
                <a:pathLst>
                  <a:path w="202" h="218">
                    <a:moveTo>
                      <a:pt x="48" y="0"/>
                    </a:moveTo>
                    <a:lnTo>
                      <a:pt x="201" y="151"/>
                    </a:lnTo>
                    <a:lnTo>
                      <a:pt x="152" y="217"/>
                    </a:lnTo>
                    <a:lnTo>
                      <a:pt x="0" y="65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1195560" y="2957760"/>
                <a:ext cx="77760" cy="120600"/>
              </a:xfrm>
              <a:custGeom>
                <a:avLst/>
                <a:gdLst/>
                <a:ahLst/>
                <a:rect l="l" t="t" r="r" b="b"/>
                <a:pathLst>
                  <a:path w="49" h="76">
                    <a:moveTo>
                      <a:pt x="48" y="0"/>
                    </a:moveTo>
                    <a:lnTo>
                      <a:pt x="47" y="15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1271520" y="2819520"/>
                <a:ext cx="244800" cy="258840"/>
              </a:xfrm>
              <a:custGeom>
                <a:avLst/>
                <a:gdLst/>
                <a:ahLst/>
                <a:rect l="l" t="t" r="r" b="b"/>
                <a:pathLst>
                  <a:path w="154" h="163">
                    <a:moveTo>
                      <a:pt x="0" y="0"/>
                    </a:moveTo>
                    <a:lnTo>
                      <a:pt x="152" y="152"/>
                    </a:lnTo>
                    <a:lnTo>
                      <a:pt x="153" y="162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1022040" y="2338560"/>
                <a:ext cx="81000" cy="407880"/>
              </a:xfrm>
              <a:custGeom>
                <a:avLst/>
                <a:gdLst/>
                <a:ahLst/>
                <a:rect l="l" t="t" r="r" b="b"/>
                <a:pathLst>
                  <a:path w="51" h="257">
                    <a:moveTo>
                      <a:pt x="0" y="78"/>
                    </a:moveTo>
                    <a:lnTo>
                      <a:pt x="50" y="0"/>
                    </a:lnTo>
                    <a:lnTo>
                      <a:pt x="50" y="176"/>
                    </a:lnTo>
                    <a:lnTo>
                      <a:pt x="0" y="256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1073160" y="2487600"/>
                <a:ext cx="84240" cy="363600"/>
              </a:xfrm>
              <a:custGeom>
                <a:avLst/>
                <a:gdLst/>
                <a:ahLst/>
                <a:rect l="l" t="t" r="r" b="b"/>
                <a:pathLst>
                  <a:path w="53" h="229">
                    <a:moveTo>
                      <a:pt x="0" y="50"/>
                    </a:moveTo>
                    <a:lnTo>
                      <a:pt x="52" y="0"/>
                    </a:lnTo>
                    <a:lnTo>
                      <a:pt x="52" y="176"/>
                    </a:lnTo>
                    <a:lnTo>
                      <a:pt x="0" y="228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1022040" y="2157480"/>
                <a:ext cx="412920" cy="411120"/>
              </a:xfrm>
              <a:custGeom>
                <a:avLst/>
                <a:gdLst/>
                <a:ahLst/>
                <a:rect l="l" t="t" r="r" b="b"/>
                <a:pathLst>
                  <a:path w="260" h="259">
                    <a:moveTo>
                      <a:pt x="49" y="30"/>
                    </a:moveTo>
                    <a:lnTo>
                      <a:pt x="66" y="49"/>
                    </a:lnTo>
                    <a:lnTo>
                      <a:pt x="146" y="0"/>
                    </a:lnTo>
                    <a:lnTo>
                      <a:pt x="259" y="114"/>
                    </a:lnTo>
                    <a:lnTo>
                      <a:pt x="210" y="192"/>
                    </a:lnTo>
                    <a:lnTo>
                      <a:pt x="227" y="207"/>
                    </a:lnTo>
                    <a:lnTo>
                      <a:pt x="176" y="258"/>
                    </a:lnTo>
                    <a:lnTo>
                      <a:pt x="0" y="80"/>
                    </a:lnTo>
                    <a:lnTo>
                      <a:pt x="49" y="3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1236600" y="2762280"/>
                <a:ext cx="239760" cy="257400"/>
              </a:xfrm>
              <a:custGeom>
                <a:avLst/>
                <a:gdLst/>
                <a:ahLst/>
                <a:rect l="l" t="t" r="r" b="b"/>
                <a:pathLst>
                  <a:path w="151" h="162">
                    <a:moveTo>
                      <a:pt x="25" y="0"/>
                    </a:moveTo>
                    <a:lnTo>
                      <a:pt x="150" y="123"/>
                    </a:lnTo>
                    <a:lnTo>
                      <a:pt x="123" y="161"/>
                    </a:lnTo>
                    <a:lnTo>
                      <a:pt x="0" y="37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8" name=""/>
          <p:cNvSpPr/>
          <p:nvPr/>
        </p:nvSpPr>
        <p:spPr>
          <a:xfrm>
            <a:off x="4686480" y="3492360"/>
            <a:ext cx="3733560" cy="1752840"/>
          </a:xfrm>
          <a:prstGeom prst="ellipse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54480" y="3746520"/>
            <a:ext cx="1130400" cy="53352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54480" y="4483080"/>
            <a:ext cx="1130400" cy="53352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artH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21360" y="4089240"/>
            <a:ext cx="1130400" cy="53352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artB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5511960"/>
            <a:ext cx="1066680" cy="4572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32328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JND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05120" y="3886200"/>
            <a:ext cx="2666880" cy="1828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4114800"/>
            <a:ext cx="426708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rtHome cartHome =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avax.rmi.Portable RemoteObject.narrow(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itialContext.lookup(...), CartHome.class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4572000"/>
            <a:ext cx="32004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rt cart = cartHome.create(…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05120" y="4724280"/>
            <a:ext cx="2286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05120" y="3987720"/>
            <a:ext cx="2286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3200400"/>
            <a:ext cx="18288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rt.addItem(66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410080" y="3733920"/>
            <a:ext cx="68580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3200400"/>
            <a:ext cx="18288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rt.addItem(22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1120" y="3200400"/>
            <a:ext cx="18288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rt.purchas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3200400"/>
            <a:ext cx="18288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rt.remov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05120" y="4000680"/>
            <a:ext cx="2286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05120" y="4025880"/>
            <a:ext cx="2286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397480" y="3733920"/>
            <a:ext cx="69840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397480" y="3733920"/>
            <a:ext cx="69840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4038480"/>
            <a:ext cx="2286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397480" y="3733920"/>
            <a:ext cx="698400" cy="317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0" y="3809880"/>
            <a:ext cx="495360" cy="266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0" y="3809880"/>
            <a:ext cx="533520" cy="292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0" y="3809880"/>
            <a:ext cx="533520" cy="292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3809880"/>
            <a:ext cx="482760" cy="279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Entity Bean Type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393120" indent="-393120">
              <a:spcBef>
                <a:spcPts val="700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ean Managed Persiste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82280" indent="-29052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entity bean implementor is responsible for implementing persistence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82280" indent="-29052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bean provider writes the code to access the underlying database or application.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82280" indent="-29052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se calls are placed in the methods ejbCreate(), ejbFind(), ejbRemove(), ejbLoad() and ejbStore()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66720" y="15238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-420480">
              <a:spcBef>
                <a:spcPts val="700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ntainer Managed Persiste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36640" indent="-31068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container is responsible for implementing the persistence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36640" indent="-31068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container is responsible for generating the appropriate database access code and its execution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36640" indent="-31068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fields of the entity bean, which are managed by the container are specified in the deployment descriptor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20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 rot="16200000">
            <a:off x="4495680" y="1447200"/>
            <a:ext cx="3886200" cy="54100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c194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1e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JB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5880" y="5905440"/>
            <a:ext cx="762120" cy="152640"/>
          </a:xfrm>
          <a:prstGeom prst="ellipse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5880" y="5562720"/>
            <a:ext cx="762120" cy="45720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D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Narrow"/>
              </a:rPr>
              <a:t>Session Bean Interacting with Entity Bean</a:t>
            </a:r>
            <a:endParaRPr b="1" lang="en-US" sz="3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80" name=""/>
          <p:cNvSpPr/>
          <p:nvPr/>
        </p:nvSpPr>
        <p:spPr>
          <a:xfrm rot="16200000">
            <a:off x="5295960" y="1790280"/>
            <a:ext cx="2438280" cy="4800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c194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1e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JB Conta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79360" y="2133720"/>
            <a:ext cx="1673280" cy="4258440"/>
            <a:chOff x="279360" y="2133720"/>
            <a:chExt cx="1673280" cy="4258440"/>
          </a:xfrm>
        </p:grpSpPr>
        <p:sp>
          <p:nvSpPr>
            <p:cNvPr id="282" name=""/>
            <p:cNvSpPr/>
            <p:nvPr/>
          </p:nvSpPr>
          <p:spPr>
            <a:xfrm>
              <a:off x="381240" y="2133720"/>
              <a:ext cx="1476360" cy="42177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c194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1e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9360" y="5904000"/>
              <a:ext cx="167328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840" bIns="42840" anchor="t">
              <a:spAutoFit/>
            </a:bodyPr>
            <a:p>
              <a:pPr marL="312840" indent="-312840" algn="ctr">
                <a:lnSpc>
                  <a:spcPct val="120000"/>
                </a:lnSpc>
                <a:tabLst>
                  <a:tab algn="l" pos="0"/>
                  <a:tab algn="l" pos="758880"/>
                  <a:tab algn="l" pos="1517760"/>
                  <a:tab algn="l" pos="2276640"/>
                  <a:tab algn="l" pos="3035160"/>
                  <a:tab algn="l" pos="3794040"/>
                  <a:tab algn="l" pos="4552920"/>
                  <a:tab algn="l" pos="5311800"/>
                  <a:tab algn="l" pos="6070680"/>
                  <a:tab algn="l" pos="6829560"/>
                  <a:tab algn="l" pos="7588080"/>
                  <a:tab algn="l" pos="8346960"/>
                  <a:tab algn="l" pos="9105840"/>
                  <a:tab algn="l" pos="9864720"/>
                  <a:tab algn="l" pos="106236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 Narrow"/>
                </a:rPr>
                <a:t>Thin Cli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3520" y="3017880"/>
              <a:ext cx="1219320" cy="6764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Windows</a:t>
              </a:r>
              <a:br>
                <a:rPr sz="2200"/>
              </a:b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Cli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3520" y="3780000"/>
              <a:ext cx="1219320" cy="685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Java</a:t>
              </a:r>
              <a:br>
                <a:rPr sz="2200"/>
              </a:b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Cli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3520" y="4541760"/>
              <a:ext cx="1219320" cy="685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Browser</a:t>
              </a:r>
              <a:br>
                <a:rPr sz="2200"/>
              </a:b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Cli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3520" y="5303880"/>
              <a:ext cx="1219320" cy="685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Mobile</a:t>
              </a:r>
              <a:br>
                <a:rPr sz="2200"/>
              </a:b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Cli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914400" y="2157480"/>
              <a:ext cx="601920" cy="920880"/>
              <a:chOff x="914400" y="2157480"/>
              <a:chExt cx="601920" cy="920880"/>
            </a:xfrm>
          </p:grpSpPr>
          <p:sp>
            <p:nvSpPr>
              <p:cNvPr id="289" name=""/>
              <p:cNvSpPr/>
              <p:nvPr/>
            </p:nvSpPr>
            <p:spPr>
              <a:xfrm flipH="1">
                <a:off x="914040" y="2379960"/>
                <a:ext cx="567000" cy="566640"/>
              </a:xfrm>
              <a:custGeom>
                <a:avLst/>
                <a:gdLst/>
                <a:ahLst/>
                <a:rect l="l" t="t" r="r" b="b"/>
                <a:pathLst>
                  <a:path w="357" h="357">
                    <a:moveTo>
                      <a:pt x="147" y="0"/>
                    </a:moveTo>
                    <a:lnTo>
                      <a:pt x="356" y="207"/>
                    </a:lnTo>
                    <a:lnTo>
                      <a:pt x="208" y="356"/>
                    </a:lnTo>
                    <a:lnTo>
                      <a:pt x="0" y="148"/>
                    </a:lnTo>
                    <a:lnTo>
                      <a:pt x="147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914040" y="2706840"/>
                <a:ext cx="235080" cy="333360"/>
              </a:xfrm>
              <a:custGeom>
                <a:avLst/>
                <a:gdLst/>
                <a:ahLst/>
                <a:rect l="l" t="t" r="r" b="b"/>
                <a:pathLst>
                  <a:path w="148" h="210">
                    <a:moveTo>
                      <a:pt x="147" y="0"/>
                    </a:moveTo>
                    <a:lnTo>
                      <a:pt x="147" y="60"/>
                    </a:lnTo>
                    <a:lnTo>
                      <a:pt x="0" y="209"/>
                    </a:lnTo>
                    <a:lnTo>
                      <a:pt x="0" y="149"/>
                    </a:lnTo>
                    <a:lnTo>
                      <a:pt x="147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1147320" y="2614680"/>
                <a:ext cx="335160" cy="425520"/>
              </a:xfrm>
              <a:custGeom>
                <a:avLst/>
                <a:gdLst/>
                <a:ahLst/>
                <a:rect l="l" t="t" r="r" b="b"/>
                <a:pathLst>
                  <a:path w="211" h="268">
                    <a:moveTo>
                      <a:pt x="0" y="0"/>
                    </a:moveTo>
                    <a:lnTo>
                      <a:pt x="210" y="207"/>
                    </a:lnTo>
                    <a:lnTo>
                      <a:pt x="209" y="267"/>
                    </a:lnTo>
                    <a:lnTo>
                      <a:pt x="0" y="5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984240" y="2424240"/>
                <a:ext cx="455760" cy="455760"/>
              </a:xfrm>
              <a:custGeom>
                <a:avLst/>
                <a:gdLst/>
                <a:ahLst/>
                <a:rect l="l" t="t" r="r" b="b"/>
                <a:pathLst>
                  <a:path w="287" h="287">
                    <a:moveTo>
                      <a:pt x="109" y="0"/>
                    </a:moveTo>
                    <a:lnTo>
                      <a:pt x="286" y="177"/>
                    </a:lnTo>
                    <a:lnTo>
                      <a:pt x="176" y="286"/>
                    </a:lnTo>
                    <a:lnTo>
                      <a:pt x="0" y="108"/>
                    </a:lnTo>
                    <a:lnTo>
                      <a:pt x="109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1155960" y="2286000"/>
                <a:ext cx="279360" cy="561960"/>
              </a:xfrm>
              <a:custGeom>
                <a:avLst/>
                <a:gdLst/>
                <a:ahLst/>
                <a:rect l="l" t="t" r="r" b="b"/>
                <a:pathLst>
                  <a:path w="176" h="354">
                    <a:moveTo>
                      <a:pt x="0" y="0"/>
                    </a:moveTo>
                    <a:lnTo>
                      <a:pt x="175" y="177"/>
                    </a:lnTo>
                    <a:lnTo>
                      <a:pt x="175" y="353"/>
                    </a:lnTo>
                    <a:lnTo>
                      <a:pt x="0" y="1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1189080" y="2359080"/>
                <a:ext cx="208080" cy="390600"/>
              </a:xfrm>
              <a:custGeom>
                <a:avLst/>
                <a:gdLst/>
                <a:ahLst/>
                <a:rect l="l" t="t" r="r" b="b"/>
                <a:pathLst>
                  <a:path w="131" h="246">
                    <a:moveTo>
                      <a:pt x="0" y="0"/>
                    </a:moveTo>
                    <a:lnTo>
                      <a:pt x="130" y="130"/>
                    </a:lnTo>
                    <a:lnTo>
                      <a:pt x="130" y="245"/>
                    </a:lnTo>
                    <a:lnTo>
                      <a:pt x="0" y="11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3366ff"/>
                  </a:gs>
                  <a:gs pos="100000">
                    <a:srgbClr val="2346b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1379520" y="2341800"/>
                <a:ext cx="30240" cy="212760"/>
              </a:xfrm>
              <a:custGeom>
                <a:avLst/>
                <a:gdLst/>
                <a:ahLst/>
                <a:rect l="l" t="t" r="r" b="b"/>
                <a:pathLst>
                  <a:path w="19" h="134">
                    <a:moveTo>
                      <a:pt x="0" y="0"/>
                    </a:moveTo>
                    <a:lnTo>
                      <a:pt x="18" y="11"/>
                    </a:lnTo>
                    <a:lnTo>
                      <a:pt x="18" y="126"/>
                    </a:lnTo>
                    <a:lnTo>
                      <a:pt x="0" y="1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1188720" y="2544840"/>
                <a:ext cx="220680" cy="230400"/>
              </a:xfrm>
              <a:custGeom>
                <a:avLst/>
                <a:gdLst/>
                <a:ahLst/>
                <a:rect l="l" t="t" r="r" b="b"/>
                <a:pathLst>
                  <a:path w="139" h="145">
                    <a:moveTo>
                      <a:pt x="8" y="0"/>
                    </a:moveTo>
                    <a:lnTo>
                      <a:pt x="138" y="129"/>
                    </a:lnTo>
                    <a:lnTo>
                      <a:pt x="138" y="144"/>
                    </a:lnTo>
                    <a:lnTo>
                      <a:pt x="0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983880" y="2705400"/>
                <a:ext cx="174600" cy="199800"/>
              </a:xfrm>
              <a:custGeom>
                <a:avLst/>
                <a:gdLst/>
                <a:ahLst/>
                <a:rect l="l" t="t" r="r" b="b"/>
                <a:pathLst>
                  <a:path w="110" h="126">
                    <a:moveTo>
                      <a:pt x="109" y="0"/>
                    </a:moveTo>
                    <a:lnTo>
                      <a:pt x="109" y="15"/>
                    </a:lnTo>
                    <a:lnTo>
                      <a:pt x="0" y="125"/>
                    </a:lnTo>
                    <a:lnTo>
                      <a:pt x="0" y="108"/>
                    </a:lnTo>
                    <a:lnTo>
                      <a:pt x="109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1157040" y="2597400"/>
                <a:ext cx="282600" cy="307800"/>
              </a:xfrm>
              <a:custGeom>
                <a:avLst/>
                <a:gdLst/>
                <a:ahLst/>
                <a:rect l="l" t="t" r="r" b="b"/>
                <a:pathLst>
                  <a:path w="178" h="194">
                    <a:moveTo>
                      <a:pt x="0" y="0"/>
                    </a:moveTo>
                    <a:lnTo>
                      <a:pt x="176" y="176"/>
                    </a:lnTo>
                    <a:lnTo>
                      <a:pt x="177" y="193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1195200" y="2716200"/>
                <a:ext cx="320760" cy="346320"/>
              </a:xfrm>
              <a:custGeom>
                <a:avLst/>
                <a:gdLst/>
                <a:ahLst/>
                <a:rect l="l" t="t" r="r" b="b"/>
                <a:pathLst>
                  <a:path w="202" h="218">
                    <a:moveTo>
                      <a:pt x="48" y="0"/>
                    </a:moveTo>
                    <a:lnTo>
                      <a:pt x="201" y="151"/>
                    </a:lnTo>
                    <a:lnTo>
                      <a:pt x="152" y="217"/>
                    </a:lnTo>
                    <a:lnTo>
                      <a:pt x="0" y="65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1195560" y="2957760"/>
                <a:ext cx="77760" cy="120600"/>
              </a:xfrm>
              <a:custGeom>
                <a:avLst/>
                <a:gdLst/>
                <a:ahLst/>
                <a:rect l="l" t="t" r="r" b="b"/>
                <a:pathLst>
                  <a:path w="49" h="76">
                    <a:moveTo>
                      <a:pt x="48" y="0"/>
                    </a:moveTo>
                    <a:lnTo>
                      <a:pt x="47" y="15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1271520" y="2819520"/>
                <a:ext cx="244800" cy="258840"/>
              </a:xfrm>
              <a:custGeom>
                <a:avLst/>
                <a:gdLst/>
                <a:ahLst/>
                <a:rect l="l" t="t" r="r" b="b"/>
                <a:pathLst>
                  <a:path w="154" h="163">
                    <a:moveTo>
                      <a:pt x="0" y="0"/>
                    </a:moveTo>
                    <a:lnTo>
                      <a:pt x="152" y="152"/>
                    </a:lnTo>
                    <a:lnTo>
                      <a:pt x="153" y="162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1022040" y="2338560"/>
                <a:ext cx="81000" cy="407880"/>
              </a:xfrm>
              <a:custGeom>
                <a:avLst/>
                <a:gdLst/>
                <a:ahLst/>
                <a:rect l="l" t="t" r="r" b="b"/>
                <a:pathLst>
                  <a:path w="51" h="257">
                    <a:moveTo>
                      <a:pt x="0" y="78"/>
                    </a:moveTo>
                    <a:lnTo>
                      <a:pt x="50" y="0"/>
                    </a:lnTo>
                    <a:lnTo>
                      <a:pt x="50" y="176"/>
                    </a:lnTo>
                    <a:lnTo>
                      <a:pt x="0" y="256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1073160" y="2487600"/>
                <a:ext cx="84240" cy="363600"/>
              </a:xfrm>
              <a:custGeom>
                <a:avLst/>
                <a:gdLst/>
                <a:ahLst/>
                <a:rect l="l" t="t" r="r" b="b"/>
                <a:pathLst>
                  <a:path w="53" h="229">
                    <a:moveTo>
                      <a:pt x="0" y="50"/>
                    </a:moveTo>
                    <a:lnTo>
                      <a:pt x="52" y="0"/>
                    </a:lnTo>
                    <a:lnTo>
                      <a:pt x="52" y="176"/>
                    </a:lnTo>
                    <a:lnTo>
                      <a:pt x="0" y="228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1022040" y="2157480"/>
                <a:ext cx="412920" cy="411120"/>
              </a:xfrm>
              <a:custGeom>
                <a:avLst/>
                <a:gdLst/>
                <a:ahLst/>
                <a:rect l="l" t="t" r="r" b="b"/>
                <a:pathLst>
                  <a:path w="260" h="259">
                    <a:moveTo>
                      <a:pt x="49" y="30"/>
                    </a:moveTo>
                    <a:lnTo>
                      <a:pt x="66" y="49"/>
                    </a:lnTo>
                    <a:lnTo>
                      <a:pt x="146" y="0"/>
                    </a:lnTo>
                    <a:lnTo>
                      <a:pt x="259" y="114"/>
                    </a:lnTo>
                    <a:lnTo>
                      <a:pt x="210" y="192"/>
                    </a:lnTo>
                    <a:lnTo>
                      <a:pt x="227" y="207"/>
                    </a:lnTo>
                    <a:lnTo>
                      <a:pt x="176" y="258"/>
                    </a:lnTo>
                    <a:lnTo>
                      <a:pt x="0" y="80"/>
                    </a:lnTo>
                    <a:lnTo>
                      <a:pt x="49" y="3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1236600" y="2762280"/>
                <a:ext cx="239760" cy="257400"/>
              </a:xfrm>
              <a:custGeom>
                <a:avLst/>
                <a:gdLst/>
                <a:ahLst/>
                <a:rect l="l" t="t" r="r" b="b"/>
                <a:pathLst>
                  <a:path w="151" h="162">
                    <a:moveTo>
                      <a:pt x="25" y="0"/>
                    </a:moveTo>
                    <a:lnTo>
                      <a:pt x="150" y="123"/>
                    </a:lnTo>
                    <a:lnTo>
                      <a:pt x="123" y="161"/>
                    </a:lnTo>
                    <a:lnTo>
                      <a:pt x="0" y="37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6" name=""/>
          <p:cNvSpPr/>
          <p:nvPr/>
        </p:nvSpPr>
        <p:spPr>
          <a:xfrm>
            <a:off x="4241880" y="3492360"/>
            <a:ext cx="4572000" cy="1752840"/>
          </a:xfrm>
          <a:prstGeom prst="ellipse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3784680"/>
            <a:ext cx="1130040" cy="5331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18040" y="3797280"/>
            <a:ext cx="1130400" cy="53352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artB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5511960"/>
            <a:ext cx="1066680" cy="4572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32328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JND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24680" y="3797280"/>
            <a:ext cx="1130400" cy="53352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OrderH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948440" y="4419720"/>
            <a:ext cx="1130400" cy="5331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Or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18040" y="4457880"/>
            <a:ext cx="1130400" cy="5331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OrderB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5880" y="5486400"/>
            <a:ext cx="762120" cy="152280"/>
          </a:xfrm>
          <a:prstGeom prst="ellipse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67280" y="3505320"/>
            <a:ext cx="3276720" cy="30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rder.findByPrimaryKey(orderNo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05120" y="4038480"/>
            <a:ext cx="1981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05520" y="403848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99280" y="50292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6553080" y="50292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86600" y="40384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86600" y="4038480"/>
            <a:ext cx="83808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7086600" y="47242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388200" y="50166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642000" y="50292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38720" y="4982760"/>
            <a:ext cx="69876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43600" y="4191120"/>
            <a:ext cx="1066680" cy="30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jbLoad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67480" y="4419720"/>
            <a:ext cx="1371600" cy="30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laceOrder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61040" y="4089240"/>
            <a:ext cx="83844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7086600" y="481320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56400" y="4495680"/>
            <a:ext cx="158760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rderComplet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956200" y="4229280"/>
            <a:ext cx="1067040" cy="30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jbStor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105520" y="4114800"/>
            <a:ext cx="838080" cy="1371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Where does CORBA fit in?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The role of CORBA in EJB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693800" y="2923920"/>
            <a:ext cx="5925960" cy="116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e Enterprise Java Beans Architectu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will be compatible with CORB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07800" y="4572000"/>
            <a:ext cx="448416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- EJB 1.0 Specification Section 2.1 Overall Go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T Challenge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o help enterprises compete, to adapt quickly and effectivel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o streamline, accelerate development  and deployment proces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o keep business running once in produc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st effectivel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457200" y="1981080"/>
            <a:ext cx="8381880" cy="388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o ensure interoperability for multi-vendor environments, we define a standard mapping of the Enterprise JavaBean client’s view contract to CORBA.”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Narrow"/>
              </a:rPr>
              <a:t>The mapping to CORBA cov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 Narrow"/>
              </a:rPr>
              <a:t>1. Mapping of the EJB Client interfaces to CORBA I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 Narrow"/>
              </a:rPr>
              <a:t>2. Propagation of transaction 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 Narrow"/>
              </a:rPr>
              <a:t>3. Propagation of security 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EJB 1.0 Section 4.4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Standard CORBA Mapping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Results of the CORBA Mapping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n the wire interoperability between EJB Servers from multiple vendors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nables non-Java clients to access EJB’s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RBA Object Services allow security and transactions to be handled in a distributed vendor independent manner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IOP Puts the “E” in EJB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nification of RMI and CORBA:  RMI/IIO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JB can leverage the industry investment in CORB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JB can interoperate with existing deployed CORBA applicati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IOP proven scalabil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prise Application Server 4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From EJB to Application Serv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JB = Technolog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pplication Server = Solu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prise Application Server 4.0 will be based on EJB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RBA implementation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ools suppor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tegrated manageme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prise Application Serv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812880" y="3419640"/>
            <a:ext cx="7654320" cy="1002600"/>
            <a:chOff x="812880" y="3419640"/>
            <a:chExt cx="7654320" cy="1002600"/>
          </a:xfrm>
        </p:grpSpPr>
        <p:sp>
          <p:nvSpPr>
            <p:cNvPr id="347" name=""/>
            <p:cNvSpPr/>
            <p:nvPr/>
          </p:nvSpPr>
          <p:spPr>
            <a:xfrm>
              <a:off x="812880" y="3419640"/>
              <a:ext cx="7654320" cy="1002600"/>
            </a:xfrm>
            <a:prstGeom prst="rightArrow">
              <a:avLst>
                <a:gd name="adj1" fmla="val 81167"/>
                <a:gd name="adj2" fmla="val 54749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82720" y="3658680"/>
              <a:ext cx="174888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Develop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96840" y="3660480"/>
              <a:ext cx="147312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Integr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429080" y="3660480"/>
              <a:ext cx="161028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Deploy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171120" y="3660480"/>
              <a:ext cx="170784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Manag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612720" y="2166120"/>
            <a:ext cx="802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ed development-to-management enterprise-application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811080" y="4443480"/>
            <a:ext cx="2874960" cy="723960"/>
            <a:chOff x="811080" y="4443480"/>
            <a:chExt cx="2874960" cy="723960"/>
          </a:xfrm>
        </p:grpSpPr>
        <p:sp>
          <p:nvSpPr>
            <p:cNvPr id="354" name=""/>
            <p:cNvSpPr/>
            <p:nvPr/>
          </p:nvSpPr>
          <p:spPr>
            <a:xfrm>
              <a:off x="811080" y="4443480"/>
              <a:ext cx="2874960" cy="723960"/>
            </a:xfrm>
            <a:prstGeom prst="leftRightArrow">
              <a:avLst>
                <a:gd name="adj1" fmla="val 50000"/>
                <a:gd name="adj2" fmla="val 7905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70280" y="4567680"/>
              <a:ext cx="24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evelopment Too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3249720" y="4782960"/>
            <a:ext cx="2997000" cy="723600"/>
            <a:chOff x="3249720" y="4782960"/>
            <a:chExt cx="2997000" cy="723600"/>
          </a:xfrm>
        </p:grpSpPr>
        <p:sp>
          <p:nvSpPr>
            <p:cNvPr id="357" name=""/>
            <p:cNvSpPr/>
            <p:nvPr/>
          </p:nvSpPr>
          <p:spPr>
            <a:xfrm>
              <a:off x="3249720" y="4782960"/>
              <a:ext cx="2997000" cy="723600"/>
            </a:xfrm>
            <a:prstGeom prst="leftRightArrow">
              <a:avLst>
                <a:gd name="adj1" fmla="val 50000"/>
                <a:gd name="adj2" fmla="val 82452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56080" y="4915080"/>
              <a:ext cx="238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pplication Ser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816520" y="5122800"/>
            <a:ext cx="2274840" cy="723960"/>
            <a:chOff x="5816520" y="5122800"/>
            <a:chExt cx="2274840" cy="723960"/>
          </a:xfrm>
        </p:grpSpPr>
        <p:sp>
          <p:nvSpPr>
            <p:cNvPr id="360" name=""/>
            <p:cNvSpPr/>
            <p:nvPr/>
          </p:nvSpPr>
          <p:spPr>
            <a:xfrm>
              <a:off x="5816520" y="5122800"/>
              <a:ext cx="2274840" cy="723960"/>
            </a:xfrm>
            <a:prstGeom prst="leftRightArrow">
              <a:avLst>
                <a:gd name="adj1" fmla="val 59648"/>
                <a:gd name="adj2" fmla="val 77624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25840" y="5255280"/>
              <a:ext cx="14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ppCen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prise Application Server: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ritical Strength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3180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8840" indent="-4388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plete development-to-management solution supporting multiple clients, business servers, and database and legacy acces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73000" indent="-3243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orld-class development tools: breakthrough productivity for building transactional CORBA/EJB applicat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73000" indent="-3243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pen and extensible architecture through scalable CORBA/EJB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73000" indent="-3243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obust distributed-application-management tool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6413400" y="4546440"/>
            <a:ext cx="838440" cy="64800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4546440"/>
            <a:ext cx="838440" cy="64800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65360" y="4546440"/>
            <a:ext cx="838080" cy="64800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 Narrow"/>
              </a:rPr>
              <a:t>The IAS Architecture</a:t>
            </a:r>
            <a:endParaRPr b="1" lang="en-US" sz="4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68" name=""/>
          <p:cNvSpPr/>
          <p:nvPr/>
        </p:nvSpPr>
        <p:spPr>
          <a:xfrm>
            <a:off x="622440" y="4546440"/>
            <a:ext cx="838080" cy="64800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22440" y="3251160"/>
            <a:ext cx="6629400" cy="1295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prise Application 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3880" y="4775040"/>
            <a:ext cx="838440" cy="13082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HT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JS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ervl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54560" y="4762440"/>
            <a:ext cx="838080" cy="13082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EJ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ontai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72280" y="4762440"/>
            <a:ext cx="838080" cy="13082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OR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13400" y="2616120"/>
            <a:ext cx="83844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2616120"/>
            <a:ext cx="83844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65360" y="2616120"/>
            <a:ext cx="8380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22440" y="2616120"/>
            <a:ext cx="8380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574640" y="1892160"/>
            <a:ext cx="838440" cy="13082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es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t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1892160"/>
            <a:ext cx="838080" cy="13082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JTS/I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423040" y="1892160"/>
            <a:ext cx="838080" cy="13082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Visibrok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++ &a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Jav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Objec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251840" y="2616120"/>
            <a:ext cx="838080" cy="67320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26280" y="4356000"/>
            <a:ext cx="838080" cy="838440"/>
          </a:xfrm>
          <a:prstGeom prst="rect">
            <a:avLst/>
          </a:prstGeom>
          <a:gradFill rotWithShape="0">
            <a:gsLst>
              <a:gs pos="0">
                <a:srgbClr val="001a28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6195800">
            <a:off x="7588080" y="3244680"/>
            <a:ext cx="838080" cy="130788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95480" y="3428640"/>
            <a:ext cx="132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GUI &a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ons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Web Server Integration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tegrate EJB Container(s) and Web Server as services as part of Application Serv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82360" indent="-3276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bility to run all of the services as part of single process or distribute individual servic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82360" indent="-3276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JB Server can run with or without Web Serv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-443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rowser-based GUI to configure servic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-443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eb Serv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82360" indent="-3276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rvlet and JSP engin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4038480" y="3403440"/>
            <a:ext cx="1067040" cy="64800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JS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ervl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ompact Configuration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88" name=""/>
          <p:cNvSpPr/>
          <p:nvPr/>
        </p:nvSpPr>
        <p:spPr>
          <a:xfrm>
            <a:off x="4038480" y="2717640"/>
            <a:ext cx="1067040" cy="64800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HT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104840" y="1676520"/>
            <a:ext cx="1066680" cy="1294560"/>
            <a:chOff x="1104840" y="1676520"/>
            <a:chExt cx="1066680" cy="1294560"/>
          </a:xfrm>
        </p:grpSpPr>
        <p:sp>
          <p:nvSpPr>
            <p:cNvPr id="390" name=""/>
            <p:cNvSpPr/>
            <p:nvPr/>
          </p:nvSpPr>
          <p:spPr>
            <a:xfrm>
              <a:off x="1104840" y="1997280"/>
              <a:ext cx="1066680" cy="973800"/>
            </a:xfrm>
            <a:custGeom>
              <a:avLst/>
              <a:gdLst/>
              <a:ahLst/>
              <a:rect l="l" t="t" r="r" b="b"/>
              <a:pathLst>
                <a:path w="371" h="373">
                  <a:moveTo>
                    <a:pt x="370" y="248"/>
                  </a:moveTo>
                  <a:lnTo>
                    <a:pt x="368" y="260"/>
                  </a:lnTo>
                  <a:lnTo>
                    <a:pt x="365" y="273"/>
                  </a:lnTo>
                  <a:lnTo>
                    <a:pt x="361" y="284"/>
                  </a:lnTo>
                  <a:lnTo>
                    <a:pt x="354" y="296"/>
                  </a:lnTo>
                  <a:lnTo>
                    <a:pt x="347" y="307"/>
                  </a:lnTo>
                  <a:lnTo>
                    <a:pt x="337" y="317"/>
                  </a:lnTo>
                  <a:lnTo>
                    <a:pt x="326" y="327"/>
                  </a:lnTo>
                  <a:lnTo>
                    <a:pt x="315" y="335"/>
                  </a:lnTo>
                  <a:lnTo>
                    <a:pt x="302" y="342"/>
                  </a:lnTo>
                  <a:lnTo>
                    <a:pt x="288" y="349"/>
                  </a:lnTo>
                  <a:lnTo>
                    <a:pt x="272" y="356"/>
                  </a:lnTo>
                  <a:lnTo>
                    <a:pt x="255" y="360"/>
                  </a:lnTo>
                  <a:lnTo>
                    <a:pt x="240" y="365"/>
                  </a:lnTo>
                  <a:lnTo>
                    <a:pt x="221" y="369"/>
                  </a:lnTo>
                  <a:lnTo>
                    <a:pt x="203" y="370"/>
                  </a:lnTo>
                  <a:lnTo>
                    <a:pt x="185" y="372"/>
                  </a:lnTo>
                  <a:lnTo>
                    <a:pt x="165" y="370"/>
                  </a:lnTo>
                  <a:lnTo>
                    <a:pt x="147" y="369"/>
                  </a:lnTo>
                  <a:lnTo>
                    <a:pt x="128" y="365"/>
                  </a:lnTo>
                  <a:lnTo>
                    <a:pt x="111" y="360"/>
                  </a:lnTo>
                  <a:lnTo>
                    <a:pt x="96" y="356"/>
                  </a:lnTo>
                  <a:lnTo>
                    <a:pt x="80" y="349"/>
                  </a:lnTo>
                  <a:lnTo>
                    <a:pt x="66" y="342"/>
                  </a:lnTo>
                  <a:lnTo>
                    <a:pt x="54" y="335"/>
                  </a:lnTo>
                  <a:lnTo>
                    <a:pt x="41" y="327"/>
                  </a:lnTo>
                  <a:lnTo>
                    <a:pt x="31" y="317"/>
                  </a:lnTo>
                  <a:lnTo>
                    <a:pt x="21" y="307"/>
                  </a:lnTo>
                  <a:lnTo>
                    <a:pt x="14" y="296"/>
                  </a:lnTo>
                  <a:lnTo>
                    <a:pt x="7" y="284"/>
                  </a:lnTo>
                  <a:lnTo>
                    <a:pt x="3" y="273"/>
                  </a:lnTo>
                  <a:lnTo>
                    <a:pt x="0" y="260"/>
                  </a:lnTo>
                  <a:lnTo>
                    <a:pt x="0" y="248"/>
                  </a:lnTo>
                  <a:lnTo>
                    <a:pt x="0" y="0"/>
                  </a:lnTo>
                  <a:lnTo>
                    <a:pt x="370" y="0"/>
                  </a:lnTo>
                  <a:lnTo>
                    <a:pt x="370" y="248"/>
                  </a:lnTo>
                </a:path>
              </a:pathLst>
            </a:custGeom>
            <a:gradFill rotWithShape="0">
              <a:gsLst>
                <a:gs pos="0">
                  <a:srgbClr val="2c2c2c"/>
                </a:gs>
                <a:gs pos="50000">
                  <a:srgbClr val="dddddd"/>
                </a:gs>
                <a:gs pos="100000">
                  <a:srgbClr val="2c2c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04840" y="1676520"/>
              <a:ext cx="1066680" cy="644760"/>
            </a:xfrm>
            <a:custGeom>
              <a:avLst/>
              <a:gdLst/>
              <a:ahLst/>
              <a:rect l="l" t="t" r="r" b="b"/>
              <a:pathLst>
                <a:path w="371" h="247">
                  <a:moveTo>
                    <a:pt x="0" y="123"/>
                  </a:moveTo>
                  <a:lnTo>
                    <a:pt x="0" y="110"/>
                  </a:lnTo>
                  <a:lnTo>
                    <a:pt x="3" y="97"/>
                  </a:lnTo>
                  <a:lnTo>
                    <a:pt x="7" y="86"/>
                  </a:lnTo>
                  <a:lnTo>
                    <a:pt x="14" y="75"/>
                  </a:lnTo>
                  <a:lnTo>
                    <a:pt x="21" y="64"/>
                  </a:lnTo>
                  <a:lnTo>
                    <a:pt x="31" y="54"/>
                  </a:lnTo>
                  <a:lnTo>
                    <a:pt x="41" y="44"/>
                  </a:lnTo>
                  <a:lnTo>
                    <a:pt x="54" y="35"/>
                  </a:lnTo>
                  <a:lnTo>
                    <a:pt x="66" y="28"/>
                  </a:lnTo>
                  <a:lnTo>
                    <a:pt x="80" y="21"/>
                  </a:lnTo>
                  <a:lnTo>
                    <a:pt x="96" y="14"/>
                  </a:lnTo>
                  <a:lnTo>
                    <a:pt x="111" y="10"/>
                  </a:lnTo>
                  <a:lnTo>
                    <a:pt x="128" y="6"/>
                  </a:lnTo>
                  <a:lnTo>
                    <a:pt x="147" y="1"/>
                  </a:lnTo>
                  <a:lnTo>
                    <a:pt x="165" y="0"/>
                  </a:lnTo>
                  <a:lnTo>
                    <a:pt x="185" y="0"/>
                  </a:lnTo>
                  <a:lnTo>
                    <a:pt x="203" y="0"/>
                  </a:lnTo>
                  <a:lnTo>
                    <a:pt x="221" y="1"/>
                  </a:lnTo>
                  <a:lnTo>
                    <a:pt x="240" y="6"/>
                  </a:lnTo>
                  <a:lnTo>
                    <a:pt x="255" y="10"/>
                  </a:lnTo>
                  <a:lnTo>
                    <a:pt x="272" y="14"/>
                  </a:lnTo>
                  <a:lnTo>
                    <a:pt x="288" y="21"/>
                  </a:lnTo>
                  <a:lnTo>
                    <a:pt x="302" y="28"/>
                  </a:lnTo>
                  <a:lnTo>
                    <a:pt x="315" y="35"/>
                  </a:lnTo>
                  <a:lnTo>
                    <a:pt x="326" y="44"/>
                  </a:lnTo>
                  <a:lnTo>
                    <a:pt x="337" y="54"/>
                  </a:lnTo>
                  <a:lnTo>
                    <a:pt x="347" y="64"/>
                  </a:lnTo>
                  <a:lnTo>
                    <a:pt x="354" y="75"/>
                  </a:lnTo>
                  <a:lnTo>
                    <a:pt x="361" y="86"/>
                  </a:lnTo>
                  <a:lnTo>
                    <a:pt x="365" y="97"/>
                  </a:lnTo>
                  <a:lnTo>
                    <a:pt x="368" y="110"/>
                  </a:lnTo>
                  <a:lnTo>
                    <a:pt x="370" y="123"/>
                  </a:lnTo>
                  <a:lnTo>
                    <a:pt x="368" y="135"/>
                  </a:lnTo>
                  <a:lnTo>
                    <a:pt x="365" y="147"/>
                  </a:lnTo>
                  <a:lnTo>
                    <a:pt x="361" y="159"/>
                  </a:lnTo>
                  <a:lnTo>
                    <a:pt x="354" y="171"/>
                  </a:lnTo>
                  <a:lnTo>
                    <a:pt x="347" y="181"/>
                  </a:lnTo>
                  <a:lnTo>
                    <a:pt x="337" y="191"/>
                  </a:lnTo>
                  <a:lnTo>
                    <a:pt x="326" y="200"/>
                  </a:lnTo>
                  <a:lnTo>
                    <a:pt x="315" y="209"/>
                  </a:lnTo>
                  <a:lnTo>
                    <a:pt x="302" y="217"/>
                  </a:lnTo>
                  <a:lnTo>
                    <a:pt x="288" y="224"/>
                  </a:lnTo>
                  <a:lnTo>
                    <a:pt x="272" y="230"/>
                  </a:lnTo>
                  <a:lnTo>
                    <a:pt x="255" y="236"/>
                  </a:lnTo>
                  <a:lnTo>
                    <a:pt x="240" y="239"/>
                  </a:lnTo>
                  <a:lnTo>
                    <a:pt x="221" y="243"/>
                  </a:lnTo>
                  <a:lnTo>
                    <a:pt x="203" y="244"/>
                  </a:lnTo>
                  <a:lnTo>
                    <a:pt x="185" y="246"/>
                  </a:lnTo>
                  <a:lnTo>
                    <a:pt x="165" y="244"/>
                  </a:lnTo>
                  <a:lnTo>
                    <a:pt x="147" y="243"/>
                  </a:lnTo>
                  <a:lnTo>
                    <a:pt x="128" y="239"/>
                  </a:lnTo>
                  <a:lnTo>
                    <a:pt x="111" y="236"/>
                  </a:lnTo>
                  <a:lnTo>
                    <a:pt x="96" y="230"/>
                  </a:lnTo>
                  <a:lnTo>
                    <a:pt x="80" y="224"/>
                  </a:lnTo>
                  <a:lnTo>
                    <a:pt x="66" y="217"/>
                  </a:lnTo>
                  <a:lnTo>
                    <a:pt x="54" y="209"/>
                  </a:lnTo>
                  <a:lnTo>
                    <a:pt x="41" y="200"/>
                  </a:lnTo>
                  <a:lnTo>
                    <a:pt x="31" y="191"/>
                  </a:lnTo>
                  <a:lnTo>
                    <a:pt x="21" y="181"/>
                  </a:lnTo>
                  <a:lnTo>
                    <a:pt x="14" y="171"/>
                  </a:lnTo>
                  <a:lnTo>
                    <a:pt x="7" y="159"/>
                  </a:lnTo>
                  <a:lnTo>
                    <a:pt x="3" y="147"/>
                  </a:lnTo>
                  <a:lnTo>
                    <a:pt x="0" y="135"/>
                  </a:lnTo>
                  <a:lnTo>
                    <a:pt x="0" y="123"/>
                  </a:lnTo>
                </a:path>
              </a:pathLst>
            </a:custGeom>
            <a:gradFill rotWithShape="0">
              <a:gsLst>
                <a:gs pos="0">
                  <a:srgbClr val="2c2c2c"/>
                </a:gs>
                <a:gs pos="50000">
                  <a:srgbClr val="dddddd"/>
                </a:gs>
                <a:gs pos="100000">
                  <a:srgbClr val="2c2c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886200" y="5334120"/>
            <a:ext cx="1371600" cy="1371600"/>
            <a:chOff x="3886200" y="5334120"/>
            <a:chExt cx="1371600" cy="1371600"/>
          </a:xfrm>
        </p:grpSpPr>
        <p:sp>
          <p:nvSpPr>
            <p:cNvPr id="393" name=""/>
            <p:cNvSpPr/>
            <p:nvPr/>
          </p:nvSpPr>
          <p:spPr>
            <a:xfrm>
              <a:off x="3886200" y="5334120"/>
              <a:ext cx="1371600" cy="1371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52880" y="5334120"/>
              <a:ext cx="304920" cy="3049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62160" y="5486760"/>
              <a:ext cx="9144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62160" y="5867640"/>
              <a:ext cx="12193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4572000" y="40384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235400" y="453960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HT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57920" y="60188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133360" y="236232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051440" y="2019240"/>
            <a:ext cx="10666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EJ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J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67960" y="21837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JDB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T Requirement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eet the challenges by taking advantage of Web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ternet, Intranet, Extrane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ure, transactional access to multiple enterprise system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 reliable, high-performing mann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4152960" y="2959200"/>
            <a:ext cx="10666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JS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ervl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Enterprise Configuration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05" name=""/>
          <p:cNvSpPr/>
          <p:nvPr/>
        </p:nvSpPr>
        <p:spPr>
          <a:xfrm>
            <a:off x="4152960" y="2273400"/>
            <a:ext cx="10666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HT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93840" y="2286000"/>
            <a:ext cx="1066320" cy="1294560"/>
            <a:chOff x="393840" y="2286000"/>
            <a:chExt cx="1066320" cy="1294560"/>
          </a:xfrm>
        </p:grpSpPr>
        <p:sp>
          <p:nvSpPr>
            <p:cNvPr id="407" name=""/>
            <p:cNvSpPr/>
            <p:nvPr/>
          </p:nvSpPr>
          <p:spPr>
            <a:xfrm>
              <a:off x="393840" y="2606760"/>
              <a:ext cx="1066320" cy="973800"/>
            </a:xfrm>
            <a:custGeom>
              <a:avLst/>
              <a:gdLst/>
              <a:ahLst/>
              <a:rect l="l" t="t" r="r" b="b"/>
              <a:pathLst>
                <a:path w="371" h="373">
                  <a:moveTo>
                    <a:pt x="370" y="248"/>
                  </a:moveTo>
                  <a:lnTo>
                    <a:pt x="368" y="260"/>
                  </a:lnTo>
                  <a:lnTo>
                    <a:pt x="365" y="273"/>
                  </a:lnTo>
                  <a:lnTo>
                    <a:pt x="361" y="284"/>
                  </a:lnTo>
                  <a:lnTo>
                    <a:pt x="354" y="296"/>
                  </a:lnTo>
                  <a:lnTo>
                    <a:pt x="347" y="307"/>
                  </a:lnTo>
                  <a:lnTo>
                    <a:pt x="337" y="317"/>
                  </a:lnTo>
                  <a:lnTo>
                    <a:pt x="326" y="327"/>
                  </a:lnTo>
                  <a:lnTo>
                    <a:pt x="315" y="335"/>
                  </a:lnTo>
                  <a:lnTo>
                    <a:pt x="302" y="342"/>
                  </a:lnTo>
                  <a:lnTo>
                    <a:pt x="288" y="349"/>
                  </a:lnTo>
                  <a:lnTo>
                    <a:pt x="272" y="356"/>
                  </a:lnTo>
                  <a:lnTo>
                    <a:pt x="255" y="360"/>
                  </a:lnTo>
                  <a:lnTo>
                    <a:pt x="240" y="365"/>
                  </a:lnTo>
                  <a:lnTo>
                    <a:pt x="221" y="369"/>
                  </a:lnTo>
                  <a:lnTo>
                    <a:pt x="203" y="370"/>
                  </a:lnTo>
                  <a:lnTo>
                    <a:pt x="185" y="372"/>
                  </a:lnTo>
                  <a:lnTo>
                    <a:pt x="165" y="370"/>
                  </a:lnTo>
                  <a:lnTo>
                    <a:pt x="147" y="369"/>
                  </a:lnTo>
                  <a:lnTo>
                    <a:pt x="128" y="365"/>
                  </a:lnTo>
                  <a:lnTo>
                    <a:pt x="111" y="360"/>
                  </a:lnTo>
                  <a:lnTo>
                    <a:pt x="96" y="356"/>
                  </a:lnTo>
                  <a:lnTo>
                    <a:pt x="80" y="349"/>
                  </a:lnTo>
                  <a:lnTo>
                    <a:pt x="66" y="342"/>
                  </a:lnTo>
                  <a:lnTo>
                    <a:pt x="54" y="335"/>
                  </a:lnTo>
                  <a:lnTo>
                    <a:pt x="41" y="327"/>
                  </a:lnTo>
                  <a:lnTo>
                    <a:pt x="31" y="317"/>
                  </a:lnTo>
                  <a:lnTo>
                    <a:pt x="21" y="307"/>
                  </a:lnTo>
                  <a:lnTo>
                    <a:pt x="14" y="296"/>
                  </a:lnTo>
                  <a:lnTo>
                    <a:pt x="7" y="284"/>
                  </a:lnTo>
                  <a:lnTo>
                    <a:pt x="3" y="273"/>
                  </a:lnTo>
                  <a:lnTo>
                    <a:pt x="0" y="260"/>
                  </a:lnTo>
                  <a:lnTo>
                    <a:pt x="0" y="248"/>
                  </a:lnTo>
                  <a:lnTo>
                    <a:pt x="0" y="0"/>
                  </a:lnTo>
                  <a:lnTo>
                    <a:pt x="370" y="0"/>
                  </a:lnTo>
                  <a:lnTo>
                    <a:pt x="370" y="248"/>
                  </a:lnTo>
                </a:path>
              </a:pathLst>
            </a:custGeom>
            <a:gradFill rotWithShape="0">
              <a:gsLst>
                <a:gs pos="0">
                  <a:srgbClr val="2c2c2c"/>
                </a:gs>
                <a:gs pos="50000">
                  <a:srgbClr val="dddddd"/>
                </a:gs>
                <a:gs pos="100000">
                  <a:srgbClr val="2c2c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3840" y="2286000"/>
              <a:ext cx="1066320" cy="644760"/>
            </a:xfrm>
            <a:custGeom>
              <a:avLst/>
              <a:gdLst/>
              <a:ahLst/>
              <a:rect l="l" t="t" r="r" b="b"/>
              <a:pathLst>
                <a:path w="371" h="247">
                  <a:moveTo>
                    <a:pt x="0" y="123"/>
                  </a:moveTo>
                  <a:lnTo>
                    <a:pt x="0" y="110"/>
                  </a:lnTo>
                  <a:lnTo>
                    <a:pt x="3" y="97"/>
                  </a:lnTo>
                  <a:lnTo>
                    <a:pt x="7" y="86"/>
                  </a:lnTo>
                  <a:lnTo>
                    <a:pt x="14" y="75"/>
                  </a:lnTo>
                  <a:lnTo>
                    <a:pt x="21" y="64"/>
                  </a:lnTo>
                  <a:lnTo>
                    <a:pt x="31" y="54"/>
                  </a:lnTo>
                  <a:lnTo>
                    <a:pt x="41" y="44"/>
                  </a:lnTo>
                  <a:lnTo>
                    <a:pt x="54" y="35"/>
                  </a:lnTo>
                  <a:lnTo>
                    <a:pt x="66" y="28"/>
                  </a:lnTo>
                  <a:lnTo>
                    <a:pt x="80" y="21"/>
                  </a:lnTo>
                  <a:lnTo>
                    <a:pt x="96" y="14"/>
                  </a:lnTo>
                  <a:lnTo>
                    <a:pt x="111" y="10"/>
                  </a:lnTo>
                  <a:lnTo>
                    <a:pt x="128" y="6"/>
                  </a:lnTo>
                  <a:lnTo>
                    <a:pt x="147" y="1"/>
                  </a:lnTo>
                  <a:lnTo>
                    <a:pt x="165" y="0"/>
                  </a:lnTo>
                  <a:lnTo>
                    <a:pt x="185" y="0"/>
                  </a:lnTo>
                  <a:lnTo>
                    <a:pt x="203" y="0"/>
                  </a:lnTo>
                  <a:lnTo>
                    <a:pt x="221" y="1"/>
                  </a:lnTo>
                  <a:lnTo>
                    <a:pt x="240" y="6"/>
                  </a:lnTo>
                  <a:lnTo>
                    <a:pt x="255" y="10"/>
                  </a:lnTo>
                  <a:lnTo>
                    <a:pt x="272" y="14"/>
                  </a:lnTo>
                  <a:lnTo>
                    <a:pt x="288" y="21"/>
                  </a:lnTo>
                  <a:lnTo>
                    <a:pt x="302" y="28"/>
                  </a:lnTo>
                  <a:lnTo>
                    <a:pt x="315" y="35"/>
                  </a:lnTo>
                  <a:lnTo>
                    <a:pt x="326" y="44"/>
                  </a:lnTo>
                  <a:lnTo>
                    <a:pt x="337" y="54"/>
                  </a:lnTo>
                  <a:lnTo>
                    <a:pt x="347" y="64"/>
                  </a:lnTo>
                  <a:lnTo>
                    <a:pt x="354" y="75"/>
                  </a:lnTo>
                  <a:lnTo>
                    <a:pt x="361" y="86"/>
                  </a:lnTo>
                  <a:lnTo>
                    <a:pt x="365" y="97"/>
                  </a:lnTo>
                  <a:lnTo>
                    <a:pt x="368" y="110"/>
                  </a:lnTo>
                  <a:lnTo>
                    <a:pt x="370" y="123"/>
                  </a:lnTo>
                  <a:lnTo>
                    <a:pt x="368" y="135"/>
                  </a:lnTo>
                  <a:lnTo>
                    <a:pt x="365" y="147"/>
                  </a:lnTo>
                  <a:lnTo>
                    <a:pt x="361" y="159"/>
                  </a:lnTo>
                  <a:lnTo>
                    <a:pt x="354" y="171"/>
                  </a:lnTo>
                  <a:lnTo>
                    <a:pt x="347" y="181"/>
                  </a:lnTo>
                  <a:lnTo>
                    <a:pt x="337" y="191"/>
                  </a:lnTo>
                  <a:lnTo>
                    <a:pt x="326" y="200"/>
                  </a:lnTo>
                  <a:lnTo>
                    <a:pt x="315" y="209"/>
                  </a:lnTo>
                  <a:lnTo>
                    <a:pt x="302" y="217"/>
                  </a:lnTo>
                  <a:lnTo>
                    <a:pt x="288" y="224"/>
                  </a:lnTo>
                  <a:lnTo>
                    <a:pt x="272" y="230"/>
                  </a:lnTo>
                  <a:lnTo>
                    <a:pt x="255" y="236"/>
                  </a:lnTo>
                  <a:lnTo>
                    <a:pt x="240" y="239"/>
                  </a:lnTo>
                  <a:lnTo>
                    <a:pt x="221" y="243"/>
                  </a:lnTo>
                  <a:lnTo>
                    <a:pt x="203" y="244"/>
                  </a:lnTo>
                  <a:lnTo>
                    <a:pt x="185" y="246"/>
                  </a:lnTo>
                  <a:lnTo>
                    <a:pt x="165" y="244"/>
                  </a:lnTo>
                  <a:lnTo>
                    <a:pt x="147" y="243"/>
                  </a:lnTo>
                  <a:lnTo>
                    <a:pt x="128" y="239"/>
                  </a:lnTo>
                  <a:lnTo>
                    <a:pt x="111" y="236"/>
                  </a:lnTo>
                  <a:lnTo>
                    <a:pt x="96" y="230"/>
                  </a:lnTo>
                  <a:lnTo>
                    <a:pt x="80" y="224"/>
                  </a:lnTo>
                  <a:lnTo>
                    <a:pt x="66" y="217"/>
                  </a:lnTo>
                  <a:lnTo>
                    <a:pt x="54" y="209"/>
                  </a:lnTo>
                  <a:lnTo>
                    <a:pt x="41" y="200"/>
                  </a:lnTo>
                  <a:lnTo>
                    <a:pt x="31" y="191"/>
                  </a:lnTo>
                  <a:lnTo>
                    <a:pt x="21" y="181"/>
                  </a:lnTo>
                  <a:lnTo>
                    <a:pt x="14" y="171"/>
                  </a:lnTo>
                  <a:lnTo>
                    <a:pt x="7" y="159"/>
                  </a:lnTo>
                  <a:lnTo>
                    <a:pt x="3" y="147"/>
                  </a:lnTo>
                  <a:lnTo>
                    <a:pt x="0" y="135"/>
                  </a:lnTo>
                  <a:lnTo>
                    <a:pt x="0" y="123"/>
                  </a:lnTo>
                </a:path>
              </a:pathLst>
            </a:custGeom>
            <a:gradFill rotWithShape="0">
              <a:gsLst>
                <a:gs pos="0">
                  <a:srgbClr val="2c2c2c"/>
                </a:gs>
                <a:gs pos="50000">
                  <a:srgbClr val="dddddd"/>
                </a:gs>
                <a:gs pos="100000">
                  <a:srgbClr val="2c2c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6970320" y="370980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TTP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7696080" y="3162240"/>
            <a:ext cx="1371600" cy="1371600"/>
            <a:chOff x="7696080" y="3162240"/>
            <a:chExt cx="1371600" cy="1371600"/>
          </a:xfrm>
        </p:grpSpPr>
        <p:sp>
          <p:nvSpPr>
            <p:cNvPr id="411" name=""/>
            <p:cNvSpPr/>
            <p:nvPr/>
          </p:nvSpPr>
          <p:spPr>
            <a:xfrm>
              <a:off x="7696080" y="3162240"/>
              <a:ext cx="1371600" cy="1371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762760" y="3162240"/>
              <a:ext cx="304920" cy="3049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772040" y="3314880"/>
              <a:ext cx="9144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72040" y="3695760"/>
              <a:ext cx="12193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51680" y="380916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HTM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1067760" y="60951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JDB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54360" y="1816200"/>
            <a:ext cx="10666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EJ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54360" y="4216320"/>
            <a:ext cx="10666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EJ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355680" y="3962520"/>
            <a:ext cx="1066320" cy="1294560"/>
            <a:chOff x="355680" y="3962520"/>
            <a:chExt cx="1066320" cy="1294560"/>
          </a:xfrm>
        </p:grpSpPr>
        <p:sp>
          <p:nvSpPr>
            <p:cNvPr id="420" name=""/>
            <p:cNvSpPr/>
            <p:nvPr/>
          </p:nvSpPr>
          <p:spPr>
            <a:xfrm>
              <a:off x="355680" y="4283280"/>
              <a:ext cx="1066320" cy="973800"/>
            </a:xfrm>
            <a:custGeom>
              <a:avLst/>
              <a:gdLst/>
              <a:ahLst/>
              <a:rect l="l" t="t" r="r" b="b"/>
              <a:pathLst>
                <a:path w="371" h="373">
                  <a:moveTo>
                    <a:pt x="370" y="248"/>
                  </a:moveTo>
                  <a:lnTo>
                    <a:pt x="368" y="260"/>
                  </a:lnTo>
                  <a:lnTo>
                    <a:pt x="365" y="273"/>
                  </a:lnTo>
                  <a:lnTo>
                    <a:pt x="361" y="284"/>
                  </a:lnTo>
                  <a:lnTo>
                    <a:pt x="354" y="296"/>
                  </a:lnTo>
                  <a:lnTo>
                    <a:pt x="347" y="307"/>
                  </a:lnTo>
                  <a:lnTo>
                    <a:pt x="337" y="317"/>
                  </a:lnTo>
                  <a:lnTo>
                    <a:pt x="326" y="327"/>
                  </a:lnTo>
                  <a:lnTo>
                    <a:pt x="315" y="335"/>
                  </a:lnTo>
                  <a:lnTo>
                    <a:pt x="302" y="342"/>
                  </a:lnTo>
                  <a:lnTo>
                    <a:pt x="288" y="349"/>
                  </a:lnTo>
                  <a:lnTo>
                    <a:pt x="272" y="356"/>
                  </a:lnTo>
                  <a:lnTo>
                    <a:pt x="255" y="360"/>
                  </a:lnTo>
                  <a:lnTo>
                    <a:pt x="240" y="365"/>
                  </a:lnTo>
                  <a:lnTo>
                    <a:pt x="221" y="369"/>
                  </a:lnTo>
                  <a:lnTo>
                    <a:pt x="203" y="370"/>
                  </a:lnTo>
                  <a:lnTo>
                    <a:pt x="185" y="372"/>
                  </a:lnTo>
                  <a:lnTo>
                    <a:pt x="165" y="370"/>
                  </a:lnTo>
                  <a:lnTo>
                    <a:pt x="147" y="369"/>
                  </a:lnTo>
                  <a:lnTo>
                    <a:pt x="128" y="365"/>
                  </a:lnTo>
                  <a:lnTo>
                    <a:pt x="111" y="360"/>
                  </a:lnTo>
                  <a:lnTo>
                    <a:pt x="96" y="356"/>
                  </a:lnTo>
                  <a:lnTo>
                    <a:pt x="80" y="349"/>
                  </a:lnTo>
                  <a:lnTo>
                    <a:pt x="66" y="342"/>
                  </a:lnTo>
                  <a:lnTo>
                    <a:pt x="54" y="335"/>
                  </a:lnTo>
                  <a:lnTo>
                    <a:pt x="41" y="327"/>
                  </a:lnTo>
                  <a:lnTo>
                    <a:pt x="31" y="317"/>
                  </a:lnTo>
                  <a:lnTo>
                    <a:pt x="21" y="307"/>
                  </a:lnTo>
                  <a:lnTo>
                    <a:pt x="14" y="296"/>
                  </a:lnTo>
                  <a:lnTo>
                    <a:pt x="7" y="284"/>
                  </a:lnTo>
                  <a:lnTo>
                    <a:pt x="3" y="273"/>
                  </a:lnTo>
                  <a:lnTo>
                    <a:pt x="0" y="260"/>
                  </a:lnTo>
                  <a:lnTo>
                    <a:pt x="0" y="248"/>
                  </a:lnTo>
                  <a:lnTo>
                    <a:pt x="0" y="0"/>
                  </a:lnTo>
                  <a:lnTo>
                    <a:pt x="370" y="0"/>
                  </a:lnTo>
                  <a:lnTo>
                    <a:pt x="370" y="248"/>
                  </a:lnTo>
                </a:path>
              </a:pathLst>
            </a:custGeom>
            <a:gradFill rotWithShape="0">
              <a:gsLst>
                <a:gs pos="0">
                  <a:srgbClr val="2c2c2c"/>
                </a:gs>
                <a:gs pos="50000">
                  <a:srgbClr val="dddddd"/>
                </a:gs>
                <a:gs pos="100000">
                  <a:srgbClr val="2c2c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5680" y="3962520"/>
              <a:ext cx="1066320" cy="644760"/>
            </a:xfrm>
            <a:custGeom>
              <a:avLst/>
              <a:gdLst/>
              <a:ahLst/>
              <a:rect l="l" t="t" r="r" b="b"/>
              <a:pathLst>
                <a:path w="371" h="247">
                  <a:moveTo>
                    <a:pt x="0" y="123"/>
                  </a:moveTo>
                  <a:lnTo>
                    <a:pt x="0" y="110"/>
                  </a:lnTo>
                  <a:lnTo>
                    <a:pt x="3" y="97"/>
                  </a:lnTo>
                  <a:lnTo>
                    <a:pt x="7" y="86"/>
                  </a:lnTo>
                  <a:lnTo>
                    <a:pt x="14" y="75"/>
                  </a:lnTo>
                  <a:lnTo>
                    <a:pt x="21" y="64"/>
                  </a:lnTo>
                  <a:lnTo>
                    <a:pt x="31" y="54"/>
                  </a:lnTo>
                  <a:lnTo>
                    <a:pt x="41" y="44"/>
                  </a:lnTo>
                  <a:lnTo>
                    <a:pt x="54" y="35"/>
                  </a:lnTo>
                  <a:lnTo>
                    <a:pt x="66" y="28"/>
                  </a:lnTo>
                  <a:lnTo>
                    <a:pt x="80" y="21"/>
                  </a:lnTo>
                  <a:lnTo>
                    <a:pt x="96" y="14"/>
                  </a:lnTo>
                  <a:lnTo>
                    <a:pt x="111" y="10"/>
                  </a:lnTo>
                  <a:lnTo>
                    <a:pt x="128" y="6"/>
                  </a:lnTo>
                  <a:lnTo>
                    <a:pt x="147" y="1"/>
                  </a:lnTo>
                  <a:lnTo>
                    <a:pt x="165" y="0"/>
                  </a:lnTo>
                  <a:lnTo>
                    <a:pt x="185" y="0"/>
                  </a:lnTo>
                  <a:lnTo>
                    <a:pt x="203" y="0"/>
                  </a:lnTo>
                  <a:lnTo>
                    <a:pt x="221" y="1"/>
                  </a:lnTo>
                  <a:lnTo>
                    <a:pt x="240" y="6"/>
                  </a:lnTo>
                  <a:lnTo>
                    <a:pt x="255" y="10"/>
                  </a:lnTo>
                  <a:lnTo>
                    <a:pt x="272" y="14"/>
                  </a:lnTo>
                  <a:lnTo>
                    <a:pt x="288" y="21"/>
                  </a:lnTo>
                  <a:lnTo>
                    <a:pt x="302" y="28"/>
                  </a:lnTo>
                  <a:lnTo>
                    <a:pt x="315" y="35"/>
                  </a:lnTo>
                  <a:lnTo>
                    <a:pt x="326" y="44"/>
                  </a:lnTo>
                  <a:lnTo>
                    <a:pt x="337" y="54"/>
                  </a:lnTo>
                  <a:lnTo>
                    <a:pt x="347" y="64"/>
                  </a:lnTo>
                  <a:lnTo>
                    <a:pt x="354" y="75"/>
                  </a:lnTo>
                  <a:lnTo>
                    <a:pt x="361" y="86"/>
                  </a:lnTo>
                  <a:lnTo>
                    <a:pt x="365" y="97"/>
                  </a:lnTo>
                  <a:lnTo>
                    <a:pt x="368" y="110"/>
                  </a:lnTo>
                  <a:lnTo>
                    <a:pt x="370" y="123"/>
                  </a:lnTo>
                  <a:lnTo>
                    <a:pt x="368" y="135"/>
                  </a:lnTo>
                  <a:lnTo>
                    <a:pt x="365" y="147"/>
                  </a:lnTo>
                  <a:lnTo>
                    <a:pt x="361" y="159"/>
                  </a:lnTo>
                  <a:lnTo>
                    <a:pt x="354" y="171"/>
                  </a:lnTo>
                  <a:lnTo>
                    <a:pt x="347" y="181"/>
                  </a:lnTo>
                  <a:lnTo>
                    <a:pt x="337" y="191"/>
                  </a:lnTo>
                  <a:lnTo>
                    <a:pt x="326" y="200"/>
                  </a:lnTo>
                  <a:lnTo>
                    <a:pt x="315" y="209"/>
                  </a:lnTo>
                  <a:lnTo>
                    <a:pt x="302" y="217"/>
                  </a:lnTo>
                  <a:lnTo>
                    <a:pt x="288" y="224"/>
                  </a:lnTo>
                  <a:lnTo>
                    <a:pt x="272" y="230"/>
                  </a:lnTo>
                  <a:lnTo>
                    <a:pt x="255" y="236"/>
                  </a:lnTo>
                  <a:lnTo>
                    <a:pt x="240" y="239"/>
                  </a:lnTo>
                  <a:lnTo>
                    <a:pt x="221" y="243"/>
                  </a:lnTo>
                  <a:lnTo>
                    <a:pt x="203" y="244"/>
                  </a:lnTo>
                  <a:lnTo>
                    <a:pt x="185" y="246"/>
                  </a:lnTo>
                  <a:lnTo>
                    <a:pt x="165" y="244"/>
                  </a:lnTo>
                  <a:lnTo>
                    <a:pt x="147" y="243"/>
                  </a:lnTo>
                  <a:lnTo>
                    <a:pt x="128" y="239"/>
                  </a:lnTo>
                  <a:lnTo>
                    <a:pt x="111" y="236"/>
                  </a:lnTo>
                  <a:lnTo>
                    <a:pt x="96" y="230"/>
                  </a:lnTo>
                  <a:lnTo>
                    <a:pt x="80" y="224"/>
                  </a:lnTo>
                  <a:lnTo>
                    <a:pt x="66" y="217"/>
                  </a:lnTo>
                  <a:lnTo>
                    <a:pt x="54" y="209"/>
                  </a:lnTo>
                  <a:lnTo>
                    <a:pt x="41" y="200"/>
                  </a:lnTo>
                  <a:lnTo>
                    <a:pt x="31" y="191"/>
                  </a:lnTo>
                  <a:lnTo>
                    <a:pt x="21" y="181"/>
                  </a:lnTo>
                  <a:lnTo>
                    <a:pt x="14" y="171"/>
                  </a:lnTo>
                  <a:lnTo>
                    <a:pt x="7" y="159"/>
                  </a:lnTo>
                  <a:lnTo>
                    <a:pt x="3" y="147"/>
                  </a:lnTo>
                  <a:lnTo>
                    <a:pt x="0" y="135"/>
                  </a:lnTo>
                  <a:lnTo>
                    <a:pt x="0" y="123"/>
                  </a:lnTo>
                </a:path>
              </a:pathLst>
            </a:custGeom>
            <a:gradFill rotWithShape="0">
              <a:gsLst>
                <a:gs pos="0">
                  <a:srgbClr val="2c2c2c"/>
                </a:gs>
                <a:gs pos="50000">
                  <a:srgbClr val="dddddd"/>
                </a:gs>
                <a:gs pos="100000">
                  <a:srgbClr val="2c2c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5486400" y="3505320"/>
            <a:ext cx="800280" cy="83808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Rou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324480" y="38862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140360" y="5118120"/>
            <a:ext cx="10666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JS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ervl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140360" y="4432320"/>
            <a:ext cx="10666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HT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54360" y="2971800"/>
            <a:ext cx="10666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EJ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54360" y="5448240"/>
            <a:ext cx="10666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EJ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05720" y="1828800"/>
            <a:ext cx="228600" cy="4343400"/>
          </a:xfrm>
          <a:custGeom>
            <a:avLst/>
            <a:gdLst>
              <a:gd name="textAreaLeft" fmla="*/ 26640 w 228600"/>
              <a:gd name="textAreaRight" fmla="*/ 201960 w 228600"/>
              <a:gd name="textAreaTop" fmla="*/ 26640 h 4343400"/>
              <a:gd name="textAreaBottom" fmla="*/ 4316760 h 4343400"/>
            </a:gdLst>
            <a:ahLst/>
            <a:rect l="textAreaLeft" t="textAreaTop" r="textAreaRight" b="textAreaBottom"/>
            <a:pathLst>
              <a:path w="21600" h="409789">
                <a:moveTo>
                  <a:pt x="3600" y="0"/>
                </a:moveTo>
                <a:arcTo wR="3600" hR="3600" stAng="0" swAng="5400000"/>
                <a:lnTo>
                  <a:pt x="0" y="406189"/>
                </a:lnTo>
                <a:arcTo wR="3600" hR="3600" stAng="16200000" swAng="5400000"/>
                <a:lnTo>
                  <a:pt x="18000" y="409789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5334120" y="2895480"/>
            <a:ext cx="38088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5257800" y="4267080"/>
            <a:ext cx="4572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5067000" y="4660200"/>
            <a:ext cx="266760" cy="3238560"/>
          </a:xfrm>
          <a:custGeom>
            <a:avLst/>
            <a:gdLst>
              <a:gd name="textAreaLeft" fmla="*/ 170640 w 266760"/>
              <a:gd name="textAreaRight" fmla="*/ 266760 w 266760"/>
              <a:gd name="textAreaTop" fmla="*/ 101160 h 3238560"/>
              <a:gd name="textAreaBottom" fmla="*/ 3137400 h 323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80"/>
                  <a:pt x="10800" y="2160"/>
                </a:cubicBezTo>
                <a:lnTo>
                  <a:pt x="10800" y="8325"/>
                </a:lnTo>
                <a:cubicBezTo>
                  <a:pt x="10800" y="9405"/>
                  <a:pt x="5400" y="10485"/>
                  <a:pt x="0" y="10485"/>
                </a:cubicBezTo>
                <a:cubicBezTo>
                  <a:pt x="5400" y="10485"/>
                  <a:pt x="10800" y="11565"/>
                  <a:pt x="10800" y="12645"/>
                </a:cubicBezTo>
                <a:lnTo>
                  <a:pt x="10800" y="19440"/>
                </a:lnTo>
                <a:cubicBezTo>
                  <a:pt x="10800" y="2052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81880" y="636156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M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3047760" y="2133360"/>
            <a:ext cx="114300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3047760" y="3200400"/>
            <a:ext cx="11430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 flipV="1">
            <a:off x="3047760" y="4495680"/>
            <a:ext cx="106668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3047760" y="5410080"/>
            <a:ext cx="10666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1447920" y="2209680"/>
            <a:ext cx="38088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1447920" y="2971440"/>
            <a:ext cx="3808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1447920" y="3200400"/>
            <a:ext cx="38088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1447920" y="3276360"/>
            <a:ext cx="38088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914400" y="3581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79760" y="1828800"/>
            <a:ext cx="228600" cy="4343400"/>
          </a:xfrm>
          <a:custGeom>
            <a:avLst/>
            <a:gdLst>
              <a:gd name="textAreaLeft" fmla="*/ 26640 w 228600"/>
              <a:gd name="textAreaRight" fmla="*/ 201960 w 228600"/>
              <a:gd name="textAreaTop" fmla="*/ 26640 h 4343400"/>
              <a:gd name="textAreaBottom" fmla="*/ 4316760 h 4343400"/>
            </a:gdLst>
            <a:ahLst/>
            <a:rect l="textAreaLeft" t="textAreaTop" r="textAreaRight" b="textAreaBottom"/>
            <a:pathLst>
              <a:path w="21600" h="409789">
                <a:moveTo>
                  <a:pt x="3600" y="0"/>
                </a:moveTo>
                <a:arcTo wR="3600" hR="3600" stAng="0" swAng="5400000"/>
                <a:lnTo>
                  <a:pt x="0" y="406189"/>
                </a:lnTo>
                <a:arcTo wR="3600" hR="3600" stAng="16200000" swAng="5400000"/>
                <a:lnTo>
                  <a:pt x="18000" y="409789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The Inprise EJB Contain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full EJB 1.1 implementation with support fo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tateless and Stateful Session Bea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ean and Container Managed Entity Bea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mplemented over VisiBrok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is provides a high-performance robust EJB infrastructu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ull support for Java 2 Enterprise Edi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 Narrow"/>
              </a:rPr>
              <a:t>J2EE Requirements</a:t>
            </a:r>
            <a:endParaRPr b="1" lang="en-US" sz="4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46" name=""/>
          <p:cNvSpPr/>
          <p:nvPr/>
        </p:nvSpPr>
        <p:spPr>
          <a:xfrm>
            <a:off x="2666880" y="2057400"/>
            <a:ext cx="3505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RMI/II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666880" y="2743200"/>
            <a:ext cx="3505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EJB 1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666880" y="3429000"/>
            <a:ext cx="3505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rvl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666880" y="4114800"/>
            <a:ext cx="3505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JS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666880" y="4800600"/>
            <a:ext cx="3505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JN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666880" y="5486400"/>
            <a:ext cx="3505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JTS/J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666880" y="6172200"/>
            <a:ext cx="3505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J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prise EJB Architectur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54" name=""/>
          <p:cNvSpPr/>
          <p:nvPr/>
        </p:nvSpPr>
        <p:spPr>
          <a:xfrm>
            <a:off x="7067520" y="3352680"/>
            <a:ext cx="2076480" cy="163224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19520" y="3124080"/>
            <a:ext cx="3524040" cy="3029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57480" y="190512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00423b"/>
              </a:gs>
              <a:gs pos="50000">
                <a:srgbClr val="009082"/>
              </a:gs>
              <a:gs pos="100000">
                <a:srgbClr val="00423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56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B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05000" y="4724280"/>
            <a:ext cx="1314720" cy="1276560"/>
          </a:xfrm>
          <a:prstGeom prst="ellipse">
            <a:avLst/>
          </a:prstGeom>
          <a:gradFill rotWithShape="0">
            <a:gsLst>
              <a:gs pos="0">
                <a:srgbClr val="00423b"/>
              </a:gs>
              <a:gs pos="50000">
                <a:srgbClr val="009082"/>
              </a:gs>
              <a:gs pos="100000">
                <a:srgbClr val="00423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56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t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629240" y="4705200"/>
            <a:ext cx="1371600" cy="1295640"/>
          </a:xfrm>
          <a:prstGeom prst="ellipse">
            <a:avLst/>
          </a:prstGeom>
          <a:gradFill rotWithShape="0">
            <a:gsLst>
              <a:gs pos="0">
                <a:srgbClr val="00423b"/>
              </a:gs>
              <a:gs pos="50000">
                <a:srgbClr val="009082"/>
              </a:gs>
              <a:gs pos="100000">
                <a:srgbClr val="00423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56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J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2 Pha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m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629240" y="3257640"/>
            <a:ext cx="1333440" cy="1295280"/>
          </a:xfrm>
          <a:prstGeom prst="ellipse">
            <a:avLst/>
          </a:prstGeom>
          <a:gradFill rotWithShape="0">
            <a:gsLst>
              <a:gs pos="0">
                <a:srgbClr val="00423b"/>
              </a:gs>
              <a:gs pos="50000">
                <a:srgbClr val="009082"/>
              </a:gs>
              <a:gs pos="100000">
                <a:srgbClr val="00423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56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JN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a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05000" y="3257640"/>
            <a:ext cx="1314720" cy="1305000"/>
          </a:xfrm>
          <a:prstGeom prst="ellipse">
            <a:avLst/>
          </a:prstGeom>
          <a:gradFill rotWithShape="0">
            <a:gsLst>
              <a:gs pos="0">
                <a:srgbClr val="00423b"/>
              </a:gs>
              <a:gs pos="50000">
                <a:srgbClr val="009082"/>
              </a:gs>
              <a:gs pos="100000">
                <a:srgbClr val="00423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56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J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ntai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219320" y="373392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00423b"/>
              </a:gs>
              <a:gs pos="50000">
                <a:srgbClr val="009082"/>
              </a:gs>
              <a:gs pos="100000">
                <a:srgbClr val="00423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56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nt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B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657600" y="3390840"/>
            <a:ext cx="228600" cy="228600"/>
          </a:xfrm>
          <a:prstGeom prst="ellipse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57600" y="4172040"/>
            <a:ext cx="228600" cy="228600"/>
          </a:xfrm>
          <a:prstGeom prst="ellipse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2362320" y="2666520"/>
            <a:ext cx="1295280" cy="762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2362320" y="4267080"/>
            <a:ext cx="1295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19320" y="5372280"/>
            <a:ext cx="1218960" cy="1218960"/>
          </a:xfrm>
          <a:prstGeom prst="flowChartMagneticDisk">
            <a:avLst/>
          </a:prstGeom>
          <a:gradFill rotWithShape="0">
            <a:gsLst>
              <a:gs pos="0">
                <a:srgbClr val="00423b"/>
              </a:gs>
              <a:gs pos="50000">
                <a:srgbClr val="009082"/>
              </a:gs>
              <a:gs pos="100000">
                <a:srgbClr val="00423b"/>
              </a:gs>
            </a:gsLst>
            <a:lin ang="5400000"/>
          </a:gradFill>
          <a:ln w="9360">
            <a:solidFill>
              <a:srgbClr val="ffff99"/>
            </a:solidFill>
            <a:miter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ata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28800" y="4800600"/>
            <a:ext cx="0" cy="762120"/>
          </a:xfrm>
          <a:prstGeom prst="line">
            <a:avLst/>
          </a:prstGeom>
          <a:ln w="284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19400" y="2311560"/>
            <a:ext cx="1143000" cy="7617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423b"/>
              </a:gs>
              <a:gs pos="50000">
                <a:srgbClr val="009082"/>
              </a:gs>
              <a:gs pos="100000">
                <a:srgbClr val="0042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RMI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II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943600" y="3124080"/>
            <a:ext cx="2475360" cy="770040"/>
            <a:chOff x="5943600" y="3124080"/>
            <a:chExt cx="2475360" cy="770040"/>
          </a:xfrm>
        </p:grpSpPr>
        <p:sp>
          <p:nvSpPr>
            <p:cNvPr id="470" name=""/>
            <p:cNvSpPr/>
            <p:nvPr/>
          </p:nvSpPr>
          <p:spPr>
            <a:xfrm>
              <a:off x="7194600" y="3124080"/>
              <a:ext cx="1224360" cy="641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CosNam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LDA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5943600" y="3436920"/>
              <a:ext cx="1295280" cy="4572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6019560" y="4865760"/>
            <a:ext cx="2716920" cy="915480"/>
            <a:chOff x="6019560" y="4865760"/>
            <a:chExt cx="2716920" cy="915480"/>
          </a:xfrm>
        </p:grpSpPr>
        <p:sp>
          <p:nvSpPr>
            <p:cNvPr id="473" name=""/>
            <p:cNvSpPr/>
            <p:nvPr/>
          </p:nvSpPr>
          <p:spPr>
            <a:xfrm>
              <a:off x="7035120" y="4865760"/>
              <a:ext cx="1701360" cy="91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CosTransactio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Distribu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2 Phase Comm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6019560" y="5334120"/>
              <a:ext cx="990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876920" y="1262160"/>
            <a:ext cx="3842640" cy="1404720"/>
            <a:chOff x="4876920" y="1262160"/>
            <a:chExt cx="3842640" cy="1404720"/>
          </a:xfrm>
        </p:grpSpPr>
        <p:sp>
          <p:nvSpPr>
            <p:cNvPr id="476" name=""/>
            <p:cNvSpPr/>
            <p:nvPr/>
          </p:nvSpPr>
          <p:spPr>
            <a:xfrm>
              <a:off x="7007400" y="1262160"/>
              <a:ext cx="1712160" cy="641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CORBA 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Objects By 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4876920" y="1752480"/>
              <a:ext cx="2133360" cy="9144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5028840" y="2057400"/>
            <a:ext cx="3600360" cy="833400"/>
            <a:chOff x="5028840" y="2057400"/>
            <a:chExt cx="3600360" cy="833400"/>
          </a:xfrm>
        </p:grpSpPr>
        <p:sp>
          <p:nvSpPr>
            <p:cNvPr id="479" name=""/>
            <p:cNvSpPr/>
            <p:nvPr/>
          </p:nvSpPr>
          <p:spPr>
            <a:xfrm flipH="1">
              <a:off x="5028840" y="2433600"/>
              <a:ext cx="2057400" cy="4572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072560" y="2057400"/>
              <a:ext cx="1556640" cy="641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IIOP/SS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Access Contro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4114440" y="5943600"/>
            <a:ext cx="3358800" cy="671760"/>
            <a:chOff x="4114440" y="5943600"/>
            <a:chExt cx="3358800" cy="671760"/>
          </a:xfrm>
        </p:grpSpPr>
        <p:sp>
          <p:nvSpPr>
            <p:cNvPr id="482" name=""/>
            <p:cNvSpPr/>
            <p:nvPr/>
          </p:nvSpPr>
          <p:spPr>
            <a:xfrm flipH="1" flipV="1">
              <a:off x="4114440" y="5943600"/>
              <a:ext cx="762120" cy="3808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82160" y="6248520"/>
              <a:ext cx="2791080" cy="36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Based on all Java JDataSt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3124080" y="1752480"/>
            <a:ext cx="2895840" cy="4953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Language Independent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AppServer - EJB Requirement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JB Container based on VisiBroker 4.0, IT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Builder Support for building EJB componen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ools support to construct HTML client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ight Web Server Integr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rvlets, JSP, EJB Serv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ppCenter and Console Suppor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eploy and manage EJB servers + servic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Open and Extensible Architectur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50880" y="161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RBA infrastructure based on VisiBroker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xisting EJB/CORBA applications can use CORBA Services 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upport for heterogeneous environm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calability and Performanc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stributed Environ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Scalability and Performanc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ptimized thread manag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read pool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ptimized connection manag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ultiplexing of TCP connect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oad balanc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uster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plicated serv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atabase connection pool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Entity Bean Transaction Managemen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-420480">
              <a:lnSpc>
                <a:spcPct val="13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signed to handle distributed transacti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0480" indent="-420480">
              <a:lnSpc>
                <a:spcPct val="13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upports ACID properti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0480" indent="-420480">
              <a:lnSpc>
                <a:spcPct val="13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upports Distributed 2 Phase Commi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0480" indent="-420480">
              <a:lnSpc>
                <a:spcPct val="13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DBC Connection Pool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0480" indent="-420480">
              <a:lnSpc>
                <a:spcPct val="13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xtremely Scalable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Distributed Environmen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aming servic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JNDI interface, LDAP, Cluster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4478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stributed environment across serv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ransactions can be distribut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an partition any number of beans in any number of containers on any number of machin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plicated servers/Fault toler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oad balanc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4013280" y="4876920"/>
            <a:ext cx="279360" cy="380880"/>
          </a:xfrm>
          <a:prstGeom prst="rect">
            <a:avLst/>
          </a:prstGeom>
          <a:gradFill rotWithShape="0">
            <a:gsLst>
              <a:gs pos="0">
                <a:srgbClr val="000050"/>
              </a:gs>
              <a:gs pos="50000">
                <a:srgbClr val="000066"/>
              </a:gs>
              <a:gs pos="100000">
                <a:srgbClr val="0000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394160" y="5041800"/>
            <a:ext cx="609480" cy="749520"/>
          </a:xfrm>
          <a:prstGeom prst="rect">
            <a:avLst/>
          </a:prstGeom>
          <a:gradFill rotWithShape="0">
            <a:gsLst>
              <a:gs pos="0">
                <a:srgbClr val="00423b"/>
              </a:gs>
              <a:gs pos="100000">
                <a:srgbClr val="009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81480" y="4863960"/>
            <a:ext cx="228600" cy="381240"/>
          </a:xfrm>
          <a:prstGeom prst="rect">
            <a:avLst/>
          </a:prstGeom>
          <a:gradFill rotWithShape="0">
            <a:gsLst>
              <a:gs pos="0">
                <a:srgbClr val="000050"/>
              </a:gs>
              <a:gs pos="50000">
                <a:srgbClr val="000066"/>
              </a:gs>
              <a:gs pos="100000">
                <a:srgbClr val="0000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895480" y="4851360"/>
            <a:ext cx="228600" cy="380880"/>
          </a:xfrm>
          <a:prstGeom prst="rect">
            <a:avLst/>
          </a:prstGeom>
          <a:gradFill rotWithShape="0">
            <a:gsLst>
              <a:gs pos="0">
                <a:srgbClr val="000050"/>
              </a:gs>
              <a:gs pos="50000">
                <a:srgbClr val="000066"/>
              </a:gs>
              <a:gs pos="100000">
                <a:srgbClr val="0000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prise JNDI Implementation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2133720"/>
            <a:ext cx="3505320" cy="380880"/>
          </a:xfrm>
          <a:prstGeom prst="rect">
            <a:avLst/>
          </a:prstGeom>
          <a:gradFill rotWithShape="0">
            <a:gsLst>
              <a:gs pos="0">
                <a:srgbClr val="46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Java 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251160"/>
            <a:ext cx="3505320" cy="406440"/>
          </a:xfrm>
          <a:prstGeom prst="rect">
            <a:avLst/>
          </a:prstGeom>
          <a:gradFill rotWithShape="0">
            <a:gsLst>
              <a:gs pos="0">
                <a:srgbClr val="42428d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JNDI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95480" y="3898800"/>
            <a:ext cx="3505320" cy="381240"/>
          </a:xfrm>
          <a:prstGeom prst="rect">
            <a:avLst/>
          </a:prstGeom>
          <a:gradFill rotWithShape="0">
            <a:gsLst>
              <a:gs pos="0">
                <a:srgbClr val="42428d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Naming Mana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48320" y="25146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200400" y="5054760"/>
            <a:ext cx="609480" cy="736560"/>
          </a:xfrm>
          <a:prstGeom prst="rect">
            <a:avLst/>
          </a:prstGeom>
          <a:gradFill rotWithShape="0">
            <a:gsLst>
              <a:gs pos="0">
                <a:srgbClr val="00423b"/>
              </a:gs>
              <a:gs pos="100000">
                <a:srgbClr val="009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163320" y="5078880"/>
            <a:ext cx="71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Nam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343400" y="524412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LD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60840" y="5016600"/>
            <a:ext cx="609840" cy="749160"/>
          </a:xfrm>
          <a:prstGeom prst="rect">
            <a:avLst/>
          </a:prstGeom>
          <a:gradFill rotWithShape="0">
            <a:gsLst>
              <a:gs pos="0">
                <a:srgbClr val="00423b"/>
              </a:gs>
              <a:gs pos="100000">
                <a:srgbClr val="009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72200" y="4863960"/>
            <a:ext cx="216000" cy="381240"/>
          </a:xfrm>
          <a:prstGeom prst="rect">
            <a:avLst/>
          </a:prstGeom>
          <a:gradFill rotWithShape="0">
            <a:gsLst>
              <a:gs pos="0">
                <a:srgbClr val="000050"/>
              </a:gs>
              <a:gs pos="50000">
                <a:srgbClr val="000066"/>
              </a:gs>
              <a:gs pos="100000">
                <a:srgbClr val="0000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95480" y="4483080"/>
            <a:ext cx="3505320" cy="368280"/>
          </a:xfrm>
          <a:prstGeom prst="rect">
            <a:avLst/>
          </a:prstGeom>
          <a:gradFill rotWithShape="0">
            <a:gsLst>
              <a:gs pos="0">
                <a:srgbClr val="42428d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JNDI S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408280" y="5028120"/>
            <a:ext cx="72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ust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Ifa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Solution:  Application Serv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ased on distributed object and component technolog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ased on EJB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r easily building server side compon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ased on CORBA for scalability and reli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upporting multiple client interfaces to Application Server (business logic) via Web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2438280" y="4343400"/>
            <a:ext cx="4572000" cy="236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276720" y="5181480"/>
            <a:ext cx="3657600" cy="12956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EJB Security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mplete EJB security and authorization framework 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mplies with EJB Specification 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317600" indent="-264960">
              <a:spcBef>
                <a:spcPts val="601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getCallerPrincipal() which queries the identity of the current methods call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317600" indent="-264960">
              <a:spcBef>
                <a:spcPts val="601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getCallerInRole() which checks a callers rol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5" name=""/>
          <p:cNvSpPr/>
          <p:nvPr/>
        </p:nvSpPr>
        <p:spPr>
          <a:xfrm>
            <a:off x="2664720" y="4495320"/>
            <a:ext cx="138888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ai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426840" y="5257440"/>
            <a:ext cx="147420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p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876920" y="5486400"/>
            <a:ext cx="1981080" cy="9144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cessControlEnt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28600" y="56386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35200" y="5638320"/>
            <a:ext cx="113616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7160" y="5105160"/>
            <a:ext cx="116820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648320" y="4572000"/>
            <a:ext cx="761760" cy="3808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800600" y="4724280"/>
            <a:ext cx="762120" cy="38124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81480" y="4648320"/>
            <a:ext cx="762120" cy="3808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86400" y="4572000"/>
            <a:ext cx="762120" cy="3808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43200" y="5867280"/>
            <a:ext cx="2514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622200">
            <a:off x="2968920" y="6019920"/>
            <a:ext cx="187812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 access allowe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1447920" y="2514600"/>
            <a:ext cx="6324480" cy="327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Narrow"/>
              </a:rPr>
              <a:t>A Fully Distributed EJB Solution</a:t>
            </a:r>
            <a:endParaRPr b="1" lang="en-US" sz="40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29" name=""/>
          <p:cNvSpPr/>
          <p:nvPr/>
        </p:nvSpPr>
        <p:spPr>
          <a:xfrm>
            <a:off x="7067520" y="3352680"/>
            <a:ext cx="2076480" cy="163224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5162400" y="1295280"/>
            <a:ext cx="1599840" cy="2438280"/>
            <a:chOff x="5162400" y="1295280"/>
            <a:chExt cx="1599840" cy="2438280"/>
          </a:xfrm>
        </p:grpSpPr>
        <p:grpSp>
          <p:nvGrpSpPr>
            <p:cNvPr id="531" name=""/>
            <p:cNvGrpSpPr/>
            <p:nvPr/>
          </p:nvGrpSpPr>
          <p:grpSpPr>
            <a:xfrm>
              <a:off x="5162400" y="1295280"/>
              <a:ext cx="1599840" cy="2438280"/>
              <a:chOff x="5162400" y="1295280"/>
              <a:chExt cx="1599840" cy="2438280"/>
            </a:xfrm>
          </p:grpSpPr>
          <p:sp>
            <p:nvSpPr>
              <p:cNvPr id="532" name=""/>
              <p:cNvSpPr/>
              <p:nvPr/>
            </p:nvSpPr>
            <p:spPr>
              <a:xfrm>
                <a:off x="5162400" y="2491920"/>
                <a:ext cx="1599840" cy="124164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162400" y="1295280"/>
                <a:ext cx="1599840" cy="124164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162400" y="2049120"/>
                <a:ext cx="634320" cy="1684440"/>
              </a:xfrm>
              <a:custGeom>
                <a:avLst/>
                <a:gdLst/>
                <a:ahLst/>
                <a:rect l="l" t="t" r="r" b="b"/>
                <a:pathLst>
                  <a:path w="251" h="867">
                    <a:moveTo>
                      <a:pt x="0" y="0"/>
                    </a:moveTo>
                    <a:lnTo>
                      <a:pt x="250" y="250"/>
                    </a:lnTo>
                    <a:lnTo>
                      <a:pt x="250" y="866"/>
                    </a:lnTo>
                    <a:lnTo>
                      <a:pt x="0" y="6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794200" y="1777320"/>
                <a:ext cx="967680" cy="1956240"/>
              </a:xfrm>
              <a:custGeom>
                <a:avLst/>
                <a:gdLst/>
                <a:ahLst/>
                <a:rect l="l" t="t" r="r" b="b"/>
                <a:pathLst>
                  <a:path w="383" h="1007">
                    <a:moveTo>
                      <a:pt x="0" y="388"/>
                    </a:moveTo>
                    <a:lnTo>
                      <a:pt x="382" y="0"/>
                    </a:lnTo>
                    <a:lnTo>
                      <a:pt x="382" y="617"/>
                    </a:lnTo>
                    <a:lnTo>
                      <a:pt x="0" y="1006"/>
                    </a:lnTo>
                    <a:lnTo>
                      <a:pt x="0" y="388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364360" y="2354040"/>
                <a:ext cx="333360" cy="308880"/>
              </a:xfrm>
              <a:custGeom>
                <a:avLst/>
                <a:gdLst/>
                <a:ahLst/>
                <a:rect l="l" t="t" r="r" b="b"/>
                <a:pathLst>
                  <a:path w="132" h="159">
                    <a:moveTo>
                      <a:pt x="0" y="0"/>
                    </a:moveTo>
                    <a:lnTo>
                      <a:pt x="131" y="132"/>
                    </a:lnTo>
                    <a:lnTo>
                      <a:pt x="131" y="158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162400" y="2049120"/>
                <a:ext cx="123480" cy="1281960"/>
              </a:xfrm>
              <a:custGeom>
                <a:avLst/>
                <a:gdLst/>
                <a:ahLst/>
                <a:rect l="l" t="t" r="r" b="b"/>
                <a:pathLst>
                  <a:path w="49" h="660">
                    <a:moveTo>
                      <a:pt x="0" y="0"/>
                    </a:moveTo>
                    <a:lnTo>
                      <a:pt x="48" y="44"/>
                    </a:lnTo>
                    <a:lnTo>
                      <a:pt x="48" y="659"/>
                    </a:lnTo>
                    <a:lnTo>
                      <a:pt x="0" y="6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635080" y="3255480"/>
                <a:ext cx="91080" cy="400320"/>
              </a:xfrm>
              <a:custGeom>
                <a:avLst/>
                <a:gdLst/>
                <a:ahLst/>
                <a:rect l="l" t="t" r="r" b="b"/>
                <a:pathLst>
                  <a:path w="36" h="206">
                    <a:moveTo>
                      <a:pt x="0" y="0"/>
                    </a:moveTo>
                    <a:lnTo>
                      <a:pt x="35" y="20"/>
                    </a:lnTo>
                    <a:lnTo>
                      <a:pt x="35" y="205"/>
                    </a:lnTo>
                    <a:lnTo>
                      <a:pt x="0" y="1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359320" y="3049920"/>
                <a:ext cx="96120" cy="394200"/>
              </a:xfrm>
              <a:custGeom>
                <a:avLst/>
                <a:gdLst/>
                <a:ahLst/>
                <a:rect l="l" t="t" r="r" b="b"/>
                <a:pathLst>
                  <a:path w="38" h="203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2"/>
                    </a:lnTo>
                    <a:lnTo>
                      <a:pt x="0" y="1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91080" y="3152880"/>
                <a:ext cx="95400" cy="398160"/>
              </a:xfrm>
              <a:custGeom>
                <a:avLst/>
                <a:gdLst/>
                <a:ahLst/>
                <a:rect l="l" t="t" r="r" b="b"/>
                <a:pathLst>
                  <a:path w="38" h="205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4"/>
                    </a:lnTo>
                    <a:lnTo>
                      <a:pt x="0" y="18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283720" y="2443320"/>
                <a:ext cx="512640" cy="653040"/>
              </a:xfrm>
              <a:custGeom>
                <a:avLst/>
                <a:gdLst/>
                <a:ahLst/>
                <a:rect l="l" t="t" r="r" b="b"/>
                <a:pathLst>
                  <a:path w="203" h="336">
                    <a:moveTo>
                      <a:pt x="0" y="0"/>
                    </a:moveTo>
                    <a:lnTo>
                      <a:pt x="201" y="205"/>
                    </a:lnTo>
                    <a:lnTo>
                      <a:pt x="202" y="335"/>
                    </a:lnTo>
                    <a:lnTo>
                      <a:pt x="0" y="1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635080" y="2826360"/>
                <a:ext cx="91080" cy="10476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0" y="0"/>
                    </a:moveTo>
                    <a:lnTo>
                      <a:pt x="35" y="20"/>
                    </a:lnTo>
                    <a:lnTo>
                      <a:pt x="35" y="53"/>
                    </a:ln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635080" y="3094200"/>
                <a:ext cx="91080" cy="10116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0" y="0"/>
                    </a:moveTo>
                    <a:lnTo>
                      <a:pt x="35" y="19"/>
                    </a:lnTo>
                    <a:lnTo>
                      <a:pt x="35" y="51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>
              <a:off x="5867280" y="2362320"/>
              <a:ext cx="838440" cy="83808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Narrow"/>
                </a:rPr>
                <a:t>Contain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105520" y="4362480"/>
            <a:ext cx="1599840" cy="2437920"/>
            <a:chOff x="5105520" y="4362480"/>
            <a:chExt cx="1599840" cy="2437920"/>
          </a:xfrm>
        </p:grpSpPr>
        <p:grpSp>
          <p:nvGrpSpPr>
            <p:cNvPr id="546" name=""/>
            <p:cNvGrpSpPr/>
            <p:nvPr/>
          </p:nvGrpSpPr>
          <p:grpSpPr>
            <a:xfrm>
              <a:off x="5105520" y="4362480"/>
              <a:ext cx="1599840" cy="2437920"/>
              <a:chOff x="5105520" y="4362480"/>
              <a:chExt cx="1599840" cy="2437920"/>
            </a:xfrm>
          </p:grpSpPr>
          <p:sp>
            <p:nvSpPr>
              <p:cNvPr id="547" name=""/>
              <p:cNvSpPr/>
              <p:nvPr/>
            </p:nvSpPr>
            <p:spPr>
              <a:xfrm>
                <a:off x="5105520" y="5558760"/>
                <a:ext cx="1599840" cy="124128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05520" y="4362480"/>
                <a:ext cx="1599840" cy="124128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105520" y="5116320"/>
                <a:ext cx="634320" cy="1684080"/>
              </a:xfrm>
              <a:custGeom>
                <a:avLst/>
                <a:gdLst/>
                <a:ahLst/>
                <a:rect l="l" t="t" r="r" b="b"/>
                <a:pathLst>
                  <a:path w="251" h="867">
                    <a:moveTo>
                      <a:pt x="0" y="0"/>
                    </a:moveTo>
                    <a:lnTo>
                      <a:pt x="250" y="250"/>
                    </a:lnTo>
                    <a:lnTo>
                      <a:pt x="250" y="866"/>
                    </a:lnTo>
                    <a:lnTo>
                      <a:pt x="0" y="6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737320" y="4844160"/>
                <a:ext cx="967680" cy="1955880"/>
              </a:xfrm>
              <a:custGeom>
                <a:avLst/>
                <a:gdLst/>
                <a:ahLst/>
                <a:rect l="l" t="t" r="r" b="b"/>
                <a:pathLst>
                  <a:path w="383" h="1007">
                    <a:moveTo>
                      <a:pt x="0" y="388"/>
                    </a:moveTo>
                    <a:lnTo>
                      <a:pt x="382" y="0"/>
                    </a:lnTo>
                    <a:lnTo>
                      <a:pt x="382" y="617"/>
                    </a:lnTo>
                    <a:lnTo>
                      <a:pt x="0" y="1006"/>
                    </a:lnTo>
                    <a:lnTo>
                      <a:pt x="0" y="388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307480" y="5420880"/>
                <a:ext cx="333360" cy="308520"/>
              </a:xfrm>
              <a:custGeom>
                <a:avLst/>
                <a:gdLst/>
                <a:ahLst/>
                <a:rect l="l" t="t" r="r" b="b"/>
                <a:pathLst>
                  <a:path w="132" h="159">
                    <a:moveTo>
                      <a:pt x="0" y="0"/>
                    </a:moveTo>
                    <a:lnTo>
                      <a:pt x="131" y="132"/>
                    </a:lnTo>
                    <a:lnTo>
                      <a:pt x="131" y="158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105520" y="5116320"/>
                <a:ext cx="123480" cy="1281960"/>
              </a:xfrm>
              <a:custGeom>
                <a:avLst/>
                <a:gdLst/>
                <a:ahLst/>
                <a:rect l="l" t="t" r="r" b="b"/>
                <a:pathLst>
                  <a:path w="49" h="660">
                    <a:moveTo>
                      <a:pt x="0" y="0"/>
                    </a:moveTo>
                    <a:lnTo>
                      <a:pt x="48" y="44"/>
                    </a:lnTo>
                    <a:lnTo>
                      <a:pt x="48" y="659"/>
                    </a:lnTo>
                    <a:lnTo>
                      <a:pt x="0" y="6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578200" y="6322320"/>
                <a:ext cx="91080" cy="400320"/>
              </a:xfrm>
              <a:custGeom>
                <a:avLst/>
                <a:gdLst/>
                <a:ahLst/>
                <a:rect l="l" t="t" r="r" b="b"/>
                <a:pathLst>
                  <a:path w="36" h="206">
                    <a:moveTo>
                      <a:pt x="0" y="0"/>
                    </a:moveTo>
                    <a:lnTo>
                      <a:pt x="35" y="20"/>
                    </a:lnTo>
                    <a:lnTo>
                      <a:pt x="35" y="205"/>
                    </a:lnTo>
                    <a:lnTo>
                      <a:pt x="0" y="1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302440" y="6116760"/>
                <a:ext cx="96120" cy="394200"/>
              </a:xfrm>
              <a:custGeom>
                <a:avLst/>
                <a:gdLst/>
                <a:ahLst/>
                <a:rect l="l" t="t" r="r" b="b"/>
                <a:pathLst>
                  <a:path w="38" h="203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2"/>
                    </a:lnTo>
                    <a:lnTo>
                      <a:pt x="0" y="1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34200" y="6219720"/>
                <a:ext cx="95400" cy="398160"/>
              </a:xfrm>
              <a:custGeom>
                <a:avLst/>
                <a:gdLst/>
                <a:ahLst/>
                <a:rect l="l" t="t" r="r" b="b"/>
                <a:pathLst>
                  <a:path w="38" h="205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4"/>
                    </a:lnTo>
                    <a:lnTo>
                      <a:pt x="0" y="18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226840" y="5510520"/>
                <a:ext cx="512640" cy="652680"/>
              </a:xfrm>
              <a:custGeom>
                <a:avLst/>
                <a:gdLst/>
                <a:ahLst/>
                <a:rect l="l" t="t" r="r" b="b"/>
                <a:pathLst>
                  <a:path w="203" h="336">
                    <a:moveTo>
                      <a:pt x="0" y="0"/>
                    </a:moveTo>
                    <a:lnTo>
                      <a:pt x="201" y="205"/>
                    </a:lnTo>
                    <a:lnTo>
                      <a:pt x="202" y="335"/>
                    </a:lnTo>
                    <a:lnTo>
                      <a:pt x="0" y="1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578200" y="5893200"/>
                <a:ext cx="91080" cy="10476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0" y="0"/>
                    </a:moveTo>
                    <a:lnTo>
                      <a:pt x="35" y="20"/>
                    </a:lnTo>
                    <a:lnTo>
                      <a:pt x="35" y="53"/>
                    </a:ln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578200" y="6161040"/>
                <a:ext cx="91080" cy="10116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0" y="0"/>
                    </a:moveTo>
                    <a:lnTo>
                      <a:pt x="35" y="19"/>
                    </a:lnTo>
                    <a:lnTo>
                      <a:pt x="35" y="51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>
              <a:off x="5791320" y="5429160"/>
              <a:ext cx="838440" cy="83808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Narrow"/>
                </a:rPr>
                <a:t>Contain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2419200" y="1333440"/>
            <a:ext cx="1599840" cy="2437920"/>
            <a:chOff x="2419200" y="1333440"/>
            <a:chExt cx="1599840" cy="2437920"/>
          </a:xfrm>
        </p:grpSpPr>
        <p:grpSp>
          <p:nvGrpSpPr>
            <p:cNvPr id="561" name=""/>
            <p:cNvGrpSpPr/>
            <p:nvPr/>
          </p:nvGrpSpPr>
          <p:grpSpPr>
            <a:xfrm>
              <a:off x="2419200" y="1333440"/>
              <a:ext cx="1599840" cy="2437920"/>
              <a:chOff x="2419200" y="1333440"/>
              <a:chExt cx="1599840" cy="2437920"/>
            </a:xfrm>
          </p:grpSpPr>
          <p:sp>
            <p:nvSpPr>
              <p:cNvPr id="562" name=""/>
              <p:cNvSpPr/>
              <p:nvPr/>
            </p:nvSpPr>
            <p:spPr>
              <a:xfrm>
                <a:off x="2419200" y="2529720"/>
                <a:ext cx="1599840" cy="124128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419200" y="1333440"/>
                <a:ext cx="1599840" cy="124128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419200" y="2087280"/>
                <a:ext cx="634320" cy="1684080"/>
              </a:xfrm>
              <a:custGeom>
                <a:avLst/>
                <a:gdLst/>
                <a:ahLst/>
                <a:rect l="l" t="t" r="r" b="b"/>
                <a:pathLst>
                  <a:path w="251" h="867">
                    <a:moveTo>
                      <a:pt x="0" y="0"/>
                    </a:moveTo>
                    <a:lnTo>
                      <a:pt x="250" y="250"/>
                    </a:lnTo>
                    <a:lnTo>
                      <a:pt x="250" y="866"/>
                    </a:lnTo>
                    <a:lnTo>
                      <a:pt x="0" y="6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051000" y="1815120"/>
                <a:ext cx="967680" cy="1955880"/>
              </a:xfrm>
              <a:custGeom>
                <a:avLst/>
                <a:gdLst/>
                <a:ahLst/>
                <a:rect l="l" t="t" r="r" b="b"/>
                <a:pathLst>
                  <a:path w="383" h="1007">
                    <a:moveTo>
                      <a:pt x="0" y="388"/>
                    </a:moveTo>
                    <a:lnTo>
                      <a:pt x="382" y="0"/>
                    </a:lnTo>
                    <a:lnTo>
                      <a:pt x="382" y="617"/>
                    </a:lnTo>
                    <a:lnTo>
                      <a:pt x="0" y="1006"/>
                    </a:lnTo>
                    <a:lnTo>
                      <a:pt x="0" y="388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621160" y="2391840"/>
                <a:ext cx="333360" cy="308520"/>
              </a:xfrm>
              <a:custGeom>
                <a:avLst/>
                <a:gdLst/>
                <a:ahLst/>
                <a:rect l="l" t="t" r="r" b="b"/>
                <a:pathLst>
                  <a:path w="132" h="159">
                    <a:moveTo>
                      <a:pt x="0" y="0"/>
                    </a:moveTo>
                    <a:lnTo>
                      <a:pt x="131" y="132"/>
                    </a:lnTo>
                    <a:lnTo>
                      <a:pt x="131" y="158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419200" y="2087280"/>
                <a:ext cx="123480" cy="1281960"/>
              </a:xfrm>
              <a:custGeom>
                <a:avLst/>
                <a:gdLst/>
                <a:ahLst/>
                <a:rect l="l" t="t" r="r" b="b"/>
                <a:pathLst>
                  <a:path w="49" h="660">
                    <a:moveTo>
                      <a:pt x="0" y="0"/>
                    </a:moveTo>
                    <a:lnTo>
                      <a:pt x="48" y="44"/>
                    </a:lnTo>
                    <a:lnTo>
                      <a:pt x="48" y="659"/>
                    </a:lnTo>
                    <a:lnTo>
                      <a:pt x="0" y="6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891880" y="3293280"/>
                <a:ext cx="91080" cy="400320"/>
              </a:xfrm>
              <a:custGeom>
                <a:avLst/>
                <a:gdLst/>
                <a:ahLst/>
                <a:rect l="l" t="t" r="r" b="b"/>
                <a:pathLst>
                  <a:path w="36" h="206">
                    <a:moveTo>
                      <a:pt x="0" y="0"/>
                    </a:moveTo>
                    <a:lnTo>
                      <a:pt x="35" y="20"/>
                    </a:lnTo>
                    <a:lnTo>
                      <a:pt x="35" y="205"/>
                    </a:lnTo>
                    <a:lnTo>
                      <a:pt x="0" y="1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616120" y="3087720"/>
                <a:ext cx="96120" cy="394200"/>
              </a:xfrm>
              <a:custGeom>
                <a:avLst/>
                <a:gdLst/>
                <a:ahLst/>
                <a:rect l="l" t="t" r="r" b="b"/>
                <a:pathLst>
                  <a:path w="38" h="203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2"/>
                    </a:lnTo>
                    <a:lnTo>
                      <a:pt x="0" y="1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747880" y="3190680"/>
                <a:ext cx="95400" cy="398160"/>
              </a:xfrm>
              <a:custGeom>
                <a:avLst/>
                <a:gdLst/>
                <a:ahLst/>
                <a:rect l="l" t="t" r="r" b="b"/>
                <a:pathLst>
                  <a:path w="38" h="205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4"/>
                    </a:lnTo>
                    <a:lnTo>
                      <a:pt x="0" y="18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540520" y="2481480"/>
                <a:ext cx="512640" cy="652680"/>
              </a:xfrm>
              <a:custGeom>
                <a:avLst/>
                <a:gdLst/>
                <a:ahLst/>
                <a:rect l="l" t="t" r="r" b="b"/>
                <a:pathLst>
                  <a:path w="203" h="336">
                    <a:moveTo>
                      <a:pt x="0" y="0"/>
                    </a:moveTo>
                    <a:lnTo>
                      <a:pt x="201" y="205"/>
                    </a:lnTo>
                    <a:lnTo>
                      <a:pt x="202" y="335"/>
                    </a:lnTo>
                    <a:lnTo>
                      <a:pt x="0" y="1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891880" y="2864160"/>
                <a:ext cx="91080" cy="10476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0" y="0"/>
                    </a:moveTo>
                    <a:lnTo>
                      <a:pt x="35" y="20"/>
                    </a:lnTo>
                    <a:lnTo>
                      <a:pt x="35" y="53"/>
                    </a:ln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891880" y="3132000"/>
                <a:ext cx="91080" cy="10116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0" y="0"/>
                    </a:moveTo>
                    <a:lnTo>
                      <a:pt x="35" y="19"/>
                    </a:lnTo>
                    <a:lnTo>
                      <a:pt x="35" y="51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3105000" y="2400120"/>
              <a:ext cx="857160" cy="83844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Narrow"/>
                </a:rPr>
                <a:t>JND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Narrow"/>
                </a:rPr>
                <a:t>Nam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304920" y="2590920"/>
            <a:ext cx="1599840" cy="2437920"/>
            <a:chOff x="304920" y="2590920"/>
            <a:chExt cx="1599840" cy="2437920"/>
          </a:xfrm>
        </p:grpSpPr>
        <p:grpSp>
          <p:nvGrpSpPr>
            <p:cNvPr id="576" name=""/>
            <p:cNvGrpSpPr/>
            <p:nvPr/>
          </p:nvGrpSpPr>
          <p:grpSpPr>
            <a:xfrm>
              <a:off x="304920" y="2590920"/>
              <a:ext cx="1599840" cy="2437920"/>
              <a:chOff x="304920" y="2590920"/>
              <a:chExt cx="1599840" cy="2437920"/>
            </a:xfrm>
          </p:grpSpPr>
          <p:sp>
            <p:nvSpPr>
              <p:cNvPr id="577" name=""/>
              <p:cNvSpPr/>
              <p:nvPr/>
            </p:nvSpPr>
            <p:spPr>
              <a:xfrm>
                <a:off x="304920" y="3787200"/>
                <a:ext cx="1599840" cy="124128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04920" y="2590920"/>
                <a:ext cx="1599840" cy="124128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04920" y="3344760"/>
                <a:ext cx="634320" cy="1684080"/>
              </a:xfrm>
              <a:custGeom>
                <a:avLst/>
                <a:gdLst/>
                <a:ahLst/>
                <a:rect l="l" t="t" r="r" b="b"/>
                <a:pathLst>
                  <a:path w="251" h="867">
                    <a:moveTo>
                      <a:pt x="0" y="0"/>
                    </a:moveTo>
                    <a:lnTo>
                      <a:pt x="250" y="250"/>
                    </a:lnTo>
                    <a:lnTo>
                      <a:pt x="250" y="866"/>
                    </a:lnTo>
                    <a:lnTo>
                      <a:pt x="0" y="6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936720" y="3072600"/>
                <a:ext cx="967680" cy="1955880"/>
              </a:xfrm>
              <a:custGeom>
                <a:avLst/>
                <a:gdLst/>
                <a:ahLst/>
                <a:rect l="l" t="t" r="r" b="b"/>
                <a:pathLst>
                  <a:path w="383" h="1007">
                    <a:moveTo>
                      <a:pt x="0" y="388"/>
                    </a:moveTo>
                    <a:lnTo>
                      <a:pt x="382" y="0"/>
                    </a:lnTo>
                    <a:lnTo>
                      <a:pt x="382" y="617"/>
                    </a:lnTo>
                    <a:lnTo>
                      <a:pt x="0" y="1006"/>
                    </a:lnTo>
                    <a:lnTo>
                      <a:pt x="0" y="388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06880" y="3649320"/>
                <a:ext cx="333360" cy="308520"/>
              </a:xfrm>
              <a:custGeom>
                <a:avLst/>
                <a:gdLst/>
                <a:ahLst/>
                <a:rect l="l" t="t" r="r" b="b"/>
                <a:pathLst>
                  <a:path w="132" h="159">
                    <a:moveTo>
                      <a:pt x="0" y="0"/>
                    </a:moveTo>
                    <a:lnTo>
                      <a:pt x="131" y="132"/>
                    </a:lnTo>
                    <a:lnTo>
                      <a:pt x="131" y="158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04920" y="3344760"/>
                <a:ext cx="123480" cy="1281960"/>
              </a:xfrm>
              <a:custGeom>
                <a:avLst/>
                <a:gdLst/>
                <a:ahLst/>
                <a:rect l="l" t="t" r="r" b="b"/>
                <a:pathLst>
                  <a:path w="49" h="660">
                    <a:moveTo>
                      <a:pt x="0" y="0"/>
                    </a:moveTo>
                    <a:lnTo>
                      <a:pt x="48" y="44"/>
                    </a:lnTo>
                    <a:lnTo>
                      <a:pt x="48" y="659"/>
                    </a:lnTo>
                    <a:lnTo>
                      <a:pt x="0" y="6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77600" y="4550760"/>
                <a:ext cx="91080" cy="400320"/>
              </a:xfrm>
              <a:custGeom>
                <a:avLst/>
                <a:gdLst/>
                <a:ahLst/>
                <a:rect l="l" t="t" r="r" b="b"/>
                <a:pathLst>
                  <a:path w="36" h="206">
                    <a:moveTo>
                      <a:pt x="0" y="0"/>
                    </a:moveTo>
                    <a:lnTo>
                      <a:pt x="35" y="20"/>
                    </a:lnTo>
                    <a:lnTo>
                      <a:pt x="35" y="205"/>
                    </a:lnTo>
                    <a:lnTo>
                      <a:pt x="0" y="1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01840" y="4345200"/>
                <a:ext cx="96120" cy="394200"/>
              </a:xfrm>
              <a:custGeom>
                <a:avLst/>
                <a:gdLst/>
                <a:ahLst/>
                <a:rect l="l" t="t" r="r" b="b"/>
                <a:pathLst>
                  <a:path w="38" h="203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2"/>
                    </a:lnTo>
                    <a:lnTo>
                      <a:pt x="0" y="1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3600" y="4448160"/>
                <a:ext cx="95400" cy="398160"/>
              </a:xfrm>
              <a:custGeom>
                <a:avLst/>
                <a:gdLst/>
                <a:ahLst/>
                <a:rect l="l" t="t" r="r" b="b"/>
                <a:pathLst>
                  <a:path w="38" h="205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4"/>
                    </a:lnTo>
                    <a:lnTo>
                      <a:pt x="0" y="18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26240" y="3738960"/>
                <a:ext cx="512640" cy="652680"/>
              </a:xfrm>
              <a:custGeom>
                <a:avLst/>
                <a:gdLst/>
                <a:ahLst/>
                <a:rect l="l" t="t" r="r" b="b"/>
                <a:pathLst>
                  <a:path w="203" h="336">
                    <a:moveTo>
                      <a:pt x="0" y="0"/>
                    </a:moveTo>
                    <a:lnTo>
                      <a:pt x="201" y="205"/>
                    </a:lnTo>
                    <a:lnTo>
                      <a:pt x="202" y="335"/>
                    </a:lnTo>
                    <a:lnTo>
                      <a:pt x="0" y="1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77600" y="4121640"/>
                <a:ext cx="91080" cy="10476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0" y="0"/>
                    </a:moveTo>
                    <a:lnTo>
                      <a:pt x="35" y="20"/>
                    </a:lnTo>
                    <a:lnTo>
                      <a:pt x="35" y="53"/>
                    </a:ln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77600" y="4389480"/>
                <a:ext cx="91080" cy="10116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0" y="0"/>
                    </a:moveTo>
                    <a:lnTo>
                      <a:pt x="35" y="19"/>
                    </a:lnTo>
                    <a:lnTo>
                      <a:pt x="35" y="51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990720" y="3657600"/>
              <a:ext cx="857520" cy="8377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Narrow"/>
                </a:rPr>
                <a:t>Storag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2381400" y="4419720"/>
            <a:ext cx="1619280" cy="2437920"/>
            <a:chOff x="2381400" y="4419720"/>
            <a:chExt cx="1619280" cy="2437920"/>
          </a:xfrm>
        </p:grpSpPr>
        <p:grpSp>
          <p:nvGrpSpPr>
            <p:cNvPr id="591" name=""/>
            <p:cNvGrpSpPr/>
            <p:nvPr/>
          </p:nvGrpSpPr>
          <p:grpSpPr>
            <a:xfrm>
              <a:off x="2381400" y="4419720"/>
              <a:ext cx="1599840" cy="2437920"/>
              <a:chOff x="2381400" y="4419720"/>
              <a:chExt cx="1599840" cy="2437920"/>
            </a:xfrm>
          </p:grpSpPr>
          <p:sp>
            <p:nvSpPr>
              <p:cNvPr id="592" name=""/>
              <p:cNvSpPr/>
              <p:nvPr/>
            </p:nvSpPr>
            <p:spPr>
              <a:xfrm>
                <a:off x="2381400" y="5616000"/>
                <a:ext cx="1599840" cy="124128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381400" y="4419720"/>
                <a:ext cx="1599840" cy="124128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381400" y="5173560"/>
                <a:ext cx="634320" cy="1684080"/>
              </a:xfrm>
              <a:custGeom>
                <a:avLst/>
                <a:gdLst/>
                <a:ahLst/>
                <a:rect l="l" t="t" r="r" b="b"/>
                <a:pathLst>
                  <a:path w="251" h="867">
                    <a:moveTo>
                      <a:pt x="0" y="0"/>
                    </a:moveTo>
                    <a:lnTo>
                      <a:pt x="250" y="250"/>
                    </a:lnTo>
                    <a:lnTo>
                      <a:pt x="250" y="866"/>
                    </a:lnTo>
                    <a:lnTo>
                      <a:pt x="0" y="6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013200" y="4901400"/>
                <a:ext cx="967680" cy="1955880"/>
              </a:xfrm>
              <a:custGeom>
                <a:avLst/>
                <a:gdLst/>
                <a:ahLst/>
                <a:rect l="l" t="t" r="r" b="b"/>
                <a:pathLst>
                  <a:path w="383" h="1007">
                    <a:moveTo>
                      <a:pt x="0" y="388"/>
                    </a:moveTo>
                    <a:lnTo>
                      <a:pt x="382" y="0"/>
                    </a:lnTo>
                    <a:lnTo>
                      <a:pt x="382" y="617"/>
                    </a:lnTo>
                    <a:lnTo>
                      <a:pt x="0" y="1006"/>
                    </a:lnTo>
                    <a:lnTo>
                      <a:pt x="0" y="388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583360" y="5478120"/>
                <a:ext cx="333360" cy="308520"/>
              </a:xfrm>
              <a:custGeom>
                <a:avLst/>
                <a:gdLst/>
                <a:ahLst/>
                <a:rect l="l" t="t" r="r" b="b"/>
                <a:pathLst>
                  <a:path w="132" h="159">
                    <a:moveTo>
                      <a:pt x="0" y="0"/>
                    </a:moveTo>
                    <a:lnTo>
                      <a:pt x="131" y="132"/>
                    </a:lnTo>
                    <a:lnTo>
                      <a:pt x="131" y="158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381400" y="5173560"/>
                <a:ext cx="123480" cy="1281960"/>
              </a:xfrm>
              <a:custGeom>
                <a:avLst/>
                <a:gdLst/>
                <a:ahLst/>
                <a:rect l="l" t="t" r="r" b="b"/>
                <a:pathLst>
                  <a:path w="49" h="660">
                    <a:moveTo>
                      <a:pt x="0" y="0"/>
                    </a:moveTo>
                    <a:lnTo>
                      <a:pt x="48" y="44"/>
                    </a:lnTo>
                    <a:lnTo>
                      <a:pt x="48" y="659"/>
                    </a:lnTo>
                    <a:lnTo>
                      <a:pt x="0" y="6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854080" y="6379560"/>
                <a:ext cx="91080" cy="400320"/>
              </a:xfrm>
              <a:custGeom>
                <a:avLst/>
                <a:gdLst/>
                <a:ahLst/>
                <a:rect l="l" t="t" r="r" b="b"/>
                <a:pathLst>
                  <a:path w="36" h="206">
                    <a:moveTo>
                      <a:pt x="0" y="0"/>
                    </a:moveTo>
                    <a:lnTo>
                      <a:pt x="35" y="20"/>
                    </a:lnTo>
                    <a:lnTo>
                      <a:pt x="35" y="205"/>
                    </a:lnTo>
                    <a:lnTo>
                      <a:pt x="0" y="1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578320" y="6174000"/>
                <a:ext cx="96120" cy="394200"/>
              </a:xfrm>
              <a:custGeom>
                <a:avLst/>
                <a:gdLst/>
                <a:ahLst/>
                <a:rect l="l" t="t" r="r" b="b"/>
                <a:pathLst>
                  <a:path w="38" h="203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2"/>
                    </a:lnTo>
                    <a:lnTo>
                      <a:pt x="0" y="1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710080" y="6276960"/>
                <a:ext cx="95400" cy="398160"/>
              </a:xfrm>
              <a:custGeom>
                <a:avLst/>
                <a:gdLst/>
                <a:ahLst/>
                <a:rect l="l" t="t" r="r" b="b"/>
                <a:pathLst>
                  <a:path w="38" h="205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4"/>
                    </a:lnTo>
                    <a:lnTo>
                      <a:pt x="0" y="18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502720" y="5567760"/>
                <a:ext cx="512640" cy="652680"/>
              </a:xfrm>
              <a:custGeom>
                <a:avLst/>
                <a:gdLst/>
                <a:ahLst/>
                <a:rect l="l" t="t" r="r" b="b"/>
                <a:pathLst>
                  <a:path w="203" h="336">
                    <a:moveTo>
                      <a:pt x="0" y="0"/>
                    </a:moveTo>
                    <a:lnTo>
                      <a:pt x="201" y="205"/>
                    </a:lnTo>
                    <a:lnTo>
                      <a:pt x="202" y="335"/>
                    </a:lnTo>
                    <a:lnTo>
                      <a:pt x="0" y="1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854080" y="5950440"/>
                <a:ext cx="91080" cy="10476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0" y="0"/>
                    </a:moveTo>
                    <a:lnTo>
                      <a:pt x="35" y="20"/>
                    </a:lnTo>
                    <a:lnTo>
                      <a:pt x="35" y="53"/>
                    </a:ln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854080" y="6218280"/>
                <a:ext cx="91080" cy="10116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0" y="0"/>
                    </a:moveTo>
                    <a:lnTo>
                      <a:pt x="35" y="19"/>
                    </a:lnTo>
                    <a:lnTo>
                      <a:pt x="35" y="51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3143160" y="5410080"/>
              <a:ext cx="857520" cy="8575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Narrow"/>
                </a:rPr>
                <a:t>JTS/I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7238880" y="2895480"/>
            <a:ext cx="1599840" cy="2437920"/>
            <a:chOff x="7238880" y="2895480"/>
            <a:chExt cx="1599840" cy="2437920"/>
          </a:xfrm>
        </p:grpSpPr>
        <p:grpSp>
          <p:nvGrpSpPr>
            <p:cNvPr id="606" name=""/>
            <p:cNvGrpSpPr/>
            <p:nvPr/>
          </p:nvGrpSpPr>
          <p:grpSpPr>
            <a:xfrm>
              <a:off x="7238880" y="2895480"/>
              <a:ext cx="1599840" cy="2437920"/>
              <a:chOff x="7238880" y="2895480"/>
              <a:chExt cx="1599840" cy="2437920"/>
            </a:xfrm>
          </p:grpSpPr>
          <p:sp>
            <p:nvSpPr>
              <p:cNvPr id="607" name=""/>
              <p:cNvSpPr/>
              <p:nvPr/>
            </p:nvSpPr>
            <p:spPr>
              <a:xfrm>
                <a:off x="7238880" y="4091760"/>
                <a:ext cx="1599840" cy="124128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238880" y="2895480"/>
                <a:ext cx="1599840" cy="124128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238880" y="3649320"/>
                <a:ext cx="634320" cy="1684080"/>
              </a:xfrm>
              <a:custGeom>
                <a:avLst/>
                <a:gdLst/>
                <a:ahLst/>
                <a:rect l="l" t="t" r="r" b="b"/>
                <a:pathLst>
                  <a:path w="251" h="867">
                    <a:moveTo>
                      <a:pt x="0" y="0"/>
                    </a:moveTo>
                    <a:lnTo>
                      <a:pt x="250" y="250"/>
                    </a:lnTo>
                    <a:lnTo>
                      <a:pt x="250" y="866"/>
                    </a:lnTo>
                    <a:lnTo>
                      <a:pt x="0" y="6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870680" y="3377160"/>
                <a:ext cx="967680" cy="1955880"/>
              </a:xfrm>
              <a:custGeom>
                <a:avLst/>
                <a:gdLst/>
                <a:ahLst/>
                <a:rect l="l" t="t" r="r" b="b"/>
                <a:pathLst>
                  <a:path w="383" h="1007">
                    <a:moveTo>
                      <a:pt x="0" y="388"/>
                    </a:moveTo>
                    <a:lnTo>
                      <a:pt x="382" y="0"/>
                    </a:lnTo>
                    <a:lnTo>
                      <a:pt x="382" y="617"/>
                    </a:lnTo>
                    <a:lnTo>
                      <a:pt x="0" y="1006"/>
                    </a:lnTo>
                    <a:lnTo>
                      <a:pt x="0" y="388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440840" y="3953880"/>
                <a:ext cx="333360" cy="308520"/>
              </a:xfrm>
              <a:custGeom>
                <a:avLst/>
                <a:gdLst/>
                <a:ahLst/>
                <a:rect l="l" t="t" r="r" b="b"/>
                <a:pathLst>
                  <a:path w="132" h="159">
                    <a:moveTo>
                      <a:pt x="0" y="0"/>
                    </a:moveTo>
                    <a:lnTo>
                      <a:pt x="131" y="132"/>
                    </a:lnTo>
                    <a:lnTo>
                      <a:pt x="131" y="158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238880" y="3649320"/>
                <a:ext cx="123480" cy="1281960"/>
              </a:xfrm>
              <a:custGeom>
                <a:avLst/>
                <a:gdLst/>
                <a:ahLst/>
                <a:rect l="l" t="t" r="r" b="b"/>
                <a:pathLst>
                  <a:path w="49" h="660">
                    <a:moveTo>
                      <a:pt x="0" y="0"/>
                    </a:moveTo>
                    <a:lnTo>
                      <a:pt x="48" y="44"/>
                    </a:lnTo>
                    <a:lnTo>
                      <a:pt x="48" y="659"/>
                    </a:lnTo>
                    <a:lnTo>
                      <a:pt x="0" y="6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711560" y="4855320"/>
                <a:ext cx="91080" cy="400320"/>
              </a:xfrm>
              <a:custGeom>
                <a:avLst/>
                <a:gdLst/>
                <a:ahLst/>
                <a:rect l="l" t="t" r="r" b="b"/>
                <a:pathLst>
                  <a:path w="36" h="206">
                    <a:moveTo>
                      <a:pt x="0" y="0"/>
                    </a:moveTo>
                    <a:lnTo>
                      <a:pt x="35" y="20"/>
                    </a:lnTo>
                    <a:lnTo>
                      <a:pt x="35" y="205"/>
                    </a:lnTo>
                    <a:lnTo>
                      <a:pt x="0" y="1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435800" y="4649760"/>
                <a:ext cx="96120" cy="394200"/>
              </a:xfrm>
              <a:custGeom>
                <a:avLst/>
                <a:gdLst/>
                <a:ahLst/>
                <a:rect l="l" t="t" r="r" b="b"/>
                <a:pathLst>
                  <a:path w="38" h="203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2"/>
                    </a:lnTo>
                    <a:lnTo>
                      <a:pt x="0" y="1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567560" y="4752720"/>
                <a:ext cx="95400" cy="398160"/>
              </a:xfrm>
              <a:custGeom>
                <a:avLst/>
                <a:gdLst/>
                <a:ahLst/>
                <a:rect l="l" t="t" r="r" b="b"/>
                <a:pathLst>
                  <a:path w="38" h="205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4"/>
                    </a:lnTo>
                    <a:lnTo>
                      <a:pt x="0" y="18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360200" y="4043520"/>
                <a:ext cx="512640" cy="652680"/>
              </a:xfrm>
              <a:custGeom>
                <a:avLst/>
                <a:gdLst/>
                <a:ahLst/>
                <a:rect l="l" t="t" r="r" b="b"/>
                <a:pathLst>
                  <a:path w="203" h="336">
                    <a:moveTo>
                      <a:pt x="0" y="0"/>
                    </a:moveTo>
                    <a:lnTo>
                      <a:pt x="201" y="205"/>
                    </a:lnTo>
                    <a:lnTo>
                      <a:pt x="202" y="335"/>
                    </a:lnTo>
                    <a:lnTo>
                      <a:pt x="0" y="1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711560" y="4426200"/>
                <a:ext cx="91080" cy="10476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0" y="0"/>
                    </a:moveTo>
                    <a:lnTo>
                      <a:pt x="35" y="20"/>
                    </a:lnTo>
                    <a:lnTo>
                      <a:pt x="35" y="53"/>
                    </a:ln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711560" y="4694040"/>
                <a:ext cx="91080" cy="10116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0" y="0"/>
                    </a:moveTo>
                    <a:lnTo>
                      <a:pt x="35" y="19"/>
                    </a:lnTo>
                    <a:lnTo>
                      <a:pt x="35" y="51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7924680" y="3962160"/>
              <a:ext cx="857160" cy="8571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Narrow"/>
                </a:rPr>
                <a:t>JTS/I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124800" y="3504960"/>
            <a:ext cx="2868840" cy="100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Narrow"/>
              </a:rPr>
              <a:t>Distributed Transa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Narrow"/>
              </a:rPr>
              <a:t>Distributed Security Doma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Narrow"/>
              </a:rPr>
              <a:t>Language Interoper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prise Application Serv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812880" y="3419640"/>
            <a:ext cx="7654320" cy="1002600"/>
            <a:chOff x="812880" y="3419640"/>
            <a:chExt cx="7654320" cy="1002600"/>
          </a:xfrm>
        </p:grpSpPr>
        <p:sp>
          <p:nvSpPr>
            <p:cNvPr id="623" name=""/>
            <p:cNvSpPr/>
            <p:nvPr/>
          </p:nvSpPr>
          <p:spPr>
            <a:xfrm>
              <a:off x="812880" y="3419640"/>
              <a:ext cx="7654320" cy="1002600"/>
            </a:xfrm>
            <a:prstGeom prst="rightArrow">
              <a:avLst>
                <a:gd name="adj1" fmla="val 81167"/>
                <a:gd name="adj2" fmla="val 54749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82720" y="3658680"/>
              <a:ext cx="174888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Develop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796840" y="3660480"/>
              <a:ext cx="147312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Integr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429080" y="3660480"/>
              <a:ext cx="161028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Deploy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171120" y="3660480"/>
              <a:ext cx="170784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Manag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612720" y="2166120"/>
            <a:ext cx="802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ed development-to-management enterprise-application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3249720" y="4782960"/>
            <a:ext cx="2997000" cy="723600"/>
            <a:chOff x="3249720" y="4782960"/>
            <a:chExt cx="2997000" cy="723600"/>
          </a:xfrm>
        </p:grpSpPr>
        <p:sp>
          <p:nvSpPr>
            <p:cNvPr id="630" name=""/>
            <p:cNvSpPr/>
            <p:nvPr/>
          </p:nvSpPr>
          <p:spPr>
            <a:xfrm>
              <a:off x="3249720" y="4782960"/>
              <a:ext cx="2997000" cy="723600"/>
            </a:xfrm>
            <a:prstGeom prst="leftRightArrow">
              <a:avLst>
                <a:gd name="adj1" fmla="val 50000"/>
                <a:gd name="adj2" fmla="val 82452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556080" y="4915080"/>
              <a:ext cx="238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pplication Ser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5816520" y="5122800"/>
            <a:ext cx="2274840" cy="723960"/>
            <a:chOff x="5816520" y="5122800"/>
            <a:chExt cx="2274840" cy="723960"/>
          </a:xfrm>
        </p:grpSpPr>
        <p:sp>
          <p:nvSpPr>
            <p:cNvPr id="633" name=""/>
            <p:cNvSpPr/>
            <p:nvPr/>
          </p:nvSpPr>
          <p:spPr>
            <a:xfrm>
              <a:off x="5816520" y="5122800"/>
              <a:ext cx="2274840" cy="723960"/>
            </a:xfrm>
            <a:prstGeom prst="leftRightArrow">
              <a:avLst>
                <a:gd name="adj1" fmla="val 59648"/>
                <a:gd name="adj2" fmla="val 77624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225840" y="5255280"/>
              <a:ext cx="14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ppCen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838080" y="4419720"/>
            <a:ext cx="2895840" cy="685800"/>
          </a:xfrm>
          <a:prstGeom prst="leftRightArrow">
            <a:avLst>
              <a:gd name="adj1" fmla="val 50000"/>
              <a:gd name="adj2" fmla="val 84060"/>
            </a:avLst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53600" y="450360"/>
            <a:ext cx="7543800" cy="8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JBuilder Enterpris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15880" y="1774800"/>
            <a:ext cx="8229600" cy="3657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JB Wizar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SP Wizar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SP Runtime  (Run/Debug JSPs within JBuilder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RBA Wiza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cludes HTML CORBA Client and Java CORBA Serv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DL Integr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VisiBroker 4 integr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stributed Debugg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JBuilder EJB Developmen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639" name="EJBWiz" descr=""/>
          <p:cNvPicPr/>
          <p:nvPr/>
        </p:nvPicPr>
        <p:blipFill>
          <a:blip r:embed="rId2"/>
          <a:stretch/>
        </p:blipFill>
        <p:spPr>
          <a:xfrm>
            <a:off x="1447920" y="2031840"/>
            <a:ext cx="60195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JBuilder EJB Developmen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641" name="EJBDD2" descr=""/>
          <p:cNvPicPr/>
          <p:nvPr/>
        </p:nvPicPr>
        <p:blipFill>
          <a:blip r:embed="rId2"/>
          <a:stretch/>
        </p:blipFill>
        <p:spPr>
          <a:xfrm>
            <a:off x="1295280" y="1824120"/>
            <a:ext cx="609624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JBuilder EJB Developmen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643" name="EJBDeploy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6553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prise Application Serv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812880" y="3419640"/>
            <a:ext cx="7654320" cy="1002600"/>
            <a:chOff x="812880" y="3419640"/>
            <a:chExt cx="7654320" cy="1002600"/>
          </a:xfrm>
        </p:grpSpPr>
        <p:sp>
          <p:nvSpPr>
            <p:cNvPr id="646" name=""/>
            <p:cNvSpPr/>
            <p:nvPr/>
          </p:nvSpPr>
          <p:spPr>
            <a:xfrm>
              <a:off x="812880" y="3419640"/>
              <a:ext cx="7654320" cy="1002600"/>
            </a:xfrm>
            <a:prstGeom prst="rightArrow">
              <a:avLst>
                <a:gd name="adj1" fmla="val 81167"/>
                <a:gd name="adj2" fmla="val 54749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82720" y="3658680"/>
              <a:ext cx="174888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Develop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796840" y="3660480"/>
              <a:ext cx="147312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Integr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429080" y="3660480"/>
              <a:ext cx="161028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Deploy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171120" y="3660480"/>
              <a:ext cx="170784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Manag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612720" y="2166120"/>
            <a:ext cx="802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ed development-to-management enterprise-application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811080" y="4443480"/>
            <a:ext cx="2874960" cy="723960"/>
            <a:chOff x="811080" y="4443480"/>
            <a:chExt cx="2874960" cy="723960"/>
          </a:xfrm>
        </p:grpSpPr>
        <p:sp>
          <p:nvSpPr>
            <p:cNvPr id="653" name=""/>
            <p:cNvSpPr/>
            <p:nvPr/>
          </p:nvSpPr>
          <p:spPr>
            <a:xfrm>
              <a:off x="811080" y="4443480"/>
              <a:ext cx="2874960" cy="723960"/>
            </a:xfrm>
            <a:prstGeom prst="leftRightArrow">
              <a:avLst>
                <a:gd name="adj1" fmla="val 50000"/>
                <a:gd name="adj2" fmla="val 7905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070280" y="4567680"/>
              <a:ext cx="24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evelopment Too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3200400" y="4765680"/>
            <a:ext cx="2997360" cy="797040"/>
          </a:xfrm>
          <a:prstGeom prst="leftRightArrow">
            <a:avLst>
              <a:gd name="adj1" fmla="val 50000"/>
              <a:gd name="adj2" fmla="val 74864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Application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5816520" y="5122800"/>
            <a:ext cx="2274840" cy="723960"/>
            <a:chOff x="5816520" y="5122800"/>
            <a:chExt cx="2274840" cy="723960"/>
          </a:xfrm>
        </p:grpSpPr>
        <p:sp>
          <p:nvSpPr>
            <p:cNvPr id="657" name=""/>
            <p:cNvSpPr/>
            <p:nvPr/>
          </p:nvSpPr>
          <p:spPr>
            <a:xfrm>
              <a:off x="5816520" y="5122800"/>
              <a:ext cx="2274840" cy="723960"/>
            </a:xfrm>
            <a:prstGeom prst="leftRightArrow">
              <a:avLst>
                <a:gd name="adj1" fmla="val 59648"/>
                <a:gd name="adj2" fmla="val 77624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225840" y="5255280"/>
              <a:ext cx="14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ppCen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317240" y="345960"/>
            <a:ext cx="7543800" cy="8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Application Server Consol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63680" y="1922400"/>
            <a:ext cx="8229600" cy="3353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eproduction tool for assembling, integrating, and deploying  components into distributed applicati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01680" indent="-3016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nage Application Servers/EJB Contain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RBA objects and servic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ntainer and JNDI browse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XML deployment descripto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01680" indent="-3016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ssemble and deploy EJB jars into contain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services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99" name="appserver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eploy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prise Application Serv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812880" y="3419640"/>
            <a:ext cx="7654320" cy="1002600"/>
            <a:chOff x="812880" y="3419640"/>
            <a:chExt cx="7654320" cy="1002600"/>
          </a:xfrm>
        </p:grpSpPr>
        <p:sp>
          <p:nvSpPr>
            <p:cNvPr id="665" name=""/>
            <p:cNvSpPr/>
            <p:nvPr/>
          </p:nvSpPr>
          <p:spPr>
            <a:xfrm>
              <a:off x="812880" y="3419640"/>
              <a:ext cx="7654320" cy="1002600"/>
            </a:xfrm>
            <a:prstGeom prst="rightArrow">
              <a:avLst>
                <a:gd name="adj1" fmla="val 81167"/>
                <a:gd name="adj2" fmla="val 54749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82720" y="3658680"/>
              <a:ext cx="174888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Develop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796840" y="3660480"/>
              <a:ext cx="147312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Integr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429080" y="3660480"/>
              <a:ext cx="161028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Deploy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171120" y="3660480"/>
              <a:ext cx="170784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Manag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612720" y="2166120"/>
            <a:ext cx="802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ed development-to-management enterprise-application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811080" y="4443480"/>
            <a:ext cx="2874960" cy="723960"/>
            <a:chOff x="811080" y="4443480"/>
            <a:chExt cx="2874960" cy="723960"/>
          </a:xfrm>
        </p:grpSpPr>
        <p:sp>
          <p:nvSpPr>
            <p:cNvPr id="672" name=""/>
            <p:cNvSpPr/>
            <p:nvPr/>
          </p:nvSpPr>
          <p:spPr>
            <a:xfrm>
              <a:off x="811080" y="4443480"/>
              <a:ext cx="2874960" cy="723960"/>
            </a:xfrm>
            <a:prstGeom prst="leftRightArrow">
              <a:avLst>
                <a:gd name="adj1" fmla="val 50000"/>
                <a:gd name="adj2" fmla="val 7905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070280" y="4567680"/>
              <a:ext cx="24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evelopment Too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3249720" y="4782960"/>
            <a:ext cx="2997000" cy="723600"/>
            <a:chOff x="3249720" y="4782960"/>
            <a:chExt cx="2997000" cy="723600"/>
          </a:xfrm>
        </p:grpSpPr>
        <p:sp>
          <p:nvSpPr>
            <p:cNvPr id="675" name=""/>
            <p:cNvSpPr/>
            <p:nvPr/>
          </p:nvSpPr>
          <p:spPr>
            <a:xfrm>
              <a:off x="3249720" y="4782960"/>
              <a:ext cx="2997000" cy="723600"/>
            </a:xfrm>
            <a:prstGeom prst="leftRightArrow">
              <a:avLst>
                <a:gd name="adj1" fmla="val 50000"/>
                <a:gd name="adj2" fmla="val 82452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556080" y="4915080"/>
              <a:ext cx="238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pplication Ser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5816520" y="5122800"/>
            <a:ext cx="2274840" cy="723960"/>
            <a:chOff x="5816520" y="5122800"/>
            <a:chExt cx="2274840" cy="723960"/>
          </a:xfrm>
        </p:grpSpPr>
        <p:sp>
          <p:nvSpPr>
            <p:cNvPr id="678" name=""/>
            <p:cNvSpPr/>
            <p:nvPr/>
          </p:nvSpPr>
          <p:spPr>
            <a:xfrm>
              <a:off x="5816520" y="5122800"/>
              <a:ext cx="2274840" cy="723960"/>
            </a:xfrm>
            <a:prstGeom prst="leftRightArrow">
              <a:avLst>
                <a:gd name="adj1" fmla="val 59648"/>
                <a:gd name="adj2" fmla="val 77624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225840" y="5255280"/>
              <a:ext cx="1456200" cy="459720"/>
            </a:xfrm>
            <a:prstGeom prst="rect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AppCen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358640" y="417600"/>
            <a:ext cx="7543800" cy="80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AppCent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15880" y="1746360"/>
            <a:ext cx="8229600" cy="3581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naging and monitoring distributed-object applications (EJB, CORBA 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non-CORBA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ault-tolerant groups and fail-over relationship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erformance monitor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izards to define what to mana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tart and stop individual or groups of objec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67480" indent="-267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tegration with operations environ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xecute actions based on AppCenter ev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NMP integration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EJB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69608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Narrow"/>
              </a:rPr>
              <a:t>Inprise Application Server: Integrated Development to Management</a:t>
            </a:r>
            <a:endParaRPr b="1" lang="en-US" sz="40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733400"/>
            <a:ext cx="822960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tegrated Development tools for Application Server:  Java, EJB, HTML, Servlets, JS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nterprise EJB Solu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VisiBroker:  Reliable, Scalable, Open, Extensi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MI/IIOP:  Enterprise-level applicat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stributed application management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ssemble, Integrate, Deplo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anage - keep applications in produc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AS 4 Beta Statu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eld Test starts in Septemb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JB Container has been in early access program since Spr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JOIN  THE BETA PROGRAM - Leave us your business cards!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T and Solari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General Availability -  Q4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newlogo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7315200" cy="24480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3441240" y="5684760"/>
            <a:ext cx="25808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www.inprise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EJB Architecture Overview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The EJB Development Flow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33720" y="1981080"/>
            <a:ext cx="1346040" cy="1197000"/>
            <a:chOff x="2133720" y="1981080"/>
            <a:chExt cx="1346040" cy="1197000"/>
          </a:xfrm>
        </p:grpSpPr>
        <p:grpSp>
          <p:nvGrpSpPr>
            <p:cNvPr id="103" name=""/>
            <p:cNvGrpSpPr/>
            <p:nvPr/>
          </p:nvGrpSpPr>
          <p:grpSpPr>
            <a:xfrm>
              <a:off x="2514600" y="1981080"/>
              <a:ext cx="600840" cy="920160"/>
              <a:chOff x="2514600" y="1981080"/>
              <a:chExt cx="600840" cy="920160"/>
            </a:xfrm>
          </p:grpSpPr>
          <p:sp>
            <p:nvSpPr>
              <p:cNvPr id="104" name=""/>
              <p:cNvSpPr/>
              <p:nvPr/>
            </p:nvSpPr>
            <p:spPr>
              <a:xfrm>
                <a:off x="2549160" y="2203200"/>
                <a:ext cx="566280" cy="566280"/>
              </a:xfrm>
              <a:custGeom>
                <a:avLst/>
                <a:gdLst/>
                <a:ahLst/>
                <a:rect l="l" t="t" r="r" b="b"/>
                <a:pathLst>
                  <a:path w="357" h="357">
                    <a:moveTo>
                      <a:pt x="147" y="0"/>
                    </a:moveTo>
                    <a:lnTo>
                      <a:pt x="356" y="207"/>
                    </a:lnTo>
                    <a:lnTo>
                      <a:pt x="208" y="356"/>
                    </a:lnTo>
                    <a:lnTo>
                      <a:pt x="0" y="148"/>
                    </a:lnTo>
                    <a:lnTo>
                      <a:pt x="147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80720" y="2530080"/>
                <a:ext cx="234720" cy="333000"/>
              </a:xfrm>
              <a:custGeom>
                <a:avLst/>
                <a:gdLst/>
                <a:ahLst/>
                <a:rect l="l" t="t" r="r" b="b"/>
                <a:pathLst>
                  <a:path w="148" h="210">
                    <a:moveTo>
                      <a:pt x="147" y="0"/>
                    </a:moveTo>
                    <a:lnTo>
                      <a:pt x="147" y="60"/>
                    </a:lnTo>
                    <a:lnTo>
                      <a:pt x="0" y="209"/>
                    </a:lnTo>
                    <a:lnTo>
                      <a:pt x="0" y="149"/>
                    </a:lnTo>
                    <a:lnTo>
                      <a:pt x="147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547720" y="2437920"/>
                <a:ext cx="334440" cy="425160"/>
              </a:xfrm>
              <a:custGeom>
                <a:avLst/>
                <a:gdLst/>
                <a:ahLst/>
                <a:rect l="l" t="t" r="r" b="b"/>
                <a:pathLst>
                  <a:path w="211" h="268">
                    <a:moveTo>
                      <a:pt x="0" y="0"/>
                    </a:moveTo>
                    <a:lnTo>
                      <a:pt x="210" y="207"/>
                    </a:lnTo>
                    <a:lnTo>
                      <a:pt x="209" y="267"/>
                    </a:lnTo>
                    <a:lnTo>
                      <a:pt x="0" y="5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590560" y="2247480"/>
                <a:ext cx="455040" cy="455400"/>
              </a:xfrm>
              <a:custGeom>
                <a:avLst/>
                <a:gdLst/>
                <a:ahLst/>
                <a:rect l="l" t="t" r="r" b="b"/>
                <a:pathLst>
                  <a:path w="287" h="287">
                    <a:moveTo>
                      <a:pt x="109" y="0"/>
                    </a:moveTo>
                    <a:lnTo>
                      <a:pt x="286" y="177"/>
                    </a:lnTo>
                    <a:lnTo>
                      <a:pt x="176" y="286"/>
                    </a:lnTo>
                    <a:lnTo>
                      <a:pt x="0" y="108"/>
                    </a:lnTo>
                    <a:lnTo>
                      <a:pt x="109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95240" y="2109240"/>
                <a:ext cx="279000" cy="561600"/>
              </a:xfrm>
              <a:custGeom>
                <a:avLst/>
                <a:gdLst/>
                <a:ahLst/>
                <a:rect l="l" t="t" r="r" b="b"/>
                <a:pathLst>
                  <a:path w="176" h="354">
                    <a:moveTo>
                      <a:pt x="0" y="0"/>
                    </a:moveTo>
                    <a:lnTo>
                      <a:pt x="175" y="177"/>
                    </a:lnTo>
                    <a:lnTo>
                      <a:pt x="175" y="353"/>
                    </a:lnTo>
                    <a:lnTo>
                      <a:pt x="0" y="1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633400" y="2182320"/>
                <a:ext cx="207720" cy="390240"/>
              </a:xfrm>
              <a:custGeom>
                <a:avLst/>
                <a:gdLst/>
                <a:ahLst/>
                <a:rect l="l" t="t" r="r" b="b"/>
                <a:pathLst>
                  <a:path w="131" h="246">
                    <a:moveTo>
                      <a:pt x="0" y="0"/>
                    </a:moveTo>
                    <a:lnTo>
                      <a:pt x="130" y="130"/>
                    </a:lnTo>
                    <a:lnTo>
                      <a:pt x="130" y="245"/>
                    </a:lnTo>
                    <a:lnTo>
                      <a:pt x="0" y="11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3366ff"/>
                  </a:gs>
                  <a:gs pos="100000">
                    <a:srgbClr val="2346b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620800" y="2165040"/>
                <a:ext cx="29880" cy="212400"/>
              </a:xfrm>
              <a:custGeom>
                <a:avLst/>
                <a:gdLst/>
                <a:ahLst/>
                <a:rect l="l" t="t" r="r" b="b"/>
                <a:pathLst>
                  <a:path w="19" h="134">
                    <a:moveTo>
                      <a:pt x="0" y="0"/>
                    </a:moveTo>
                    <a:lnTo>
                      <a:pt x="18" y="11"/>
                    </a:lnTo>
                    <a:lnTo>
                      <a:pt x="18" y="126"/>
                    </a:lnTo>
                    <a:lnTo>
                      <a:pt x="0" y="1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620800" y="2368080"/>
                <a:ext cx="220320" cy="230040"/>
              </a:xfrm>
              <a:custGeom>
                <a:avLst/>
                <a:gdLst/>
                <a:ahLst/>
                <a:rect l="l" t="t" r="r" b="b"/>
                <a:pathLst>
                  <a:path w="139" h="145">
                    <a:moveTo>
                      <a:pt x="8" y="0"/>
                    </a:moveTo>
                    <a:lnTo>
                      <a:pt x="138" y="129"/>
                    </a:lnTo>
                    <a:lnTo>
                      <a:pt x="138" y="144"/>
                    </a:lnTo>
                    <a:lnTo>
                      <a:pt x="0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871360" y="2528640"/>
                <a:ext cx="174240" cy="199440"/>
              </a:xfrm>
              <a:custGeom>
                <a:avLst/>
                <a:gdLst/>
                <a:ahLst/>
                <a:rect l="l" t="t" r="r" b="b"/>
                <a:pathLst>
                  <a:path w="110" h="126">
                    <a:moveTo>
                      <a:pt x="109" y="0"/>
                    </a:moveTo>
                    <a:lnTo>
                      <a:pt x="109" y="15"/>
                    </a:lnTo>
                    <a:lnTo>
                      <a:pt x="0" y="125"/>
                    </a:lnTo>
                    <a:lnTo>
                      <a:pt x="0" y="108"/>
                    </a:lnTo>
                    <a:lnTo>
                      <a:pt x="109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90560" y="2420640"/>
                <a:ext cx="282240" cy="307440"/>
              </a:xfrm>
              <a:custGeom>
                <a:avLst/>
                <a:gdLst/>
                <a:ahLst/>
                <a:rect l="l" t="t" r="r" b="b"/>
                <a:pathLst>
                  <a:path w="178" h="194">
                    <a:moveTo>
                      <a:pt x="0" y="0"/>
                    </a:moveTo>
                    <a:lnTo>
                      <a:pt x="176" y="176"/>
                    </a:lnTo>
                    <a:lnTo>
                      <a:pt x="177" y="193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514600" y="2539440"/>
                <a:ext cx="320040" cy="345960"/>
              </a:xfrm>
              <a:custGeom>
                <a:avLst/>
                <a:gdLst/>
                <a:ahLst/>
                <a:rect l="l" t="t" r="r" b="b"/>
                <a:pathLst>
                  <a:path w="202" h="218">
                    <a:moveTo>
                      <a:pt x="48" y="0"/>
                    </a:moveTo>
                    <a:lnTo>
                      <a:pt x="201" y="151"/>
                    </a:lnTo>
                    <a:lnTo>
                      <a:pt x="152" y="217"/>
                    </a:lnTo>
                    <a:lnTo>
                      <a:pt x="0" y="65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757240" y="2781000"/>
                <a:ext cx="77400" cy="120240"/>
              </a:xfrm>
              <a:custGeom>
                <a:avLst/>
                <a:gdLst/>
                <a:ahLst/>
                <a:rect l="l" t="t" r="r" b="b"/>
                <a:pathLst>
                  <a:path w="49" h="76">
                    <a:moveTo>
                      <a:pt x="48" y="0"/>
                    </a:moveTo>
                    <a:lnTo>
                      <a:pt x="47" y="15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514600" y="2642760"/>
                <a:ext cx="244440" cy="258480"/>
              </a:xfrm>
              <a:custGeom>
                <a:avLst/>
                <a:gdLst/>
                <a:ahLst/>
                <a:rect l="l" t="t" r="r" b="b"/>
                <a:pathLst>
                  <a:path w="154" h="163">
                    <a:moveTo>
                      <a:pt x="0" y="0"/>
                    </a:moveTo>
                    <a:lnTo>
                      <a:pt x="152" y="152"/>
                    </a:lnTo>
                    <a:lnTo>
                      <a:pt x="153" y="162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926800" y="2161800"/>
                <a:ext cx="80640" cy="407520"/>
              </a:xfrm>
              <a:custGeom>
                <a:avLst/>
                <a:gdLst/>
                <a:ahLst/>
                <a:rect l="l" t="t" r="r" b="b"/>
                <a:pathLst>
                  <a:path w="51" h="257">
                    <a:moveTo>
                      <a:pt x="0" y="78"/>
                    </a:moveTo>
                    <a:lnTo>
                      <a:pt x="50" y="0"/>
                    </a:lnTo>
                    <a:lnTo>
                      <a:pt x="50" y="176"/>
                    </a:lnTo>
                    <a:lnTo>
                      <a:pt x="0" y="256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72800" y="2310840"/>
                <a:ext cx="83880" cy="363240"/>
              </a:xfrm>
              <a:custGeom>
                <a:avLst/>
                <a:gdLst/>
                <a:ahLst/>
                <a:rect l="l" t="t" r="r" b="b"/>
                <a:pathLst>
                  <a:path w="53" h="229">
                    <a:moveTo>
                      <a:pt x="0" y="50"/>
                    </a:moveTo>
                    <a:lnTo>
                      <a:pt x="52" y="0"/>
                    </a:lnTo>
                    <a:lnTo>
                      <a:pt x="52" y="176"/>
                    </a:lnTo>
                    <a:lnTo>
                      <a:pt x="0" y="228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595240" y="1981080"/>
                <a:ext cx="412200" cy="410760"/>
              </a:xfrm>
              <a:custGeom>
                <a:avLst/>
                <a:gdLst/>
                <a:ahLst/>
                <a:rect l="l" t="t" r="r" b="b"/>
                <a:pathLst>
                  <a:path w="260" h="259">
                    <a:moveTo>
                      <a:pt x="49" y="30"/>
                    </a:moveTo>
                    <a:lnTo>
                      <a:pt x="66" y="49"/>
                    </a:lnTo>
                    <a:lnTo>
                      <a:pt x="146" y="0"/>
                    </a:lnTo>
                    <a:lnTo>
                      <a:pt x="259" y="114"/>
                    </a:lnTo>
                    <a:lnTo>
                      <a:pt x="210" y="192"/>
                    </a:lnTo>
                    <a:lnTo>
                      <a:pt x="227" y="207"/>
                    </a:lnTo>
                    <a:lnTo>
                      <a:pt x="176" y="258"/>
                    </a:lnTo>
                    <a:lnTo>
                      <a:pt x="0" y="80"/>
                    </a:lnTo>
                    <a:lnTo>
                      <a:pt x="49" y="3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554200" y="2585520"/>
                <a:ext cx="239400" cy="257040"/>
              </a:xfrm>
              <a:custGeom>
                <a:avLst/>
                <a:gdLst/>
                <a:ahLst/>
                <a:rect l="l" t="t" r="r" b="b"/>
                <a:pathLst>
                  <a:path w="151" h="162">
                    <a:moveTo>
                      <a:pt x="25" y="0"/>
                    </a:moveTo>
                    <a:lnTo>
                      <a:pt x="150" y="123"/>
                    </a:lnTo>
                    <a:lnTo>
                      <a:pt x="123" y="161"/>
                    </a:lnTo>
                    <a:lnTo>
                      <a:pt x="0" y="37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2133720" y="2819160"/>
              <a:ext cx="1346040" cy="35892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JBuil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55880" y="3657600"/>
            <a:ext cx="1676160" cy="457200"/>
            <a:chOff x="1955880" y="3657600"/>
            <a:chExt cx="1676160" cy="457200"/>
          </a:xfrm>
        </p:grpSpPr>
        <p:sp>
          <p:nvSpPr>
            <p:cNvPr id="123" name=""/>
            <p:cNvSpPr/>
            <p:nvPr/>
          </p:nvSpPr>
          <p:spPr>
            <a:xfrm>
              <a:off x="1955880" y="36576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EJ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77960" y="36576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EJ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74840" y="36576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EJ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133720" y="4940280"/>
            <a:ext cx="1143000" cy="1066320"/>
            <a:chOff x="2133720" y="4940280"/>
            <a:chExt cx="1143000" cy="1066320"/>
          </a:xfrm>
        </p:grpSpPr>
        <p:grpSp>
          <p:nvGrpSpPr>
            <p:cNvPr id="127" name=""/>
            <p:cNvGrpSpPr/>
            <p:nvPr/>
          </p:nvGrpSpPr>
          <p:grpSpPr>
            <a:xfrm>
              <a:off x="2457360" y="4940280"/>
              <a:ext cx="510120" cy="819720"/>
              <a:chOff x="2457360" y="4940280"/>
              <a:chExt cx="510120" cy="819720"/>
            </a:xfrm>
          </p:grpSpPr>
          <p:sp>
            <p:nvSpPr>
              <p:cNvPr id="128" name=""/>
              <p:cNvSpPr/>
              <p:nvPr/>
            </p:nvSpPr>
            <p:spPr>
              <a:xfrm>
                <a:off x="2486880" y="5138280"/>
                <a:ext cx="480600" cy="504360"/>
              </a:xfrm>
              <a:custGeom>
                <a:avLst/>
                <a:gdLst/>
                <a:ahLst/>
                <a:rect l="l" t="t" r="r" b="b"/>
                <a:pathLst>
                  <a:path w="357" h="357">
                    <a:moveTo>
                      <a:pt x="147" y="0"/>
                    </a:moveTo>
                    <a:lnTo>
                      <a:pt x="356" y="207"/>
                    </a:lnTo>
                    <a:lnTo>
                      <a:pt x="208" y="356"/>
                    </a:lnTo>
                    <a:lnTo>
                      <a:pt x="0" y="148"/>
                    </a:lnTo>
                    <a:lnTo>
                      <a:pt x="147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768400" y="5429520"/>
                <a:ext cx="199080" cy="296640"/>
              </a:xfrm>
              <a:custGeom>
                <a:avLst/>
                <a:gdLst/>
                <a:ahLst/>
                <a:rect l="l" t="t" r="r" b="b"/>
                <a:pathLst>
                  <a:path w="148" h="210">
                    <a:moveTo>
                      <a:pt x="147" y="0"/>
                    </a:moveTo>
                    <a:lnTo>
                      <a:pt x="147" y="60"/>
                    </a:lnTo>
                    <a:lnTo>
                      <a:pt x="0" y="209"/>
                    </a:lnTo>
                    <a:lnTo>
                      <a:pt x="0" y="149"/>
                    </a:lnTo>
                    <a:lnTo>
                      <a:pt x="147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485440" y="5347440"/>
                <a:ext cx="284040" cy="378720"/>
              </a:xfrm>
              <a:custGeom>
                <a:avLst/>
                <a:gdLst/>
                <a:ahLst/>
                <a:rect l="l" t="t" r="r" b="b"/>
                <a:pathLst>
                  <a:path w="211" h="268">
                    <a:moveTo>
                      <a:pt x="0" y="0"/>
                    </a:moveTo>
                    <a:lnTo>
                      <a:pt x="210" y="207"/>
                    </a:lnTo>
                    <a:lnTo>
                      <a:pt x="209" y="267"/>
                    </a:lnTo>
                    <a:lnTo>
                      <a:pt x="0" y="5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521800" y="5177520"/>
                <a:ext cx="386280" cy="405720"/>
              </a:xfrm>
              <a:custGeom>
                <a:avLst/>
                <a:gdLst/>
                <a:ahLst/>
                <a:rect l="l" t="t" r="r" b="b"/>
                <a:pathLst>
                  <a:path w="287" h="287">
                    <a:moveTo>
                      <a:pt x="109" y="0"/>
                    </a:moveTo>
                    <a:lnTo>
                      <a:pt x="286" y="177"/>
                    </a:lnTo>
                    <a:lnTo>
                      <a:pt x="176" y="286"/>
                    </a:lnTo>
                    <a:lnTo>
                      <a:pt x="0" y="108"/>
                    </a:lnTo>
                    <a:lnTo>
                      <a:pt x="109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525760" y="5054400"/>
                <a:ext cx="236880" cy="500400"/>
              </a:xfrm>
              <a:custGeom>
                <a:avLst/>
                <a:gdLst/>
                <a:ahLst/>
                <a:rect l="l" t="t" r="r" b="b"/>
                <a:pathLst>
                  <a:path w="176" h="354">
                    <a:moveTo>
                      <a:pt x="0" y="0"/>
                    </a:moveTo>
                    <a:lnTo>
                      <a:pt x="175" y="177"/>
                    </a:lnTo>
                    <a:lnTo>
                      <a:pt x="175" y="353"/>
                    </a:lnTo>
                    <a:lnTo>
                      <a:pt x="0" y="1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558160" y="5119560"/>
                <a:ext cx="176400" cy="347760"/>
              </a:xfrm>
              <a:custGeom>
                <a:avLst/>
                <a:gdLst/>
                <a:ahLst/>
                <a:rect l="l" t="t" r="r" b="b"/>
                <a:pathLst>
                  <a:path w="131" h="246">
                    <a:moveTo>
                      <a:pt x="0" y="0"/>
                    </a:moveTo>
                    <a:lnTo>
                      <a:pt x="130" y="130"/>
                    </a:lnTo>
                    <a:lnTo>
                      <a:pt x="130" y="245"/>
                    </a:lnTo>
                    <a:lnTo>
                      <a:pt x="0" y="11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3366ff"/>
                  </a:gs>
                  <a:gs pos="100000">
                    <a:srgbClr val="2346b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47720" y="5104080"/>
                <a:ext cx="25560" cy="189360"/>
              </a:xfrm>
              <a:custGeom>
                <a:avLst/>
                <a:gdLst/>
                <a:ahLst/>
                <a:rect l="l" t="t" r="r" b="b"/>
                <a:pathLst>
                  <a:path w="19" h="134">
                    <a:moveTo>
                      <a:pt x="0" y="0"/>
                    </a:moveTo>
                    <a:lnTo>
                      <a:pt x="18" y="11"/>
                    </a:lnTo>
                    <a:lnTo>
                      <a:pt x="18" y="126"/>
                    </a:lnTo>
                    <a:lnTo>
                      <a:pt x="0" y="1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547720" y="5285160"/>
                <a:ext cx="186840" cy="204840"/>
              </a:xfrm>
              <a:custGeom>
                <a:avLst/>
                <a:gdLst/>
                <a:ahLst/>
                <a:rect l="l" t="t" r="r" b="b"/>
                <a:pathLst>
                  <a:path w="139" h="145">
                    <a:moveTo>
                      <a:pt x="8" y="0"/>
                    </a:moveTo>
                    <a:lnTo>
                      <a:pt x="138" y="129"/>
                    </a:lnTo>
                    <a:lnTo>
                      <a:pt x="138" y="144"/>
                    </a:lnTo>
                    <a:lnTo>
                      <a:pt x="0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60480" y="5428080"/>
                <a:ext cx="147960" cy="177840"/>
              </a:xfrm>
              <a:custGeom>
                <a:avLst/>
                <a:gdLst/>
                <a:ahLst/>
                <a:rect l="l" t="t" r="r" b="b"/>
                <a:pathLst>
                  <a:path w="110" h="126">
                    <a:moveTo>
                      <a:pt x="109" y="0"/>
                    </a:moveTo>
                    <a:lnTo>
                      <a:pt x="109" y="15"/>
                    </a:lnTo>
                    <a:lnTo>
                      <a:pt x="0" y="125"/>
                    </a:lnTo>
                    <a:lnTo>
                      <a:pt x="0" y="108"/>
                    </a:lnTo>
                    <a:lnTo>
                      <a:pt x="109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521800" y="5331960"/>
                <a:ext cx="239400" cy="273960"/>
              </a:xfrm>
              <a:custGeom>
                <a:avLst/>
                <a:gdLst/>
                <a:ahLst/>
                <a:rect l="l" t="t" r="r" b="b"/>
                <a:pathLst>
                  <a:path w="178" h="194">
                    <a:moveTo>
                      <a:pt x="0" y="0"/>
                    </a:moveTo>
                    <a:lnTo>
                      <a:pt x="176" y="176"/>
                    </a:lnTo>
                    <a:lnTo>
                      <a:pt x="177" y="193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457360" y="5437800"/>
                <a:ext cx="271800" cy="308160"/>
              </a:xfrm>
              <a:custGeom>
                <a:avLst/>
                <a:gdLst/>
                <a:ahLst/>
                <a:rect l="l" t="t" r="r" b="b"/>
                <a:pathLst>
                  <a:path w="202" h="218">
                    <a:moveTo>
                      <a:pt x="48" y="0"/>
                    </a:moveTo>
                    <a:lnTo>
                      <a:pt x="201" y="151"/>
                    </a:lnTo>
                    <a:lnTo>
                      <a:pt x="152" y="217"/>
                    </a:lnTo>
                    <a:lnTo>
                      <a:pt x="0" y="65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663280" y="5652720"/>
                <a:ext cx="65880" cy="107280"/>
              </a:xfrm>
              <a:custGeom>
                <a:avLst/>
                <a:gdLst/>
                <a:ahLst/>
                <a:rect l="l" t="t" r="r" b="b"/>
                <a:pathLst>
                  <a:path w="49" h="76">
                    <a:moveTo>
                      <a:pt x="48" y="0"/>
                    </a:moveTo>
                    <a:lnTo>
                      <a:pt x="47" y="15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457360" y="5529600"/>
                <a:ext cx="207360" cy="230400"/>
              </a:xfrm>
              <a:custGeom>
                <a:avLst/>
                <a:gdLst/>
                <a:ahLst/>
                <a:rect l="l" t="t" r="r" b="b"/>
                <a:pathLst>
                  <a:path w="154" h="163">
                    <a:moveTo>
                      <a:pt x="0" y="0"/>
                    </a:moveTo>
                    <a:lnTo>
                      <a:pt x="152" y="152"/>
                    </a:lnTo>
                    <a:lnTo>
                      <a:pt x="153" y="162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807280" y="5101200"/>
                <a:ext cx="68400" cy="363240"/>
              </a:xfrm>
              <a:custGeom>
                <a:avLst/>
                <a:gdLst/>
                <a:ahLst/>
                <a:rect l="l" t="t" r="r" b="b"/>
                <a:pathLst>
                  <a:path w="51" h="257">
                    <a:moveTo>
                      <a:pt x="0" y="78"/>
                    </a:moveTo>
                    <a:lnTo>
                      <a:pt x="50" y="0"/>
                    </a:lnTo>
                    <a:lnTo>
                      <a:pt x="50" y="176"/>
                    </a:lnTo>
                    <a:lnTo>
                      <a:pt x="0" y="256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761560" y="5234040"/>
                <a:ext cx="71280" cy="323640"/>
              </a:xfrm>
              <a:custGeom>
                <a:avLst/>
                <a:gdLst/>
                <a:ahLst/>
                <a:rect l="l" t="t" r="r" b="b"/>
                <a:pathLst>
                  <a:path w="53" h="229">
                    <a:moveTo>
                      <a:pt x="0" y="50"/>
                    </a:moveTo>
                    <a:lnTo>
                      <a:pt x="52" y="0"/>
                    </a:lnTo>
                    <a:lnTo>
                      <a:pt x="52" y="176"/>
                    </a:lnTo>
                    <a:lnTo>
                      <a:pt x="0" y="228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525760" y="4940280"/>
                <a:ext cx="349920" cy="366120"/>
              </a:xfrm>
              <a:custGeom>
                <a:avLst/>
                <a:gdLst/>
                <a:ahLst/>
                <a:rect l="l" t="t" r="r" b="b"/>
                <a:pathLst>
                  <a:path w="260" h="259">
                    <a:moveTo>
                      <a:pt x="49" y="30"/>
                    </a:moveTo>
                    <a:lnTo>
                      <a:pt x="66" y="49"/>
                    </a:lnTo>
                    <a:lnTo>
                      <a:pt x="146" y="0"/>
                    </a:lnTo>
                    <a:lnTo>
                      <a:pt x="259" y="114"/>
                    </a:lnTo>
                    <a:lnTo>
                      <a:pt x="210" y="192"/>
                    </a:lnTo>
                    <a:lnTo>
                      <a:pt x="227" y="207"/>
                    </a:lnTo>
                    <a:lnTo>
                      <a:pt x="176" y="258"/>
                    </a:lnTo>
                    <a:lnTo>
                      <a:pt x="0" y="80"/>
                    </a:lnTo>
                    <a:lnTo>
                      <a:pt x="49" y="3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491200" y="5478840"/>
                <a:ext cx="203040" cy="228960"/>
              </a:xfrm>
              <a:custGeom>
                <a:avLst/>
                <a:gdLst/>
                <a:ahLst/>
                <a:rect l="l" t="t" r="r" b="b"/>
                <a:pathLst>
                  <a:path w="151" h="162">
                    <a:moveTo>
                      <a:pt x="25" y="0"/>
                    </a:moveTo>
                    <a:lnTo>
                      <a:pt x="150" y="123"/>
                    </a:lnTo>
                    <a:lnTo>
                      <a:pt x="123" y="161"/>
                    </a:lnTo>
                    <a:lnTo>
                      <a:pt x="0" y="37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133720" y="5686920"/>
              <a:ext cx="1143000" cy="319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JBuil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949560" y="4648320"/>
            <a:ext cx="774720" cy="1523880"/>
            <a:chOff x="3949560" y="4648320"/>
            <a:chExt cx="774720" cy="1523880"/>
          </a:xfrm>
        </p:grpSpPr>
        <p:sp>
          <p:nvSpPr>
            <p:cNvPr id="147" name=""/>
            <p:cNvSpPr/>
            <p:nvPr/>
          </p:nvSpPr>
          <p:spPr>
            <a:xfrm>
              <a:off x="3949560" y="5486400"/>
              <a:ext cx="762120" cy="6858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Servl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62520" y="4648320"/>
              <a:ext cx="761760" cy="6858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HT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JS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876920" y="1676520"/>
            <a:ext cx="4038120" cy="2286000"/>
            <a:chOff x="4876920" y="1676520"/>
            <a:chExt cx="4038120" cy="2286000"/>
          </a:xfrm>
        </p:grpSpPr>
        <p:grpSp>
          <p:nvGrpSpPr>
            <p:cNvPr id="150" name=""/>
            <p:cNvGrpSpPr/>
            <p:nvPr/>
          </p:nvGrpSpPr>
          <p:grpSpPr>
            <a:xfrm>
              <a:off x="4876920" y="1676520"/>
              <a:ext cx="4038120" cy="1474560"/>
              <a:chOff x="4876920" y="1676520"/>
              <a:chExt cx="4038120" cy="147456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4876920" y="1676520"/>
                <a:ext cx="1904760" cy="1474560"/>
                <a:chOff x="4876920" y="1676520"/>
                <a:chExt cx="1904760" cy="1474560"/>
              </a:xfrm>
            </p:grpSpPr>
            <p:grpSp>
              <p:nvGrpSpPr>
                <p:cNvPr id="152" name=""/>
                <p:cNvGrpSpPr/>
                <p:nvPr/>
              </p:nvGrpSpPr>
              <p:grpSpPr>
                <a:xfrm>
                  <a:off x="4876920" y="1676520"/>
                  <a:ext cx="1904760" cy="1474560"/>
                  <a:chOff x="4876920" y="1676520"/>
                  <a:chExt cx="1904760" cy="1474560"/>
                </a:xfrm>
              </p:grpSpPr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4876920" y="1703520"/>
                    <a:ext cx="1904760" cy="1447560"/>
                    <a:chOff x="4876920" y="1703520"/>
                    <a:chExt cx="1904760" cy="144756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4876920" y="1703520"/>
                      <a:ext cx="1904760" cy="14475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99ff"/>
                        </a:gs>
                        <a:gs pos="100000">
                          <a:srgbClr val="113559"/>
                        </a:gs>
                      </a:gsLst>
                      <a:lin ang="13500000"/>
                    </a:gradFill>
                    <a:ln w="0">
                      <a:noFill/>
                    </a:ln>
                    <a:effectLst>
                      <a:outerShdw dist="17819" dir="2700000" blurRad="0" rotWithShape="0">
                        <a:srgbClr val="1e5b98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155" name="newlogo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2599560"/>
                      <a:ext cx="1746000" cy="52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156" name=""/>
                  <p:cNvSpPr/>
                  <p:nvPr/>
                </p:nvSpPr>
                <p:spPr>
                  <a:xfrm>
                    <a:off x="5292720" y="1676520"/>
                    <a:ext cx="118332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7819" dir="2700000" blurRad="0" rotWithShape="0">
                      <a:srgbClr val="791e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 Narrow"/>
                      </a:rPr>
                      <a:t>EJB Serve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" name=""/>
                <p:cNvSpPr/>
                <p:nvPr/>
              </p:nvSpPr>
              <p:spPr>
                <a:xfrm>
                  <a:off x="5638680" y="2057400"/>
                  <a:ext cx="457200" cy="457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3300"/>
                    </a:gs>
                    <a:gs pos="100000">
                      <a:srgbClr val="471100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7819" dir="2700000" blurRad="0" rotWithShape="0">
                    <a:srgbClr val="791e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 Narrow"/>
                    </a:rPr>
                    <a:t>EJB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7010280" y="1676520"/>
                <a:ext cx="1904760" cy="1474560"/>
                <a:chOff x="7010280" y="1676520"/>
                <a:chExt cx="1904760" cy="1474560"/>
              </a:xfrm>
            </p:grpSpPr>
            <p:grpSp>
              <p:nvGrpSpPr>
                <p:cNvPr id="159" name=""/>
                <p:cNvGrpSpPr/>
                <p:nvPr/>
              </p:nvGrpSpPr>
              <p:grpSpPr>
                <a:xfrm>
                  <a:off x="7010280" y="1676520"/>
                  <a:ext cx="1904760" cy="1474560"/>
                  <a:chOff x="7010280" y="1676520"/>
                  <a:chExt cx="1904760" cy="1474560"/>
                </a:xfrm>
              </p:grpSpPr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7010280" y="1703520"/>
                    <a:ext cx="1904760" cy="1447560"/>
                    <a:chOff x="7010280" y="1703520"/>
                    <a:chExt cx="1904760" cy="144756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7010280" y="1703520"/>
                      <a:ext cx="1904760" cy="14475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99ff"/>
                        </a:gs>
                        <a:gs pos="100000">
                          <a:srgbClr val="113559"/>
                        </a:gs>
                      </a:gsLst>
                      <a:lin ang="13500000"/>
                    </a:gradFill>
                    <a:ln w="0">
                      <a:noFill/>
                    </a:ln>
                    <a:effectLst>
                      <a:outerShdw dist="17819" dir="2700000" blurRad="0" rotWithShape="0">
                        <a:srgbClr val="1e5b98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162" name="newlogo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086240" y="2599560"/>
                      <a:ext cx="1746000" cy="52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163" name=""/>
                  <p:cNvSpPr/>
                  <p:nvPr/>
                </p:nvSpPr>
                <p:spPr>
                  <a:xfrm>
                    <a:off x="7426080" y="1676520"/>
                    <a:ext cx="118332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7819" dir="2700000" blurRad="0" rotWithShape="0">
                      <a:srgbClr val="791e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 Narrow"/>
                      </a:rPr>
                      <a:t>EJB Serve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7772040" y="2057400"/>
                  <a:ext cx="457200" cy="457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3300"/>
                    </a:gs>
                    <a:gs pos="100000">
                      <a:srgbClr val="471100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7819" dir="2700000" blurRad="0" rotWithShape="0">
                    <a:srgbClr val="791e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 Narrow"/>
                    </a:rPr>
                    <a:t>EJB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" name=""/>
            <p:cNvSpPr/>
            <p:nvPr/>
          </p:nvSpPr>
          <p:spPr>
            <a:xfrm>
              <a:off x="5943600" y="3276720"/>
              <a:ext cx="762120" cy="6858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HT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JS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74000" y="3276720"/>
              <a:ext cx="761760" cy="6858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Servl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600200" y="2590920"/>
            <a:ext cx="99072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09680" y="3200400"/>
            <a:ext cx="1143000" cy="457200"/>
            <a:chOff x="2209680" y="3200400"/>
            <a:chExt cx="1143000" cy="457200"/>
          </a:xfrm>
        </p:grpSpPr>
        <p:sp>
          <p:nvSpPr>
            <p:cNvPr id="169" name=""/>
            <p:cNvSpPr/>
            <p:nvPr/>
          </p:nvSpPr>
          <p:spPr>
            <a:xfrm flipH="1">
              <a:off x="2209680" y="3200400"/>
              <a:ext cx="609840" cy="4572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19520" y="3200400"/>
              <a:ext cx="0" cy="4572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19520" y="3200400"/>
              <a:ext cx="533160" cy="4572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447560" y="4038480"/>
            <a:ext cx="1219320" cy="762120"/>
            <a:chOff x="1447560" y="4038480"/>
            <a:chExt cx="1219320" cy="762120"/>
          </a:xfrm>
        </p:grpSpPr>
        <p:sp>
          <p:nvSpPr>
            <p:cNvPr id="173" name=""/>
            <p:cNvSpPr/>
            <p:nvPr/>
          </p:nvSpPr>
          <p:spPr>
            <a:xfrm flipH="1">
              <a:off x="1447560" y="4038480"/>
              <a:ext cx="533160" cy="7621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4114800"/>
              <a:ext cx="1218960" cy="6858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600200" y="5105520"/>
            <a:ext cx="99072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895480" y="5105520"/>
            <a:ext cx="1067040" cy="457200"/>
            <a:chOff x="2895480" y="5105520"/>
            <a:chExt cx="1067040" cy="457200"/>
          </a:xfrm>
        </p:grpSpPr>
        <p:sp>
          <p:nvSpPr>
            <p:cNvPr id="177" name=""/>
            <p:cNvSpPr/>
            <p:nvPr/>
          </p:nvSpPr>
          <p:spPr>
            <a:xfrm>
              <a:off x="2895480" y="5105520"/>
              <a:ext cx="99072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1800" y="5562720"/>
              <a:ext cx="99072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 flipV="1">
            <a:off x="4876920" y="4876920"/>
            <a:ext cx="1371600" cy="4572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714640" y="2438280"/>
            <a:ext cx="2286360" cy="1981440"/>
            <a:chOff x="5714640" y="2438280"/>
            <a:chExt cx="2286360" cy="1981440"/>
          </a:xfrm>
        </p:grpSpPr>
        <p:sp>
          <p:nvSpPr>
            <p:cNvPr id="181" name=""/>
            <p:cNvSpPr/>
            <p:nvPr/>
          </p:nvSpPr>
          <p:spPr>
            <a:xfrm flipV="1">
              <a:off x="6324480" y="3962520"/>
              <a:ext cx="0" cy="4572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7467480" y="3962520"/>
              <a:ext cx="0" cy="4572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5714640" y="2438280"/>
              <a:ext cx="609480" cy="198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467480" y="2514600"/>
              <a:ext cx="533520" cy="19051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-1800" y="2361960"/>
            <a:ext cx="159948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Bean Provi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9920" y="4876560"/>
            <a:ext cx="125172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Assemb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23040" y="4495680"/>
            <a:ext cx="107820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Deploy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EJB Characteristic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356400" indent="-3564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component typically contains business logic that operates on enterprise data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56400" indent="-3564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n EJB is created and managed at runtime by the EJB container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56400" indent="-3564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t can be manipulated at runtime by editing  deployment attributes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56400" indent="-3564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t can be included in an application without requiring source code modific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dentifying an EJB componen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124080" y="2209680"/>
            <a:ext cx="3124440" cy="3429000"/>
            <a:chOff x="3124080" y="2209680"/>
            <a:chExt cx="3124440" cy="3429000"/>
          </a:xfrm>
        </p:grpSpPr>
        <p:sp>
          <p:nvSpPr>
            <p:cNvPr id="192" name=""/>
            <p:cNvSpPr/>
            <p:nvPr/>
          </p:nvSpPr>
          <p:spPr>
            <a:xfrm>
              <a:off x="3124080" y="2209680"/>
              <a:ext cx="3124440" cy="3429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65520" y="2260440"/>
              <a:ext cx="189972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 Narrow"/>
                </a:rPr>
                <a:t>EJB (ejb-jar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238560" y="2806560"/>
            <a:ext cx="1066680" cy="106704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EJB H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78440" y="2819520"/>
            <a:ext cx="1066680" cy="10666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EJ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Rem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40360" y="3911760"/>
            <a:ext cx="1066680" cy="10666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Be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In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01920" y="5105520"/>
            <a:ext cx="2743200" cy="4572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Deployment Descrip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eter Marquez</dc:creator>
  <dc:description/>
  <dc:language>en-US</dc:language>
  <cp:lastModifiedBy>delphi5</cp:lastModifiedBy>
  <cp:lastPrinted>1999-07-17T02:33:34Z</cp:lastPrinted>
  <dcterms:modified xsi:type="dcterms:W3CDTF">1999-09-28T16:35:45Z</dcterms:modified>
  <cp:revision>688</cp:revision>
  <dc:subject/>
  <dc:title>No Slide Title</dc:title>
</cp:coreProperties>
</file>