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65938" cy="9151938"/>
  <p:custShowLst>
    <p:custShow name="Plat Devcon 1.5 - 2 hour" id="0">
      <p:sldLst>
        <p:sld r:id="rId5"/>
      </p:sldLst>
    </p:custShow>
    <p:custShow name="Custom Show 1" id="1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65200" cy="91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7648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7280" y="-1440"/>
            <a:ext cx="297684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11080" y="299880"/>
            <a:ext cx="5284800" cy="396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533160" y="4571640"/>
            <a:ext cx="601956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1440" y="8693280"/>
            <a:ext cx="297648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opyright 1996 ICON Compu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33920" y="8534520"/>
            <a:ext cx="297648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F7D645-F72C-4402-A176-03A0B9EB60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7240" y="8786880"/>
            <a:ext cx="337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ICON Comput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iconcomp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733920" y="8534520"/>
            <a:ext cx="297648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149869-BB41-4A1B-8089-1403C8B8C0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1440" y="-1440"/>
            <a:ext cx="297648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887280" y="-1440"/>
            <a:ext cx="297684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811080" y="299880"/>
            <a:ext cx="5284800" cy="396432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533160" y="4571640"/>
            <a:ext cx="601956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about polymorphism?? Are we not compromising that holy grail by describing attributes? Are we not giving away too much in what should have been an interface specifica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member some basic poi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capsulation is about hiding implementation decisions, not about refusing to tell the client about the behavior guarantees you do, and do not, mak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already know that an interface specified merely as a list of operation names and signatures is really quite inadequate for a client’s purpose. You have to describe behavior guarantees as well. The trick is to describe these guarantees in a way that tells a client enough, but still permits many different implementations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what polymorphism is all about -- specifying visible behavior without compromising implementation alterna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ce, we specify a type based on a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inimal abstract model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how any valid implemen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811080" y="299880"/>
            <a:ext cx="5284800" cy="396432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533160" y="4571640"/>
            <a:ext cx="601956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 specs can be made as precise as appropriate, even to the point of being machine checkable. While this may seem alien at the level of requirements -- where we are accustomed to being quite fuzzy about what we mean, and to avoiding tricky issues under the guise of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“oh, that’s a design detai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” -- the discipline it enforces actually has very tangible benefi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e very concrete benefit is that tests are specified as an incidental side effect of writing a precise specification of behavior. If, for any test case, this specified outcome did not result, then the test has failed the specific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course, a given implementation may not have anything that directly represents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However, as we said earlier, it must have something that can b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pp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o these attributes, even if it takes a complex function to compute this mapping. If this mapping -- formally called a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bstraction fun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trieva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-- is written down in the code, then the above specification becomes a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xecutable test specification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 wel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811080" y="299880"/>
            <a:ext cx="5286600" cy="396432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533160" y="4571640"/>
            <a:ext cx="60195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dealing with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Business Componen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ere are a few very fundamental issues you will f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Higher level par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- a business components, lik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rder Tak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is an abstraction of many different traditional “objects” and “classes”. This provides a simpler view of the parts of a complex system, and defines units that are much more practical to understand, deploy, manage, version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Higher level connecto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- just as we want to hide the details of fine-grained objects by abstracting into components, we also want to defer the details of the protocol of interaction between those components. For example, if we want the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order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vent from th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rder Tak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o trigger the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shi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method on th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there may be a complex protocol involving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vent channels, registration, de-registration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c. However, at the component architecture level we want to simply abstract this protocol away by saying there is a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Ev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onnector between th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vent and th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hi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metho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Separate view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- each business component has a different, slightly overlapping view of the underlying business objects. They both deal with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rder Tak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omponent is built to expect customers to simply be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Buy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On the other hand, th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omponent could not care less about the buying characteristics of customers; it only cares that they are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Receiv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of shipments. As a result, it can be used to ship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stomers;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 to ship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uppli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back to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 or to send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epartmen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ithin the same company. Such separate views allows flexible assembly and use in other contex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course, if you support separate views, you must also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integ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ose views both conceptually (using models), and at the implementation level (shared objects, or 2 separate database tables with some foreign-key providing a cross-component link across federated database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cise interfa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- and we want to do all this with sufficient precision and black-box descriptions to permit 3rd party construction and assembly of par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, where on this picture is COM+? Corba? EJB?? Or a 3-tiered architecture? This zoomed out view elides those details. We would expect the details of the &lt;&lt;evemt&gt;&gt; connector to differ; and the mechanisms for installing the components and connecting them to each oth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811080" y="299880"/>
            <a:ext cx="5286600" cy="396432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533160" y="4571640"/>
            <a:ext cx="60195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“business component” may be large-grained, and may actually span multiple tiers in a distributed architecture. Our previous view was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Zoomed-ou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- we only way two components with an event connector between th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we zoom in, each component may actually turn out to have parts on every tier: thus the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Shipp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may hav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r-Interf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the pure presentation and interaction aspects, a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“thin”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cal Process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the “fat” part of a “fat” client, including caching, single-user logic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usiness Logi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the primary enterprise tier for business rules across multiple users and 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usiness Dat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the data stores, typically relational databases, involved with data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 each business component could have all these tiers (or it might have fewer: you may decide to package th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o it requires an external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ata Acces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omponent to connect to, define its database schema, and interact with at the data-access level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one large-grained business component must interact with another, that interaction will typically happen at the tier of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usiness Logi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-- I.e. the tier where the application servers r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re are, of course, many other ways of packaging finer-grained reusable compon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I Parts: fields, trees, lists, master-detail pair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main Objects + UI Panels: a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omponent might include the domain object and a user-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 components: data access, logging, events, security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 txBox="1"/>
          <p:nvPr/>
        </p:nvSpPr>
        <p:spPr>
          <a:xfrm>
            <a:off x="3733920" y="8534520"/>
            <a:ext cx="297648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FE2CE5-836F-4581-9B55-3FD118D8FA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-1440" y="-1440"/>
            <a:ext cx="297648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887280" y="-1440"/>
            <a:ext cx="297684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41F6-03BD-4ED9-B6DD-6F110939F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4920"/>
            <a:ext cx="77724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2293-9D13-4F9E-9DF9-3D1ADB6A0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492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492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506B-BEEA-4E85-A5DE-7AB2CC650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2084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2084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492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492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492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EFBF-1F8B-4D64-A6CC-D6FD4FB1B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5760"/>
            <a:ext cx="777240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1492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53A5-E738-4227-BE78-663434C14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1492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14920"/>
            <a:ext cx="77724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14920"/>
            <a:ext cx="77724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492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1492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2084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2084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1492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1492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14920"/>
            <a:ext cx="2502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0E91-9B57-4B16-BF7C-2FAD0F3CB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70E8-D921-4AB3-B418-1CCE38827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B313-14D6-4214-80B2-38B2F6555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5760"/>
            <a:ext cx="777240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EF5F-FC15-4191-AA96-4BDF10CAE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492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C164-6FB6-4238-9574-AD63E7D06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492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3EC4-5F93-4C23-9A51-139892079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20840"/>
            <a:ext cx="37926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4920"/>
            <a:ext cx="77724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06B5-DB9C-4616-82C1-480EEE93C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9440" indent="-177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9440" indent="-177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9440" indent="-177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440" y="6477120"/>
            <a:ext cx="68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©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06480"/>
            <a:ext cx="9142560" cy="0"/>
          </a:xfrm>
          <a:prstGeom prst="line">
            <a:avLst/>
          </a:prstGeom>
          <a:ln w="50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276360" y="6400440"/>
            <a:ext cx="5638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catalysis.org    www.cai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fld id="{D63C6D8B-9113-4640-A9B7-BFE9870BCB9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807400" y="6613560"/>
            <a:ext cx="33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9646-0903-4235-A40D-049CA59A0E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world1999%20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770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57200"/>
            <a:ext cx="7709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JavaBeans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cification, Design, and Test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ing Cat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4241520"/>
            <a:ext cx="7543800" cy="22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ts val="25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ts val="25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4197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25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smond D’Souza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ouzad@acm.org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ior VP, Component-Base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onent Technology Center, Computer Associ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ww.cai.com        www.catalysis.org      www.iconcomp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705720" y="3689280"/>
            <a:ext cx="1747800" cy="2732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rastructur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275760"/>
            <a:ext cx="87631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must share Architectural Standar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“horizontal” infrastructur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 broker, interface and server repository, transaction, security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G, Microsoft rapidly defining many global “standards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“vertical” models of domain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a “Customer”, “Phone Call”, “Order”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nents must talk the same “domain languag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G defines “Vertical” architectures standards as we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“connector” mechanisms between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 request, asynchronous message, event, workflow, repl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transparency: RMI, CORBA,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 of code vs. data, mobile objects: Java, ActiveX, Tele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47960" y="6553080"/>
            <a:ext cx="3809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43760" y="3216240"/>
            <a:ext cx="73080" cy="1224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16840" y="3062160"/>
            <a:ext cx="43668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453520" y="3184560"/>
            <a:ext cx="73080" cy="1220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32640" y="3276720"/>
            <a:ext cx="73080" cy="1220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3124080"/>
            <a:ext cx="436320" cy="3668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42040" y="3246480"/>
            <a:ext cx="73080" cy="1220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42360" y="3230640"/>
            <a:ext cx="109440" cy="9216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51840" y="327672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51800" y="327672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562960" y="321624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972040" y="1447920"/>
            <a:ext cx="2943360" cy="4803120"/>
            <a:chOff x="5972040" y="1447920"/>
            <a:chExt cx="2943360" cy="4803120"/>
          </a:xfrm>
        </p:grpSpPr>
        <p:grpSp>
          <p:nvGrpSpPr>
            <p:cNvPr id="416" name=""/>
            <p:cNvGrpSpPr/>
            <p:nvPr/>
          </p:nvGrpSpPr>
          <p:grpSpPr>
            <a:xfrm>
              <a:off x="5972040" y="1447920"/>
              <a:ext cx="2875320" cy="1676160"/>
              <a:chOff x="5972040" y="1447920"/>
              <a:chExt cx="2875320" cy="1676160"/>
            </a:xfrm>
          </p:grpSpPr>
          <p:sp>
            <p:nvSpPr>
              <p:cNvPr id="417" name=""/>
              <p:cNvSpPr/>
              <p:nvPr/>
            </p:nvSpPr>
            <p:spPr>
              <a:xfrm>
                <a:off x="5972040" y="1447920"/>
                <a:ext cx="287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synchronous? event? work-flow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15200" y="1828800"/>
                <a:ext cx="22860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67480" y="1828800"/>
                <a:ext cx="137160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823440" y="3444840"/>
              <a:ext cx="2091960" cy="2806200"/>
              <a:chOff x="6823440" y="3444840"/>
              <a:chExt cx="2091960" cy="2806200"/>
            </a:xfrm>
          </p:grpSpPr>
          <p:sp>
            <p:nvSpPr>
              <p:cNvPr id="421" name=""/>
              <p:cNvSpPr/>
              <p:nvPr/>
            </p:nvSpPr>
            <p:spPr>
              <a:xfrm>
                <a:off x="6823440" y="5730840"/>
                <a:ext cx="1683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What is customer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phone call…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7543800" y="3444840"/>
                <a:ext cx="15264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620120" y="3444840"/>
                <a:ext cx="129528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"/>
          <p:cNvSpPr/>
          <p:nvPr/>
        </p:nvSpPr>
        <p:spPr>
          <a:xfrm>
            <a:off x="8820000" y="3171960"/>
            <a:ext cx="109800" cy="9180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76FB-57B6-41E5-B3BF-E46E6BB600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Components and Objects Differen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32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ponents can be described a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emphasize encapsulation, interfaces, polymorphic late-bound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new components will be built from traditional objects in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what did traditional object-oriented development do wro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ue emphasis on class and implementation inheritance rather than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st one basic form of “connectors” -- explicit message inv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fortunate language-imposed dependencies on class source code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ndaries such as host, programming language visible to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structure services ignored -- persistence, transactions, security, discovery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 can be larger than a traditional single “object” or “clas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00240" y="6476760"/>
            <a:ext cx="380988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04920" y="2743200"/>
            <a:ext cx="8686800" cy="3708360"/>
            <a:chOff x="304920" y="2743200"/>
            <a:chExt cx="8686800" cy="3708360"/>
          </a:xfrm>
        </p:grpSpPr>
        <p:grpSp>
          <p:nvGrpSpPr>
            <p:cNvPr id="429" name=""/>
            <p:cNvGrpSpPr/>
            <p:nvPr/>
          </p:nvGrpSpPr>
          <p:grpSpPr>
            <a:xfrm>
              <a:off x="762120" y="4876920"/>
              <a:ext cx="1675440" cy="1218960"/>
              <a:chOff x="762120" y="4876920"/>
              <a:chExt cx="1675440" cy="1218960"/>
            </a:xfrm>
          </p:grpSpPr>
          <p:sp>
            <p:nvSpPr>
              <p:cNvPr id="430" name=""/>
              <p:cNvSpPr/>
              <p:nvPr/>
            </p:nvSpPr>
            <p:spPr>
              <a:xfrm>
                <a:off x="1371240" y="4876920"/>
                <a:ext cx="456840" cy="304560"/>
              </a:xfrm>
              <a:prstGeom prst="rect">
                <a:avLst/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66680" y="5791320"/>
                <a:ext cx="456840" cy="304560"/>
              </a:xfrm>
              <a:prstGeom prst="rect">
                <a:avLst/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828440" y="5791320"/>
                <a:ext cx="456840" cy="304560"/>
              </a:xfrm>
              <a:prstGeom prst="rect">
                <a:avLst/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23880" y="5181480"/>
                <a:ext cx="151920" cy="152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48" y="0"/>
                    </a:moveTo>
                    <a:lnTo>
                      <a:pt x="0" y="96"/>
                    </a:lnTo>
                    <a:lnTo>
                      <a:pt x="96" y="9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95280" y="5562720"/>
                <a:ext cx="761400" cy="228600"/>
              </a:xfrm>
              <a:custGeom>
                <a:avLst/>
                <a:gdLst/>
                <a:ahLst/>
                <a:rect l="l" t="t" r="r" b="b"/>
                <a:pathLst>
                  <a:path w="480" h="144">
                    <a:moveTo>
                      <a:pt x="0" y="144"/>
                    </a:moveTo>
                    <a:lnTo>
                      <a:pt x="0" y="0"/>
                    </a:lnTo>
                    <a:lnTo>
                      <a:pt x="480" y="0"/>
                    </a:lnTo>
                    <a:lnTo>
                      <a:pt x="48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99840" y="5334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762120" y="4952880"/>
                <a:ext cx="609120" cy="122400"/>
                <a:chOff x="762120" y="4952880"/>
                <a:chExt cx="609120" cy="122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62120" y="4952880"/>
                  <a:ext cx="121680" cy="122400"/>
                </a:xfrm>
                <a:prstGeom prst="ellipse">
                  <a:avLst/>
                </a:prstGeom>
                <a:solidFill>
                  <a:srgbClr val="cc00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83800" y="5014080"/>
                  <a:ext cx="48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828440" y="4952880"/>
                <a:ext cx="609120" cy="122400"/>
                <a:chOff x="1828440" y="4952880"/>
                <a:chExt cx="609120" cy="122400"/>
              </a:xfrm>
            </p:grpSpPr>
            <p:sp>
              <p:nvSpPr>
                <p:cNvPr id="440" name=""/>
                <p:cNvSpPr/>
                <p:nvPr/>
              </p:nvSpPr>
              <p:spPr>
                <a:xfrm flipH="1">
                  <a:off x="2315880" y="4952880"/>
                  <a:ext cx="121680" cy="122400"/>
                </a:xfrm>
                <a:prstGeom prst="ellipse">
                  <a:avLst/>
                </a:prstGeom>
                <a:solidFill>
                  <a:srgbClr val="3366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1828440" y="5014080"/>
                  <a:ext cx="48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3276720" y="4876920"/>
              <a:ext cx="2590560" cy="1143000"/>
              <a:chOff x="3276720" y="4876920"/>
              <a:chExt cx="2590560" cy="1143000"/>
            </a:xfrm>
          </p:grpSpPr>
          <p:sp>
            <p:nvSpPr>
              <p:cNvPr id="443" name=""/>
              <p:cNvSpPr/>
              <p:nvPr/>
            </p:nvSpPr>
            <p:spPr>
              <a:xfrm>
                <a:off x="4952880" y="5334120"/>
                <a:ext cx="685440" cy="3808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bj-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4960" y="5334120"/>
                <a:ext cx="685440" cy="3808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bj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190760" y="5562720"/>
                <a:ext cx="76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276720" y="4876920"/>
                <a:ext cx="2590560" cy="11430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ost/langu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6400800" y="4876920"/>
              <a:ext cx="2590920" cy="1143000"/>
              <a:chOff x="6400800" y="4876920"/>
              <a:chExt cx="2590920" cy="1143000"/>
            </a:xfrm>
          </p:grpSpPr>
          <p:sp>
            <p:nvSpPr>
              <p:cNvPr id="448" name=""/>
              <p:cNvSpPr/>
              <p:nvPr/>
            </p:nvSpPr>
            <p:spPr>
              <a:xfrm>
                <a:off x="8077320" y="5334120"/>
                <a:ext cx="685800" cy="3808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bj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629400" y="5334120"/>
                <a:ext cx="685800" cy="3808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bj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315200" y="556272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00800" y="4876920"/>
                <a:ext cx="2590920" cy="11430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ost/langu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638680" y="548640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09880" y="6172200"/>
              <a:ext cx="4800600" cy="279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frastructure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2743200"/>
              <a:ext cx="761760" cy="2590920"/>
            </a:xfrm>
            <a:custGeom>
              <a:avLst/>
              <a:gdLst/>
              <a:ahLst/>
              <a:rect l="l" t="t" r="r" b="b"/>
              <a:pathLst>
                <a:path w="480" h="1536">
                  <a:moveTo>
                    <a:pt x="288" y="0"/>
                  </a:moveTo>
                  <a:lnTo>
                    <a:pt x="0" y="192"/>
                  </a:lnTo>
                  <a:lnTo>
                    <a:pt x="0" y="1536"/>
                  </a:lnTo>
                  <a:lnTo>
                    <a:pt x="480" y="15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67480" y="3048120"/>
              <a:ext cx="1447920" cy="2438280"/>
            </a:xfrm>
            <a:custGeom>
              <a:avLst/>
              <a:gdLst/>
              <a:ahLst/>
              <a:rect l="l" t="t" r="r" b="b"/>
              <a:pathLst>
                <a:path w="816" h="1440">
                  <a:moveTo>
                    <a:pt x="0" y="0"/>
                  </a:moveTo>
                  <a:lnTo>
                    <a:pt x="816" y="0"/>
                  </a:lnTo>
                  <a:lnTo>
                    <a:pt x="816" y="864"/>
                  </a:lnTo>
                  <a:lnTo>
                    <a:pt x="144" y="14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0120" y="3733920"/>
              <a:ext cx="990360" cy="1125360"/>
            </a:xfrm>
            <a:custGeom>
              <a:avLst/>
              <a:gdLst/>
              <a:ahLst/>
              <a:rect l="l" t="t" r="r" b="b"/>
              <a:pathLst>
                <a:path w="624" h="613">
                  <a:moveTo>
                    <a:pt x="0" y="0"/>
                  </a:moveTo>
                  <a:lnTo>
                    <a:pt x="624" y="0"/>
                  </a:lnTo>
                  <a:lnTo>
                    <a:pt x="624" y="336"/>
                  </a:lnTo>
                  <a:lnTo>
                    <a:pt x="144" y="6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19520" y="4038480"/>
              <a:ext cx="914400" cy="2286000"/>
            </a:xfrm>
            <a:custGeom>
              <a:avLst/>
              <a:gdLst/>
              <a:ahLst/>
              <a:rect l="l" t="t" r="r" b="b"/>
              <a:pathLst>
                <a:path w="576" h="1200">
                  <a:moveTo>
                    <a:pt x="0" y="0"/>
                  </a:moveTo>
                  <a:lnTo>
                    <a:pt x="0" y="1200"/>
                  </a:lnTo>
                  <a:lnTo>
                    <a:pt x="576" y="12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9480" y="3429000"/>
              <a:ext cx="685800" cy="1447920"/>
            </a:xfrm>
            <a:custGeom>
              <a:avLst/>
              <a:gdLst/>
              <a:ahLst/>
              <a:rect l="l" t="t" r="r" b="b"/>
              <a:pathLst>
                <a:path w="432" h="816">
                  <a:moveTo>
                    <a:pt x="144" y="0"/>
                  </a:moveTo>
                  <a:lnTo>
                    <a:pt x="0" y="96"/>
                  </a:lnTo>
                  <a:lnTo>
                    <a:pt x="0" y="672"/>
                  </a:lnTo>
                  <a:lnTo>
                    <a:pt x="432" y="8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19920" y="4419720"/>
              <a:ext cx="457200" cy="457200"/>
            </a:xfrm>
            <a:custGeom>
              <a:avLst/>
              <a:gdLst/>
              <a:ahLst/>
              <a:rect l="l" t="t" r="r" b="b"/>
              <a:pathLst>
                <a:path w="432" h="816">
                  <a:moveTo>
                    <a:pt x="144" y="0"/>
                  </a:moveTo>
                  <a:lnTo>
                    <a:pt x="0" y="96"/>
                  </a:lnTo>
                  <a:lnTo>
                    <a:pt x="0" y="672"/>
                  </a:lnTo>
                  <a:lnTo>
                    <a:pt x="432" y="8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B89D-EC0E-49E2-84C6-33E9E7B702E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Granularity and Bind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6781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ularity spans th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I widgets: combo-box,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” and component-document elements: spreadsh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-grain components: scheduler, inventory manag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components are often not “business objects”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OOA/D will not lead automatically to component desig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ning component can usually be model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it need not correspond to a single OOPL objec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s may be exposed by separate constitu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e of binding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7960" y="6400440"/>
            <a:ext cx="380988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315200" y="2362320"/>
            <a:ext cx="1600200" cy="1523880"/>
            <a:chOff x="7315200" y="2362320"/>
            <a:chExt cx="1600200" cy="1523880"/>
          </a:xfrm>
        </p:grpSpPr>
        <p:sp>
          <p:nvSpPr>
            <p:cNvPr id="464" name=""/>
            <p:cNvSpPr/>
            <p:nvPr/>
          </p:nvSpPr>
          <p:spPr>
            <a:xfrm>
              <a:off x="7696080" y="2362320"/>
              <a:ext cx="121932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1000" y="2590920"/>
              <a:ext cx="38088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29600" y="3200400"/>
              <a:ext cx="380880" cy="380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1880" y="3429000"/>
              <a:ext cx="381240" cy="380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15200" y="2666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67480" y="2743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8720" y="3276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01000" y="3352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01000" y="3581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15328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8381520" y="2666880"/>
              <a:ext cx="381240" cy="152640"/>
              <a:chOff x="8381520" y="2666880"/>
              <a:chExt cx="381240" cy="152640"/>
            </a:xfrm>
          </p:grpSpPr>
          <p:sp>
            <p:nvSpPr>
              <p:cNvPr id="475" name=""/>
              <p:cNvSpPr/>
              <p:nvPr/>
            </p:nvSpPr>
            <p:spPr>
              <a:xfrm flipH="1">
                <a:off x="8610120" y="26668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8381520" y="274320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2351-BFC7-489E-8F9A-92700E5BAF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+ Objects: Best of Bo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33160"/>
          </a:xfrm>
          <a:prstGeom prst="rect">
            <a:avLst/>
          </a:prstGeom>
          <a:solidFill>
            <a:srgbClr val="ffcc00"/>
          </a:solidFill>
          <a:ln w="28440">
            <a:solidFill>
              <a:srgbClr val="cc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g together components and objects at an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v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n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ind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2347920"/>
            <a:ext cx="5451480" cy="2830680"/>
          </a:xfrm>
          <a:custGeom>
            <a:avLst/>
            <a:gdLst/>
            <a:ahLst/>
            <a:rect l="l" t="t" r="r" b="b"/>
            <a:pathLst>
              <a:path w="4080" h="2118">
                <a:moveTo>
                  <a:pt x="1512" y="1716"/>
                </a:moveTo>
                <a:lnTo>
                  <a:pt x="1884" y="2118"/>
                </a:lnTo>
                <a:lnTo>
                  <a:pt x="4080" y="2118"/>
                </a:lnTo>
                <a:lnTo>
                  <a:pt x="4080" y="1088"/>
                </a:lnTo>
                <a:lnTo>
                  <a:pt x="3660" y="1088"/>
                </a:lnTo>
                <a:lnTo>
                  <a:pt x="3660" y="742"/>
                </a:lnTo>
                <a:lnTo>
                  <a:pt x="4080" y="744"/>
                </a:lnTo>
                <a:lnTo>
                  <a:pt x="4080" y="286"/>
                </a:lnTo>
                <a:lnTo>
                  <a:pt x="3312" y="297"/>
                </a:lnTo>
                <a:lnTo>
                  <a:pt x="3126" y="0"/>
                </a:lnTo>
                <a:lnTo>
                  <a:pt x="2952" y="288"/>
                </a:lnTo>
                <a:lnTo>
                  <a:pt x="453" y="286"/>
                </a:lnTo>
                <a:lnTo>
                  <a:pt x="453" y="1316"/>
                </a:lnTo>
                <a:lnTo>
                  <a:pt x="0" y="1515"/>
                </a:lnTo>
                <a:lnTo>
                  <a:pt x="453" y="1713"/>
                </a:lnTo>
                <a:lnTo>
                  <a:pt x="453" y="2118"/>
                </a:lnTo>
                <a:lnTo>
                  <a:pt x="1206" y="2118"/>
                </a:lnTo>
                <a:lnTo>
                  <a:pt x="1512" y="17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776240" y="2997360"/>
            <a:ext cx="3461040" cy="1560960"/>
            <a:chOff x="1776240" y="2997360"/>
            <a:chExt cx="3461040" cy="1560960"/>
          </a:xfrm>
        </p:grpSpPr>
        <p:sp>
          <p:nvSpPr>
            <p:cNvPr id="481" name=""/>
            <p:cNvSpPr/>
            <p:nvPr/>
          </p:nvSpPr>
          <p:spPr>
            <a:xfrm rot="19005000">
              <a:off x="2570040" y="4076280"/>
              <a:ext cx="121464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49840" y="3608280"/>
              <a:ext cx="763560" cy="29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1960" y="2997360"/>
              <a:ext cx="895320" cy="898200"/>
            </a:xfrm>
            <a:prstGeom prst="upArrowCallout">
              <a:avLst>
                <a:gd name="adj1" fmla="val 6584"/>
                <a:gd name="adj2" fmla="val 16449"/>
                <a:gd name="adj3" fmla="val 9554"/>
                <a:gd name="adj4" fmla="val 6666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76240" y="2997360"/>
              <a:ext cx="895680" cy="898200"/>
            </a:xfrm>
            <a:prstGeom prst="upArrowCallout">
              <a:avLst>
                <a:gd name="adj1" fmla="val 32901"/>
                <a:gd name="adj2" fmla="val 16449"/>
                <a:gd name="adj3" fmla="val 7758"/>
                <a:gd name="adj4" fmla="val 6666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71920" y="3608280"/>
              <a:ext cx="763560" cy="29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24320" y="3446280"/>
              <a:ext cx="425520" cy="3204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839960" y="5305320"/>
            <a:ext cx="1666800" cy="1476000"/>
            <a:chOff x="1839960" y="5305320"/>
            <a:chExt cx="1666800" cy="1476000"/>
          </a:xfrm>
        </p:grpSpPr>
        <p:sp>
          <p:nvSpPr>
            <p:cNvPr id="488" name=""/>
            <p:cNvSpPr/>
            <p:nvPr/>
          </p:nvSpPr>
          <p:spPr>
            <a:xfrm>
              <a:off x="1839960" y="5754240"/>
              <a:ext cx="1666800" cy="1027080"/>
            </a:xfrm>
            <a:prstGeom prst="plus">
              <a:avLst>
                <a:gd name="adj" fmla="val 35579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88520" y="5305320"/>
              <a:ext cx="769320" cy="448920"/>
            </a:xfrm>
            <a:prstGeom prst="triangle">
              <a:avLst>
                <a:gd name="adj" fmla="val 5000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2354400" y="6012000"/>
            <a:ext cx="576000" cy="425160"/>
          </a:xfrm>
          <a:prstGeom prst="upArrowCallout">
            <a:avLst>
              <a:gd name="adj1" fmla="val 19608"/>
              <a:gd name="adj2" fmla="val 22285"/>
              <a:gd name="adj3" fmla="val 9523"/>
              <a:gd name="adj4" fmla="val 666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29520" y="2868480"/>
            <a:ext cx="2052360" cy="1474920"/>
          </a:xfrm>
          <a:custGeom>
            <a:avLst/>
            <a:gdLst/>
            <a:ahLst/>
            <a:rect l="l" t="t" r="r" b="b"/>
            <a:pathLst>
              <a:path w="1370" h="984">
                <a:moveTo>
                  <a:pt x="0" y="328"/>
                </a:moveTo>
                <a:lnTo>
                  <a:pt x="385" y="328"/>
                </a:lnTo>
                <a:lnTo>
                  <a:pt x="385" y="0"/>
                </a:lnTo>
                <a:lnTo>
                  <a:pt x="1156" y="0"/>
                </a:lnTo>
                <a:lnTo>
                  <a:pt x="1156" y="451"/>
                </a:lnTo>
                <a:lnTo>
                  <a:pt x="1370" y="569"/>
                </a:lnTo>
                <a:lnTo>
                  <a:pt x="1156" y="774"/>
                </a:lnTo>
                <a:lnTo>
                  <a:pt x="1156" y="984"/>
                </a:lnTo>
                <a:lnTo>
                  <a:pt x="942" y="984"/>
                </a:lnTo>
                <a:lnTo>
                  <a:pt x="942" y="941"/>
                </a:lnTo>
                <a:lnTo>
                  <a:pt x="813" y="941"/>
                </a:lnTo>
                <a:lnTo>
                  <a:pt x="813" y="820"/>
                </a:lnTo>
                <a:lnTo>
                  <a:pt x="596" y="816"/>
                </a:lnTo>
                <a:lnTo>
                  <a:pt x="596" y="984"/>
                </a:lnTo>
                <a:lnTo>
                  <a:pt x="385" y="984"/>
                </a:lnTo>
                <a:lnTo>
                  <a:pt x="385" y="615"/>
                </a:lnTo>
                <a:lnTo>
                  <a:pt x="0" y="615"/>
                </a:lnTo>
                <a:lnTo>
                  <a:pt x="0" y="32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70680" y="3125880"/>
            <a:ext cx="898560" cy="730080"/>
          </a:xfrm>
          <a:custGeom>
            <a:avLst/>
            <a:gdLst>
              <a:gd name="textAreaLeft" fmla="*/ 0 w 898560"/>
              <a:gd name="textAreaRight" fmla="*/ 898920 w 89856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134" y="3494"/>
                </a:lnTo>
                <a:lnTo>
                  <a:pt x="13134" y="3494"/>
                </a:lnTo>
                <a:lnTo>
                  <a:pt x="13134" y="8466"/>
                </a:lnTo>
                <a:lnTo>
                  <a:pt x="18106" y="8466"/>
                </a:lnTo>
                <a:lnTo>
                  <a:pt x="18106" y="8466"/>
                </a:lnTo>
                <a:lnTo>
                  <a:pt x="21600" y="10800"/>
                </a:lnTo>
                <a:lnTo>
                  <a:pt x="18106" y="13134"/>
                </a:lnTo>
                <a:lnTo>
                  <a:pt x="18106" y="13134"/>
                </a:lnTo>
                <a:lnTo>
                  <a:pt x="3494" y="13134"/>
                </a:lnTo>
                <a:lnTo>
                  <a:pt x="3494" y="13134"/>
                </a:lnTo>
                <a:lnTo>
                  <a:pt x="0" y="10800"/>
                </a:lnTo>
                <a:lnTo>
                  <a:pt x="3494" y="8466"/>
                </a:lnTo>
                <a:lnTo>
                  <a:pt x="3494" y="8466"/>
                </a:lnTo>
                <a:lnTo>
                  <a:pt x="8466" y="8466"/>
                </a:lnTo>
                <a:lnTo>
                  <a:pt x="8466" y="3494"/>
                </a:lnTo>
                <a:lnTo>
                  <a:pt x="8466" y="3494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08600" y="3795480"/>
            <a:ext cx="4863600" cy="2120040"/>
            <a:chOff x="4008600" y="3795480"/>
            <a:chExt cx="4863600" cy="2120040"/>
          </a:xfrm>
        </p:grpSpPr>
        <p:sp>
          <p:nvSpPr>
            <p:cNvPr id="494" name=""/>
            <p:cNvSpPr/>
            <p:nvPr/>
          </p:nvSpPr>
          <p:spPr>
            <a:xfrm>
              <a:off x="4008600" y="5548680"/>
              <a:ext cx="4863600" cy="366840"/>
            </a:xfrm>
            <a:prstGeom prst="rect">
              <a:avLst/>
            </a:prstGeom>
            <a:solidFill>
              <a:srgbClr val="f2ffc0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ner-grain, dynamic, polymorphic “object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800600" y="3795480"/>
              <a:ext cx="99072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419720" y="3414600"/>
            <a:ext cx="609480" cy="457200"/>
            <a:chOff x="4419720" y="3414600"/>
            <a:chExt cx="609480" cy="457200"/>
          </a:xfrm>
        </p:grpSpPr>
        <p:sp>
          <p:nvSpPr>
            <p:cNvPr id="497" name=""/>
            <p:cNvSpPr/>
            <p:nvPr/>
          </p:nvSpPr>
          <p:spPr>
            <a:xfrm>
              <a:off x="4419720" y="3414600"/>
              <a:ext cx="304560" cy="152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24280" y="3566880"/>
              <a:ext cx="304920" cy="152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95680" y="3719520"/>
              <a:ext cx="304920" cy="152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142720" y="1797120"/>
            <a:ext cx="5900040" cy="1251000"/>
            <a:chOff x="2142720" y="1797120"/>
            <a:chExt cx="5900040" cy="1251000"/>
          </a:xfrm>
        </p:grpSpPr>
        <p:sp>
          <p:nvSpPr>
            <p:cNvPr id="501" name=""/>
            <p:cNvSpPr/>
            <p:nvPr/>
          </p:nvSpPr>
          <p:spPr>
            <a:xfrm>
              <a:off x="2142720" y="1797120"/>
              <a:ext cx="5900040" cy="366840"/>
            </a:xfrm>
            <a:prstGeom prst="rect">
              <a:avLst/>
            </a:prstGeom>
            <a:solidFill>
              <a:srgbClr val="f2ffc0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arger-grain, more static, polymorphic “component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5714640" y="2210040"/>
              <a:ext cx="228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6400800" y="220968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7A10-255F-40A8-8823-6E82665C11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676520" y="121932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and Designing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1802-2A63-40C5-8026-2C8B3A2DD6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of an Object: Multiple (Inter)Fa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47239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or component plays different 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offers multiple interfaces, and is seen as differ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ir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t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ss coupling, more “pluggabilit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asier to adapt to “plug” into a bigge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98760" y="3228840"/>
            <a:ext cx="1695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sse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Bagg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5440" y="3200400"/>
            <a:ext cx="2070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arantee check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room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 at check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818440" y="2300400"/>
            <a:ext cx="1285200" cy="595080"/>
            <a:chOff x="2818440" y="2300400"/>
            <a:chExt cx="1285200" cy="595080"/>
          </a:xfrm>
        </p:grpSpPr>
        <p:sp>
          <p:nvSpPr>
            <p:cNvPr id="512" name=""/>
            <p:cNvSpPr/>
            <p:nvPr/>
          </p:nvSpPr>
          <p:spPr>
            <a:xfrm>
              <a:off x="2818440" y="2300400"/>
              <a:ext cx="128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hat Typ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67160" y="2590920"/>
              <a:ext cx="381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497920" y="2209680"/>
            <a:ext cx="1285200" cy="638280"/>
            <a:chOff x="5497920" y="2209680"/>
            <a:chExt cx="1285200" cy="638280"/>
          </a:xfrm>
        </p:grpSpPr>
        <p:sp>
          <p:nvSpPr>
            <p:cNvPr id="515" name=""/>
            <p:cNvSpPr/>
            <p:nvPr/>
          </p:nvSpPr>
          <p:spPr>
            <a:xfrm>
              <a:off x="5497920" y="2209680"/>
              <a:ext cx="128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hat Typ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27600" y="2535120"/>
              <a:ext cx="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191120" y="2847960"/>
            <a:ext cx="1218240" cy="949320"/>
            <a:chOff x="4191120" y="2847960"/>
            <a:chExt cx="1218240" cy="949320"/>
          </a:xfrm>
        </p:grpSpPr>
        <p:grpSp>
          <p:nvGrpSpPr>
            <p:cNvPr id="518" name=""/>
            <p:cNvGrpSpPr/>
            <p:nvPr/>
          </p:nvGrpSpPr>
          <p:grpSpPr>
            <a:xfrm>
              <a:off x="4326120" y="2847960"/>
              <a:ext cx="1083240" cy="902880"/>
              <a:chOff x="4326120" y="2847960"/>
              <a:chExt cx="1083240" cy="902880"/>
            </a:xfrm>
          </p:grpSpPr>
          <p:pic>
            <p:nvPicPr>
              <p:cNvPr id="5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5880" y="2847960"/>
                <a:ext cx="1023480" cy="90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>
                <a:off x="4326120" y="2965320"/>
                <a:ext cx="481320" cy="76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4191120" y="2847960"/>
              <a:ext cx="90000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4279680" y="990720"/>
            <a:ext cx="3165840" cy="1865880"/>
            <a:chOff x="4279680" y="990720"/>
            <a:chExt cx="3165840" cy="1865880"/>
          </a:xfrm>
        </p:grpSpPr>
        <p:pic>
          <p:nvPicPr>
            <p:cNvPr id="523" name="" descr=""/>
            <p:cNvPicPr/>
            <p:nvPr/>
          </p:nvPicPr>
          <p:blipFill>
            <a:blip r:embed="rId3"/>
            <a:stretch/>
          </p:blipFill>
          <p:spPr>
            <a:xfrm>
              <a:off x="4343400" y="1031760"/>
              <a:ext cx="76212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 rot="18000000">
              <a:off x="4281120" y="1966320"/>
              <a:ext cx="1024200" cy="595440"/>
            </a:xfrm>
            <a:custGeom>
              <a:avLst/>
              <a:gdLst/>
              <a:ahLst/>
              <a:rect l="l" t="t" r="r" b="b"/>
              <a:pathLst>
                <a:path w="885" h="375">
                  <a:moveTo>
                    <a:pt x="0" y="374"/>
                  </a:moveTo>
                  <a:lnTo>
                    <a:pt x="205" y="365"/>
                  </a:lnTo>
                  <a:lnTo>
                    <a:pt x="191" y="332"/>
                  </a:lnTo>
                  <a:lnTo>
                    <a:pt x="721" y="108"/>
                  </a:lnTo>
                  <a:lnTo>
                    <a:pt x="735" y="141"/>
                  </a:lnTo>
                  <a:lnTo>
                    <a:pt x="884" y="0"/>
                  </a:lnTo>
                  <a:lnTo>
                    <a:pt x="679" y="9"/>
                  </a:lnTo>
                  <a:lnTo>
                    <a:pt x="693" y="42"/>
                  </a:lnTo>
                  <a:lnTo>
                    <a:pt x="163" y="266"/>
                  </a:lnTo>
                  <a:lnTo>
                    <a:pt x="149" y="233"/>
                  </a:lnTo>
                  <a:lnTo>
                    <a:pt x="0" y="374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26320" y="990720"/>
              <a:ext cx="2419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lug” into new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80880" y="2590920"/>
            <a:ext cx="3657600" cy="1447920"/>
            <a:chOff x="380880" y="2590920"/>
            <a:chExt cx="3657600" cy="1447920"/>
          </a:xfrm>
        </p:grpSpPr>
        <p:grpSp>
          <p:nvGrpSpPr>
            <p:cNvPr id="527" name=""/>
            <p:cNvGrpSpPr/>
            <p:nvPr/>
          </p:nvGrpSpPr>
          <p:grpSpPr>
            <a:xfrm>
              <a:off x="380880" y="2590920"/>
              <a:ext cx="1600200" cy="1447920"/>
              <a:chOff x="380880" y="2590920"/>
              <a:chExt cx="1600200" cy="1447920"/>
            </a:xfrm>
          </p:grpSpPr>
          <p:pic>
            <p:nvPicPr>
              <p:cNvPr id="5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0880" y="2590920"/>
                <a:ext cx="1600200" cy="86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679320" y="3672000"/>
                <a:ext cx="834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ir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1981080" y="2895480"/>
              <a:ext cx="2057400" cy="228600"/>
            </a:xfrm>
            <a:prstGeom prst="leftRightArrow">
              <a:avLst>
                <a:gd name="adj1" fmla="val 25000"/>
                <a:gd name="adj2" fmla="val 1791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562720" y="2286000"/>
            <a:ext cx="3220200" cy="1600920"/>
            <a:chOff x="5562720" y="2286000"/>
            <a:chExt cx="3220200" cy="1600920"/>
          </a:xfrm>
        </p:grpSpPr>
        <p:grpSp>
          <p:nvGrpSpPr>
            <p:cNvPr id="532" name=""/>
            <p:cNvGrpSpPr/>
            <p:nvPr/>
          </p:nvGrpSpPr>
          <p:grpSpPr>
            <a:xfrm>
              <a:off x="7772400" y="2286000"/>
              <a:ext cx="1010520" cy="1600920"/>
              <a:chOff x="7772400" y="2286000"/>
              <a:chExt cx="1010520" cy="1600920"/>
            </a:xfrm>
          </p:grpSpPr>
          <p:pic>
            <p:nvPicPr>
              <p:cNvPr id="5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772400" y="2286000"/>
                <a:ext cx="930600" cy="12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8088840" y="3520080"/>
                <a:ext cx="69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ot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5562720" y="2895480"/>
              <a:ext cx="2057400" cy="228600"/>
            </a:xfrm>
            <a:prstGeom prst="leftRightArrow">
              <a:avLst>
                <a:gd name="adj1" fmla="val 25000"/>
                <a:gd name="adj2" fmla="val 1791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3800" y="275760"/>
            <a:ext cx="710244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: Java, COM, Corba, ..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1675800" y="1362240"/>
            <a:ext cx="6248880" cy="411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u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CheckIn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RoomServi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CheckOut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eng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Baggage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ane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791800" y="4695840"/>
            <a:ext cx="6267240" cy="1921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uest, Passeng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implementation 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874400" y="1219320"/>
            <a:ext cx="3374280" cy="2666880"/>
            <a:chOff x="4874400" y="1219320"/>
            <a:chExt cx="3374280" cy="2666880"/>
          </a:xfrm>
        </p:grpSpPr>
        <p:sp>
          <p:nvSpPr>
            <p:cNvPr id="540" name=""/>
            <p:cNvSpPr/>
            <p:nvPr/>
          </p:nvSpPr>
          <p:spPr>
            <a:xfrm>
              <a:off x="6172200" y="2743200"/>
              <a:ext cx="1295280" cy="1143000"/>
            </a:xfrm>
            <a:prstGeom prst="cube">
              <a:avLst>
                <a:gd name="adj" fmla="val 24962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bject:</a:t>
              </a:r>
              <a:br>
                <a:rPr sz="1800"/>
              </a:b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o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4952520" y="1600200"/>
              <a:ext cx="2057760" cy="2271960"/>
              <a:chOff x="4952520" y="1600200"/>
              <a:chExt cx="2057760" cy="2271960"/>
            </a:xfrm>
          </p:grpSpPr>
          <p:sp>
            <p:nvSpPr>
              <p:cNvPr id="542" name=""/>
              <p:cNvSpPr/>
              <p:nvPr/>
            </p:nvSpPr>
            <p:spPr>
              <a:xfrm>
                <a:off x="6705720" y="1600200"/>
                <a:ext cx="304560" cy="304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171840" y="1905120"/>
                <a:ext cx="718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Gue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58000" y="1911240"/>
                <a:ext cx="0" cy="9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105520" y="3200400"/>
                <a:ext cx="304560" cy="304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952520" y="3505320"/>
                <a:ext cx="109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ssen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16560" y="3352680"/>
                <a:ext cx="75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4874400" y="1219320"/>
              <a:ext cx="3374280" cy="1906560"/>
              <a:chOff x="4874400" y="1219320"/>
              <a:chExt cx="3374280" cy="190656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96080" y="1219320"/>
                <a:ext cx="552600" cy="7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7662960" y="1905120"/>
                <a:ext cx="523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ot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2286000"/>
                <a:ext cx="774720" cy="41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4874400" y="1981080"/>
                <a:ext cx="692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irli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86600" y="167652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257800" y="2743200"/>
                <a:ext cx="1440" cy="38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5" name=""/>
          <p:cNvGrpSpPr/>
          <p:nvPr/>
        </p:nvGrpSpPr>
        <p:grpSpPr>
          <a:xfrm>
            <a:off x="144360" y="1600200"/>
            <a:ext cx="3970800" cy="4952880"/>
            <a:chOff x="144360" y="1600200"/>
            <a:chExt cx="3970800" cy="4952880"/>
          </a:xfrm>
        </p:grpSpPr>
        <p:sp>
          <p:nvSpPr>
            <p:cNvPr id="556" name=""/>
            <p:cNvSpPr/>
            <p:nvPr/>
          </p:nvSpPr>
          <p:spPr>
            <a:xfrm>
              <a:off x="144360" y="5791320"/>
              <a:ext cx="397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Full type/class separation possible!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14800" y="1600200"/>
              <a:ext cx="0" cy="49528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275760"/>
            <a:ext cx="84582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face vs. Class: Which does a Client Us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-2289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es 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which can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ements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tends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 (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 =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new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844880" y="5180040"/>
            <a:ext cx="408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Client never needs to mention “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- except to instant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- can use “factory” pattern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432E-E438-4141-BF6A-C5AD14F9DC9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1676520" y="11430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and Designing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4F70-C865-4DE1-9383-E5F934320C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va Bea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Component” standard for 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A reusable software component that can be manipulated in a visual builder to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component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erties, methods,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: an observable stat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: an invocabl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: a notification of state cha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s on underlying technology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fle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E96B-CA77-4B83-8D50-E1C6A80E74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the Speak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1" marL="61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mond D’Souza, a sought after authority and speaker at companies and conferences internationally, is senior vice president of component-based development at Platinum Technology and heads up Platinum’s Component Technology Center. He is co-author and developer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TALYSI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, published by Addison Wesley in 1998. He has worked with software technology since 1981, developed object systems since 1985, and worked on modeling and design methods and tools since 1990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his current role at Platinum he is responsible for defining methods, tools, and architectures for effective component-based software engineering. His areas of work include requirements, business modeling, specification, analysis, design, and implementation of component-based systems, and the building of architectural and specification frameworks. Mr. D’Souza was founder and CTO of ICON Computing, a methods, training and consulting firm in object technology, until ICON was acquired by Platinum Technology in 199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. D’Souza may be contacted at dsouzad@acm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3BB4-3138-49A7-B527-54B2BB4E63F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ring” beans togeth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2120" y="1676520"/>
            <a:ext cx="19810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15000" y="1752480"/>
            <a:ext cx="19810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43000" y="2286000"/>
            <a:ext cx="6858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3000" y="2666880"/>
            <a:ext cx="6858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752480" y="1066680"/>
            <a:ext cx="3581640" cy="1143000"/>
          </a:xfrm>
          <a:custGeom>
            <a:avLst/>
            <a:gdLst/>
            <a:ahLst/>
            <a:rect l="l" t="t" r="r" b="b"/>
            <a:pathLst>
              <a:path w="2256" h="720">
                <a:moveTo>
                  <a:pt x="0" y="720"/>
                </a:moveTo>
                <a:cubicBezTo>
                  <a:pt x="56" y="488"/>
                  <a:pt x="112" y="256"/>
                  <a:pt x="432" y="144"/>
                </a:cubicBezTo>
                <a:cubicBezTo>
                  <a:pt x="752" y="32"/>
                  <a:pt x="1616" y="0"/>
                  <a:pt x="1920" y="48"/>
                </a:cubicBezTo>
                <a:cubicBezTo>
                  <a:pt x="2224" y="96"/>
                  <a:pt x="2240" y="264"/>
                  <a:pt x="2256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can be “wired” to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 event parameters and properties (state variables) to method inpu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 can be “wired” to other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icit, rather than explicit update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currently supported by JavaBeans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00240" y="63241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11480" y="1320840"/>
            <a:ext cx="2070000" cy="1270080"/>
          </a:xfrm>
          <a:custGeom>
            <a:avLst/>
            <a:gdLst/>
            <a:ahLst/>
            <a:rect l="l" t="t" r="r" b="b"/>
            <a:pathLst>
              <a:path w="1304" h="800">
                <a:moveTo>
                  <a:pt x="152" y="800"/>
                </a:moveTo>
                <a:cubicBezTo>
                  <a:pt x="76" y="528"/>
                  <a:pt x="0" y="256"/>
                  <a:pt x="152" y="128"/>
                </a:cubicBezTo>
                <a:cubicBezTo>
                  <a:pt x="304" y="0"/>
                  <a:pt x="872" y="8"/>
                  <a:pt x="1064" y="32"/>
                </a:cubicBezTo>
                <a:cubicBezTo>
                  <a:pt x="1256" y="56"/>
                  <a:pt x="1280" y="164"/>
                  <a:pt x="1304" y="2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809880" y="2285640"/>
            <a:ext cx="838440" cy="6094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1800" y="1752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743200" y="2556000"/>
            <a:ext cx="1310040" cy="936360"/>
            <a:chOff x="2743200" y="2556000"/>
            <a:chExt cx="1310040" cy="936360"/>
          </a:xfrm>
        </p:grpSpPr>
        <p:sp>
          <p:nvSpPr>
            <p:cNvPr id="578" name=""/>
            <p:cNvSpPr/>
            <p:nvPr/>
          </p:nvSpPr>
          <p:spPr>
            <a:xfrm flipH="1">
              <a:off x="3580560" y="2867040"/>
              <a:ext cx="228600" cy="228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743200" y="2971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19960" y="25560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 (x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73480" y="312408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648320" y="1676520"/>
            <a:ext cx="1080720" cy="1054080"/>
            <a:chOff x="4648320" y="1676520"/>
            <a:chExt cx="1080720" cy="1054080"/>
          </a:xfrm>
        </p:grpSpPr>
        <p:sp>
          <p:nvSpPr>
            <p:cNvPr id="583" name=""/>
            <p:cNvSpPr/>
            <p:nvPr/>
          </p:nvSpPr>
          <p:spPr>
            <a:xfrm>
              <a:off x="4648320" y="20574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76920" y="2162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09880" y="167652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 (p,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2320" y="2362320"/>
              <a:ext cx="102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324480" y="2819520"/>
            <a:ext cx="6858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47920" y="2819520"/>
            <a:ext cx="5600520" cy="1066680"/>
          </a:xfrm>
          <a:custGeom>
            <a:avLst/>
            <a:gdLst/>
            <a:ahLst/>
            <a:rect l="l" t="t" r="r" b="b"/>
            <a:pathLst>
              <a:path w="3528" h="672">
                <a:moveTo>
                  <a:pt x="192" y="0"/>
                </a:moveTo>
                <a:cubicBezTo>
                  <a:pt x="96" y="240"/>
                  <a:pt x="0" y="480"/>
                  <a:pt x="480" y="576"/>
                </a:cubicBezTo>
                <a:cubicBezTo>
                  <a:pt x="960" y="672"/>
                  <a:pt x="2616" y="640"/>
                  <a:pt x="3072" y="576"/>
                </a:cubicBezTo>
                <a:cubicBezTo>
                  <a:pt x="3528" y="512"/>
                  <a:pt x="3372" y="352"/>
                  <a:pt x="3216" y="192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3DDD-8A09-4E05-A32D-2F4A291702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K 1.1 introduc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representation of class, interface, method,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operations on these obje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very-late binding of cal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s properties, methods, events from 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supplanted by an explici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90A8-A3A0-4545-A33F-3A5D30564F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DK 1.1 Refl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2048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Java definitions at run-time by acc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: static Clas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Nam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tring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tSuperclass, getInterfaces, getFields, getMethods, getConstru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Instan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tDeclaringClass, getName, getModifiers, getType, getBoolean, getInt, … setBoolean, se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tDeclaringClass, getName, getReturnType, getParameterTypes, getExceptionTypes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: 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wrappers for primitives,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4BFB-E706-417D-868E-3DAD7E2673A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lection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kton"/>
              </a:rPr>
              <a:t>// locate and load the class dyna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 = Class.forName (“UserDefinedClas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kton"/>
              </a:rPr>
              <a:t>// instantiate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o = c.newInstance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kton"/>
              </a:rPr>
              <a:t>// get one of the methods on th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m = c.getDeclaredMethod (“userMethod”, { }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kton"/>
              </a:rPr>
              <a:t>// invoke that method on the new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invoke (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BE18-F045-46B9-8A50-22D7CF0C2D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ans Properties via Naming + Refl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derived by reflection using name con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properties: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Symbol” of type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getStockSymbo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StockSymbol(String newSymbo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valued” properti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Symbol” of type String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ring getSymbol(int index); // throws bounds error public void setSymbol(int index, String  newValue); // throw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roperty typ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und, const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MyBea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getStockSymbol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StockSymbol (String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3E75-7E38-4B11-8C19-BE59DDC38F1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t Design Patterns in JavaBea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events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t chann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BalanceListen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tends java.util.EventListe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overdrawn (BalanceEve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balanceOK (BalanceEve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 may offer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t channel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rotocol pattern for registering event listen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addBalanceListener (BalanceListener f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removeBalanceListener (BalanceListener f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911880" y="3733920"/>
            <a:ext cx="6512040" cy="622080"/>
            <a:chOff x="911880" y="3733920"/>
            <a:chExt cx="6512040" cy="622080"/>
          </a:xfrm>
        </p:grpSpPr>
        <p:sp>
          <p:nvSpPr>
            <p:cNvPr id="600" name=""/>
            <p:cNvSpPr/>
            <p:nvPr/>
          </p:nvSpPr>
          <p:spPr>
            <a:xfrm>
              <a:off x="3276360" y="3965400"/>
              <a:ext cx="565200" cy="298800"/>
            </a:xfrm>
            <a:prstGeom prst="cube">
              <a:avLst>
                <a:gd name="adj" fmla="val 24986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52920" y="3900600"/>
              <a:ext cx="565200" cy="160200"/>
            </a:xfrm>
            <a:prstGeom prst="cube">
              <a:avLst>
                <a:gd name="adj" fmla="val 24986"/>
              </a:avLst>
            </a:prstGeom>
            <a:solidFill>
              <a:srgbClr val="cc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74800" y="3772080"/>
              <a:ext cx="1328760" cy="583920"/>
            </a:xfrm>
            <a:prstGeom prst="roundRect">
              <a:avLst>
                <a:gd name="adj" fmla="val 1248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count B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61680" y="3733920"/>
              <a:ext cx="226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alanc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11880" y="3924360"/>
              <a:ext cx="209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sag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7467480" y="3809880"/>
            <a:ext cx="83844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59240" y="4038480"/>
            <a:ext cx="213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92160" y="4267080"/>
            <a:ext cx="21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240D-7100-41A3-96F6-E6C97FA0F81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ans persistence via Serial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and restore graphs of Bean objects to/from str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JDK 1.1 classes can be seri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java.io.Serializ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behavior/formats easily extended or overr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MyBe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java.io.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  SomeOtherBean deleg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ent Object anotherFiel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and restore automatical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OutputStream ost = new ObjectOutputStream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.writeObject(new MyBean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nputStream ist = new ObjectInputStream(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Bean x = (MyBean)ist.readObje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E4CE-6FEB-43E0-920B-C9A0FA0B569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vaBean versus Java Obj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320840"/>
            <a:ext cx="7315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rfaces of a JavaBean may be provided by a group of collaborating objects of different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will become increasingly common with complex bea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conceptually work as a single ob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ger: Java language primitives will not know this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use a language “cast” to get another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use the languag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perator to check for ident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ns Glasgow specs provide some interim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552720" y="6476760"/>
            <a:ext cx="20574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96080" y="2362320"/>
            <a:ext cx="121932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01000" y="2743200"/>
            <a:ext cx="38088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29600" y="3200400"/>
            <a:ext cx="380880" cy="3808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15200" y="26668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848720" y="32767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00100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010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153280" y="36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381520" y="2819520"/>
            <a:ext cx="381240" cy="152280"/>
            <a:chOff x="8381520" y="2819520"/>
            <a:chExt cx="381240" cy="152280"/>
          </a:xfrm>
        </p:grpSpPr>
        <p:sp>
          <p:nvSpPr>
            <p:cNvPr id="624" name=""/>
            <p:cNvSpPr/>
            <p:nvPr/>
          </p:nvSpPr>
          <p:spPr>
            <a:xfrm flipH="1">
              <a:off x="8610120" y="28195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8381520" y="2895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ECC7-7BA8-4699-9895-A2782D7DC9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R fi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avaBean is packaged into a JAR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class files that implement its behavi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ed instance to use for initializ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 fi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 files: images, sound, video, …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fest file: describes the JAR file contents and dependenc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odeling, use package structure eff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234B-85F0-4481-91DB-4C6786FA79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erprise Java Bea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ndard for simplifying server components by implementing most “middle-tier”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ad and database connection poo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t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172040" cy="24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3C9C-2FB4-49B8-9BFF-E8D78CE8D6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676520" y="129528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and Designing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31D5-090A-4718-9F6D-50045BC9A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1676520" y="9144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Specifying and Designing Java B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Typ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25F6-62AD-4CFB-8311-B98B4E0890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“Black-Box” Compon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33160" y="5638320"/>
            <a:ext cx="800100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s are not enough to define widely-used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543480" y="1425600"/>
            <a:ext cx="1701720" cy="1189800"/>
            <a:chOff x="3543480" y="1425600"/>
            <a:chExt cx="1701720" cy="1189800"/>
          </a:xfrm>
        </p:grpSpPr>
        <p:sp>
          <p:nvSpPr>
            <p:cNvPr id="637" name=""/>
            <p:cNvSpPr/>
            <p:nvPr/>
          </p:nvSpPr>
          <p:spPr>
            <a:xfrm>
              <a:off x="3549960" y="1425600"/>
              <a:ext cx="1681560" cy="1189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ing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b (Thing, 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ng fritz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43480" y="1724040"/>
              <a:ext cx="17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46360" y="1876320"/>
              <a:ext cx="1692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642280" y="2514600"/>
            <a:ext cx="2405520" cy="1189800"/>
            <a:chOff x="5642280" y="2514600"/>
            <a:chExt cx="2405520" cy="1189800"/>
          </a:xfrm>
        </p:grpSpPr>
        <p:sp>
          <p:nvSpPr>
            <p:cNvPr id="641" name=""/>
            <p:cNvSpPr/>
            <p:nvPr/>
          </p:nvSpPr>
          <p:spPr>
            <a:xfrm>
              <a:off x="5642280" y="2514600"/>
              <a:ext cx="2405520" cy="118980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uclearReactor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 (ControlRod, 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trolRod remove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5676840" y="2828880"/>
              <a:ext cx="2349360" cy="212760"/>
              <a:chOff x="5676840" y="2828880"/>
              <a:chExt cx="2349360" cy="212760"/>
            </a:xfrm>
          </p:grpSpPr>
          <p:sp>
            <p:nvSpPr>
              <p:cNvPr id="643" name=""/>
              <p:cNvSpPr/>
              <p:nvPr/>
            </p:nvSpPr>
            <p:spPr>
              <a:xfrm>
                <a:off x="5676840" y="2828880"/>
                <a:ext cx="234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79720" y="3039840"/>
                <a:ext cx="2336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5" name=""/>
          <p:cNvGrpSpPr/>
          <p:nvPr/>
        </p:nvGrpSpPr>
        <p:grpSpPr>
          <a:xfrm>
            <a:off x="1371600" y="2362320"/>
            <a:ext cx="1735920" cy="2057400"/>
            <a:chOff x="1371600" y="2362320"/>
            <a:chExt cx="1735920" cy="2057400"/>
          </a:xfrm>
        </p:grpSpPr>
        <p:sp>
          <p:nvSpPr>
            <p:cNvPr id="646" name=""/>
            <p:cNvSpPr/>
            <p:nvPr/>
          </p:nvSpPr>
          <p:spPr>
            <a:xfrm>
              <a:off x="1371600" y="2362320"/>
              <a:ext cx="1733400" cy="20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71600" y="274320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71600" y="297180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5760" y="2439000"/>
              <a:ext cx="16617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ellCheck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you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Element(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Element(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 flipH="1">
            <a:off x="4190760" y="3352680"/>
            <a:ext cx="53316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3660-162B-4C65-8123-1E55ABD6E4B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cise Interfa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396800"/>
            <a:ext cx="784872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uild systems by “plugging” together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7200" y="5270400"/>
            <a:ext cx="8305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243160" y="2286000"/>
            <a:ext cx="1047600" cy="2379600"/>
            <a:chOff x="2243160" y="2286000"/>
            <a:chExt cx="1047600" cy="2379600"/>
          </a:xfrm>
        </p:grpSpPr>
        <p:sp>
          <p:nvSpPr>
            <p:cNvPr id="655" name=""/>
            <p:cNvSpPr/>
            <p:nvPr/>
          </p:nvSpPr>
          <p:spPr>
            <a:xfrm>
              <a:off x="2243160" y="4191120"/>
              <a:ext cx="1047600" cy="474480"/>
            </a:xfrm>
            <a:custGeom>
              <a:avLst/>
              <a:gdLst/>
              <a:ahLst/>
              <a:rect l="l" t="t" r="r" b="b"/>
              <a:pathLst>
                <a:path w="745" h="337">
                  <a:moveTo>
                    <a:pt x="217" y="0"/>
                  </a:moveTo>
                  <a:lnTo>
                    <a:pt x="435" y="0"/>
                  </a:lnTo>
                  <a:lnTo>
                    <a:pt x="435" y="18"/>
                  </a:lnTo>
                  <a:lnTo>
                    <a:pt x="435" y="36"/>
                  </a:lnTo>
                  <a:lnTo>
                    <a:pt x="435" y="54"/>
                  </a:lnTo>
                  <a:lnTo>
                    <a:pt x="428" y="72"/>
                  </a:lnTo>
                  <a:lnTo>
                    <a:pt x="413" y="90"/>
                  </a:lnTo>
                  <a:lnTo>
                    <a:pt x="390" y="102"/>
                  </a:lnTo>
                  <a:lnTo>
                    <a:pt x="390" y="120"/>
                  </a:lnTo>
                  <a:lnTo>
                    <a:pt x="390" y="138"/>
                  </a:lnTo>
                  <a:lnTo>
                    <a:pt x="398" y="156"/>
                  </a:lnTo>
                  <a:lnTo>
                    <a:pt x="413" y="174"/>
                  </a:lnTo>
                  <a:lnTo>
                    <a:pt x="435" y="174"/>
                  </a:lnTo>
                  <a:lnTo>
                    <a:pt x="458" y="186"/>
                  </a:lnTo>
                  <a:lnTo>
                    <a:pt x="480" y="186"/>
                  </a:lnTo>
                  <a:lnTo>
                    <a:pt x="503" y="186"/>
                  </a:lnTo>
                  <a:lnTo>
                    <a:pt x="526" y="180"/>
                  </a:lnTo>
                  <a:lnTo>
                    <a:pt x="548" y="168"/>
                  </a:lnTo>
                  <a:lnTo>
                    <a:pt x="548" y="150"/>
                  </a:lnTo>
                  <a:lnTo>
                    <a:pt x="548" y="132"/>
                  </a:lnTo>
                  <a:lnTo>
                    <a:pt x="533" y="114"/>
                  </a:lnTo>
                  <a:lnTo>
                    <a:pt x="518" y="96"/>
                  </a:lnTo>
                  <a:lnTo>
                    <a:pt x="503" y="78"/>
                  </a:lnTo>
                  <a:lnTo>
                    <a:pt x="488" y="60"/>
                  </a:lnTo>
                  <a:lnTo>
                    <a:pt x="488" y="42"/>
                  </a:lnTo>
                  <a:lnTo>
                    <a:pt x="488" y="24"/>
                  </a:lnTo>
                  <a:lnTo>
                    <a:pt x="511" y="6"/>
                  </a:lnTo>
                  <a:lnTo>
                    <a:pt x="744" y="6"/>
                  </a:lnTo>
                  <a:lnTo>
                    <a:pt x="736" y="105"/>
                  </a:lnTo>
                  <a:lnTo>
                    <a:pt x="740" y="105"/>
                  </a:lnTo>
                  <a:lnTo>
                    <a:pt x="706" y="114"/>
                  </a:lnTo>
                  <a:lnTo>
                    <a:pt x="676" y="129"/>
                  </a:lnTo>
                  <a:lnTo>
                    <a:pt x="650" y="147"/>
                  </a:lnTo>
                  <a:lnTo>
                    <a:pt x="653" y="162"/>
                  </a:lnTo>
                  <a:lnTo>
                    <a:pt x="638" y="180"/>
                  </a:lnTo>
                  <a:lnTo>
                    <a:pt x="631" y="198"/>
                  </a:lnTo>
                  <a:lnTo>
                    <a:pt x="623" y="216"/>
                  </a:lnTo>
                  <a:lnTo>
                    <a:pt x="623" y="234"/>
                  </a:lnTo>
                  <a:lnTo>
                    <a:pt x="638" y="252"/>
                  </a:lnTo>
                  <a:lnTo>
                    <a:pt x="661" y="258"/>
                  </a:lnTo>
                  <a:lnTo>
                    <a:pt x="683" y="246"/>
                  </a:lnTo>
                  <a:lnTo>
                    <a:pt x="706" y="240"/>
                  </a:lnTo>
                  <a:lnTo>
                    <a:pt x="728" y="234"/>
                  </a:lnTo>
                  <a:lnTo>
                    <a:pt x="728" y="336"/>
                  </a:lnTo>
                  <a:lnTo>
                    <a:pt x="217" y="336"/>
                  </a:lnTo>
                  <a:lnTo>
                    <a:pt x="217" y="300"/>
                  </a:lnTo>
                  <a:lnTo>
                    <a:pt x="217" y="210"/>
                  </a:lnTo>
                  <a:lnTo>
                    <a:pt x="210" y="210"/>
                  </a:lnTo>
                  <a:lnTo>
                    <a:pt x="187" y="210"/>
                  </a:lnTo>
                  <a:lnTo>
                    <a:pt x="165" y="216"/>
                  </a:lnTo>
                  <a:lnTo>
                    <a:pt x="142" y="222"/>
                  </a:lnTo>
                  <a:lnTo>
                    <a:pt x="120" y="234"/>
                  </a:lnTo>
                  <a:lnTo>
                    <a:pt x="97" y="234"/>
                  </a:lnTo>
                  <a:lnTo>
                    <a:pt x="75" y="240"/>
                  </a:lnTo>
                  <a:lnTo>
                    <a:pt x="52" y="234"/>
                  </a:lnTo>
                  <a:lnTo>
                    <a:pt x="37" y="216"/>
                  </a:lnTo>
                  <a:lnTo>
                    <a:pt x="11" y="216"/>
                  </a:lnTo>
                  <a:lnTo>
                    <a:pt x="3" y="201"/>
                  </a:lnTo>
                  <a:lnTo>
                    <a:pt x="0" y="177"/>
                  </a:lnTo>
                  <a:lnTo>
                    <a:pt x="7" y="129"/>
                  </a:lnTo>
                  <a:lnTo>
                    <a:pt x="41" y="72"/>
                  </a:lnTo>
                  <a:lnTo>
                    <a:pt x="90" y="156"/>
                  </a:lnTo>
                  <a:lnTo>
                    <a:pt x="105" y="174"/>
                  </a:lnTo>
                  <a:lnTo>
                    <a:pt x="127" y="186"/>
                  </a:lnTo>
                  <a:lnTo>
                    <a:pt x="150" y="186"/>
                  </a:lnTo>
                  <a:lnTo>
                    <a:pt x="172" y="186"/>
                  </a:lnTo>
                  <a:lnTo>
                    <a:pt x="202" y="186"/>
                  </a:lnTo>
                  <a:lnTo>
                    <a:pt x="210" y="168"/>
                  </a:lnTo>
                  <a:lnTo>
                    <a:pt x="210" y="150"/>
                  </a:lnTo>
                  <a:lnTo>
                    <a:pt x="210" y="132"/>
                  </a:lnTo>
                  <a:lnTo>
                    <a:pt x="210" y="114"/>
                  </a:lnTo>
                  <a:lnTo>
                    <a:pt x="217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57440" y="2286000"/>
              <a:ext cx="608040" cy="660240"/>
            </a:xfrm>
            <a:custGeom>
              <a:avLst/>
              <a:gdLst/>
              <a:ahLst/>
              <a:rect l="l" t="t" r="r" b="b"/>
              <a:pathLst>
                <a:path w="433" h="469">
                  <a:moveTo>
                    <a:pt x="0" y="349"/>
                  </a:moveTo>
                  <a:lnTo>
                    <a:pt x="0" y="204"/>
                  </a:lnTo>
                  <a:lnTo>
                    <a:pt x="23" y="204"/>
                  </a:lnTo>
                  <a:lnTo>
                    <a:pt x="46" y="204"/>
                  </a:lnTo>
                  <a:lnTo>
                    <a:pt x="69" y="204"/>
                  </a:lnTo>
                  <a:lnTo>
                    <a:pt x="92" y="209"/>
                  </a:lnTo>
                  <a:lnTo>
                    <a:pt x="115" y="219"/>
                  </a:lnTo>
                  <a:lnTo>
                    <a:pt x="131" y="234"/>
                  </a:lnTo>
                  <a:lnTo>
                    <a:pt x="154" y="234"/>
                  </a:lnTo>
                  <a:lnTo>
                    <a:pt x="177" y="234"/>
                  </a:lnTo>
                  <a:lnTo>
                    <a:pt x="200" y="229"/>
                  </a:lnTo>
                  <a:lnTo>
                    <a:pt x="223" y="219"/>
                  </a:lnTo>
                  <a:lnTo>
                    <a:pt x="223" y="204"/>
                  </a:lnTo>
                  <a:lnTo>
                    <a:pt x="239" y="189"/>
                  </a:lnTo>
                  <a:lnTo>
                    <a:pt x="239" y="174"/>
                  </a:lnTo>
                  <a:lnTo>
                    <a:pt x="239" y="159"/>
                  </a:lnTo>
                  <a:lnTo>
                    <a:pt x="231" y="144"/>
                  </a:lnTo>
                  <a:lnTo>
                    <a:pt x="216" y="129"/>
                  </a:lnTo>
                  <a:lnTo>
                    <a:pt x="192" y="129"/>
                  </a:lnTo>
                  <a:lnTo>
                    <a:pt x="169" y="129"/>
                  </a:lnTo>
                  <a:lnTo>
                    <a:pt x="146" y="139"/>
                  </a:lnTo>
                  <a:lnTo>
                    <a:pt x="123" y="149"/>
                  </a:lnTo>
                  <a:lnTo>
                    <a:pt x="100" y="159"/>
                  </a:lnTo>
                  <a:lnTo>
                    <a:pt x="77" y="169"/>
                  </a:lnTo>
                  <a:lnTo>
                    <a:pt x="54" y="169"/>
                  </a:lnTo>
                  <a:lnTo>
                    <a:pt x="30" y="169"/>
                  </a:lnTo>
                  <a:lnTo>
                    <a:pt x="7" y="155"/>
                  </a:lnTo>
                  <a:lnTo>
                    <a:pt x="6" y="0"/>
                  </a:lnTo>
                  <a:lnTo>
                    <a:pt x="237" y="0"/>
                  </a:lnTo>
                  <a:lnTo>
                    <a:pt x="222" y="0"/>
                  </a:lnTo>
                  <a:lnTo>
                    <a:pt x="230" y="14"/>
                  </a:lnTo>
                  <a:lnTo>
                    <a:pt x="230" y="29"/>
                  </a:lnTo>
                  <a:lnTo>
                    <a:pt x="222" y="44"/>
                  </a:lnTo>
                  <a:lnTo>
                    <a:pt x="207" y="59"/>
                  </a:lnTo>
                  <a:lnTo>
                    <a:pt x="230" y="69"/>
                  </a:lnTo>
                  <a:lnTo>
                    <a:pt x="253" y="74"/>
                  </a:lnTo>
                  <a:lnTo>
                    <a:pt x="276" y="79"/>
                  </a:lnTo>
                  <a:lnTo>
                    <a:pt x="299" y="79"/>
                  </a:lnTo>
                  <a:lnTo>
                    <a:pt x="322" y="69"/>
                  </a:lnTo>
                  <a:lnTo>
                    <a:pt x="330" y="54"/>
                  </a:lnTo>
                  <a:lnTo>
                    <a:pt x="315" y="39"/>
                  </a:lnTo>
                  <a:lnTo>
                    <a:pt x="307" y="24"/>
                  </a:lnTo>
                  <a:lnTo>
                    <a:pt x="299" y="9"/>
                  </a:lnTo>
                  <a:lnTo>
                    <a:pt x="430" y="9"/>
                  </a:lnTo>
                  <a:lnTo>
                    <a:pt x="432" y="347"/>
                  </a:lnTo>
                  <a:lnTo>
                    <a:pt x="385" y="348"/>
                  </a:lnTo>
                  <a:lnTo>
                    <a:pt x="270" y="348"/>
                  </a:lnTo>
                  <a:lnTo>
                    <a:pt x="270" y="353"/>
                  </a:lnTo>
                  <a:lnTo>
                    <a:pt x="271" y="368"/>
                  </a:lnTo>
                  <a:lnTo>
                    <a:pt x="279" y="383"/>
                  </a:lnTo>
                  <a:lnTo>
                    <a:pt x="286" y="398"/>
                  </a:lnTo>
                  <a:lnTo>
                    <a:pt x="302" y="413"/>
                  </a:lnTo>
                  <a:lnTo>
                    <a:pt x="302" y="428"/>
                  </a:lnTo>
                  <a:lnTo>
                    <a:pt x="309" y="443"/>
                  </a:lnTo>
                  <a:lnTo>
                    <a:pt x="302" y="458"/>
                  </a:lnTo>
                  <a:lnTo>
                    <a:pt x="279" y="468"/>
                  </a:lnTo>
                  <a:lnTo>
                    <a:pt x="255" y="468"/>
                  </a:lnTo>
                  <a:lnTo>
                    <a:pt x="232" y="468"/>
                  </a:lnTo>
                  <a:lnTo>
                    <a:pt x="209" y="463"/>
                  </a:lnTo>
                  <a:lnTo>
                    <a:pt x="186" y="458"/>
                  </a:lnTo>
                  <a:lnTo>
                    <a:pt x="178" y="443"/>
                  </a:lnTo>
                  <a:lnTo>
                    <a:pt x="201" y="433"/>
                  </a:lnTo>
                  <a:lnTo>
                    <a:pt x="225" y="423"/>
                  </a:lnTo>
                  <a:lnTo>
                    <a:pt x="240" y="408"/>
                  </a:lnTo>
                  <a:lnTo>
                    <a:pt x="240" y="393"/>
                  </a:lnTo>
                  <a:lnTo>
                    <a:pt x="240" y="378"/>
                  </a:lnTo>
                  <a:lnTo>
                    <a:pt x="239" y="358"/>
                  </a:lnTo>
                  <a:lnTo>
                    <a:pt x="216" y="353"/>
                  </a:lnTo>
                  <a:lnTo>
                    <a:pt x="192" y="353"/>
                  </a:lnTo>
                  <a:lnTo>
                    <a:pt x="169" y="353"/>
                  </a:lnTo>
                  <a:lnTo>
                    <a:pt x="146" y="353"/>
                  </a:lnTo>
                  <a:lnTo>
                    <a:pt x="0" y="34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08440" y="3016080"/>
              <a:ext cx="0" cy="10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38280" y="3048120"/>
              <a:ext cx="387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609520" y="2819520"/>
            <a:ext cx="1782000" cy="1327680"/>
            <a:chOff x="5609520" y="2819520"/>
            <a:chExt cx="1782000" cy="1327680"/>
          </a:xfrm>
        </p:grpSpPr>
        <p:pic>
          <p:nvPicPr>
            <p:cNvPr id="660" name="" descr=""/>
            <p:cNvPicPr/>
            <p:nvPr/>
          </p:nvPicPr>
          <p:blipFill>
            <a:blip r:embed="rId1"/>
            <a:stretch/>
          </p:blipFill>
          <p:spPr>
            <a:xfrm>
              <a:off x="6519960" y="2819520"/>
              <a:ext cx="87156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5910120" y="2971800"/>
              <a:ext cx="2606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5609520" y="3809880"/>
              <a:ext cx="17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ertify and publi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837720" y="5181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choices: “plug-n-pray”, or use better specifications that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apply to any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c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accurately cover all necessary expec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188880" y="2438280"/>
            <a:ext cx="2561400" cy="1861560"/>
            <a:chOff x="3188880" y="2438280"/>
            <a:chExt cx="2561400" cy="1861560"/>
          </a:xfrm>
        </p:grpSpPr>
        <p:sp>
          <p:nvSpPr>
            <p:cNvPr id="665" name=""/>
            <p:cNvSpPr/>
            <p:nvPr/>
          </p:nvSpPr>
          <p:spPr>
            <a:xfrm rot="19498800">
              <a:off x="3271320" y="3857760"/>
              <a:ext cx="675000" cy="134640"/>
            </a:xfrm>
            <a:prstGeom prst="leftRightArrow">
              <a:avLst>
                <a:gd name="adj1" fmla="val 50000"/>
                <a:gd name="adj2" fmla="val 998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930120" y="2895480"/>
              <a:ext cx="1756800" cy="837000"/>
              <a:chOff x="3930120" y="2895480"/>
              <a:chExt cx="1756800" cy="837000"/>
            </a:xfrm>
          </p:grpSpPr>
          <p:sp>
            <p:nvSpPr>
              <p:cNvPr id="667" name=""/>
              <p:cNvSpPr/>
              <p:nvPr/>
            </p:nvSpPr>
            <p:spPr>
              <a:xfrm>
                <a:off x="3933360" y="2908440"/>
                <a:ext cx="1753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ype” spe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hat is expected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ny “plug-in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42840" y="2895480"/>
                <a:ext cx="347760" cy="159840"/>
              </a:xfrm>
              <a:custGeom>
                <a:avLst/>
                <a:gdLst/>
                <a:ahLst/>
                <a:rect l="l" t="t" r="r" b="b"/>
                <a:pathLst>
                  <a:path w="369" h="203">
                    <a:moveTo>
                      <a:pt x="0" y="8"/>
                    </a:moveTo>
                    <a:cubicBezTo>
                      <a:pt x="55" y="11"/>
                      <a:pt x="110" y="12"/>
                      <a:pt x="165" y="17"/>
                    </a:cubicBezTo>
                    <a:cubicBezTo>
                      <a:pt x="181" y="65"/>
                      <a:pt x="163" y="96"/>
                      <a:pt x="120" y="110"/>
                    </a:cubicBezTo>
                    <a:cubicBezTo>
                      <a:pt x="101" y="166"/>
                      <a:pt x="150" y="192"/>
                      <a:pt x="198" y="200"/>
                    </a:cubicBezTo>
                    <a:cubicBezTo>
                      <a:pt x="232" y="198"/>
                      <a:pt x="244" y="203"/>
                      <a:pt x="267" y="188"/>
                    </a:cubicBezTo>
                    <a:cubicBezTo>
                      <a:pt x="269" y="182"/>
                      <a:pt x="271" y="176"/>
                      <a:pt x="273" y="170"/>
                    </a:cubicBezTo>
                    <a:cubicBezTo>
                      <a:pt x="274" y="167"/>
                      <a:pt x="276" y="161"/>
                      <a:pt x="276" y="161"/>
                    </a:cubicBezTo>
                    <a:cubicBezTo>
                      <a:pt x="273" y="141"/>
                      <a:pt x="269" y="127"/>
                      <a:pt x="252" y="116"/>
                    </a:cubicBezTo>
                    <a:cubicBezTo>
                      <a:pt x="247" y="100"/>
                      <a:pt x="225" y="81"/>
                      <a:pt x="210" y="71"/>
                    </a:cubicBezTo>
                    <a:cubicBezTo>
                      <a:pt x="198" y="52"/>
                      <a:pt x="199" y="37"/>
                      <a:pt x="222" y="32"/>
                    </a:cubicBezTo>
                    <a:cubicBezTo>
                      <a:pt x="243" y="0"/>
                      <a:pt x="341" y="17"/>
                      <a:pt x="369" y="1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930120" y="2903040"/>
                <a:ext cx="1746720" cy="7614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0"/>
                    </a:moveTo>
                    <a:lnTo>
                      <a:pt x="0" y="288"/>
                    </a:lnTo>
                    <a:lnTo>
                      <a:pt x="384" y="288"/>
                    </a:lnTo>
                    <a:lnTo>
                      <a:pt x="3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930120" y="2903040"/>
                <a:ext cx="60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4893480" y="2903040"/>
                <a:ext cx="78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 flipH="1" rot="2101200">
              <a:off x="3165840" y="2743200"/>
              <a:ext cx="675000" cy="135000"/>
            </a:xfrm>
            <a:prstGeom prst="leftRightArrow">
              <a:avLst>
                <a:gd name="adj1" fmla="val 50000"/>
                <a:gd name="adj2" fmla="val 9953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52480" y="396252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ll work with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94800" y="2438280"/>
              <a:ext cx="23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one implementation of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B367-33D9-4279-BD74-CC4D37E7D97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-Based Type Specification -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7200" y="1737720"/>
            <a:ext cx="3733560" cy="4267440"/>
            <a:chOff x="457200" y="1737720"/>
            <a:chExt cx="3733560" cy="4267440"/>
          </a:xfrm>
        </p:grpSpPr>
        <p:grpSp>
          <p:nvGrpSpPr>
            <p:cNvPr id="677" name=""/>
            <p:cNvGrpSpPr/>
            <p:nvPr/>
          </p:nvGrpSpPr>
          <p:grpSpPr>
            <a:xfrm>
              <a:off x="457200" y="1738440"/>
              <a:ext cx="3733560" cy="4266720"/>
              <a:chOff x="457200" y="1738440"/>
              <a:chExt cx="3733560" cy="4266720"/>
            </a:xfrm>
          </p:grpSpPr>
          <p:sp>
            <p:nvSpPr>
              <p:cNvPr id="678" name=""/>
              <p:cNvSpPr/>
              <p:nvPr/>
            </p:nvSpPr>
            <p:spPr>
              <a:xfrm>
                <a:off x="457200" y="1738440"/>
                <a:ext cx="3733560" cy="42667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200" y="435060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57200" y="226080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682200" y="4465080"/>
              <a:ext cx="1854000" cy="131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llCheck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yout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Element(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Lement(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4240" y="1737720"/>
              <a:ext cx="189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ditor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«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49640" y="2347920"/>
            <a:ext cx="3664800" cy="2057400"/>
            <a:chOff x="449640" y="2347920"/>
            <a:chExt cx="3664800" cy="2057400"/>
          </a:xfrm>
        </p:grpSpPr>
        <p:sp>
          <p:nvSpPr>
            <p:cNvPr id="684" name=""/>
            <p:cNvSpPr/>
            <p:nvPr/>
          </p:nvSpPr>
          <p:spPr>
            <a:xfrm>
              <a:off x="996480" y="403848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449640" y="2347920"/>
              <a:ext cx="3664800" cy="1920960"/>
              <a:chOff x="449640" y="2347920"/>
              <a:chExt cx="3664800" cy="1920960"/>
            </a:xfrm>
          </p:grpSpPr>
          <p:sp>
            <p:nvSpPr>
              <p:cNvPr id="686" name=""/>
              <p:cNvSpPr/>
              <p:nvPr/>
            </p:nvSpPr>
            <p:spPr>
              <a:xfrm>
                <a:off x="2057040" y="2500200"/>
                <a:ext cx="152424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2720" y="2499840"/>
                <a:ext cx="1558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ferredSiz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osi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057040" y="2828880"/>
                <a:ext cx="152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56840" y="272880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95280" y="3871800"/>
                <a:ext cx="99036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68720" y="3871440"/>
                <a:ext cx="767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cc0066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590560" y="3490920"/>
                <a:ext cx="304920" cy="114120"/>
              </a:xfrm>
              <a:custGeom>
                <a:avLst/>
                <a:gdLst/>
                <a:ahLst/>
                <a:rect l="l" t="t" r="r" b="b"/>
                <a:pathLst>
                  <a:path w="192" h="72">
                    <a:moveTo>
                      <a:pt x="96" y="0"/>
                    </a:moveTo>
                    <a:lnTo>
                      <a:pt x="0" y="72"/>
                    </a:lnTo>
                    <a:lnTo>
                      <a:pt x="192" y="72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52480" y="3795480"/>
                <a:ext cx="1752480" cy="76320"/>
              </a:xfrm>
              <a:custGeom>
                <a:avLst/>
                <a:gdLst/>
                <a:ahLst/>
                <a:rect l="l" t="t" r="r" b="b"/>
                <a:pathLst>
                  <a:path w="1104" h="48">
                    <a:moveTo>
                      <a:pt x="0" y="48"/>
                    </a:moveTo>
                    <a:lnTo>
                      <a:pt x="0" y="0"/>
                    </a:lnTo>
                    <a:lnTo>
                      <a:pt x="1104" y="0"/>
                    </a:lnTo>
                    <a:lnTo>
                      <a:pt x="1092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42840" y="35665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742840" y="3871800"/>
                <a:ext cx="13716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739960" y="3871440"/>
                <a:ext cx="12884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si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81280" y="3262320"/>
                <a:ext cx="380880" cy="609480"/>
              </a:xfrm>
              <a:custGeom>
                <a:avLst/>
                <a:gdLst/>
                <a:ahLst/>
                <a:rect l="l" t="t" r="r" b="b"/>
                <a:pathLst>
                  <a:path w="240" h="384">
                    <a:moveTo>
                      <a:pt x="240" y="384"/>
                    </a:moveTo>
                    <a:lnTo>
                      <a:pt x="24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507840" y="3003480"/>
                <a:ext cx="299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75800" y="2500200"/>
                <a:ext cx="299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6840" y="4024080"/>
                <a:ext cx="8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49640" y="3490920"/>
                <a:ext cx="118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cc0066"/>
                    </a:solidFill>
                    <a:latin typeface="Times New Roman"/>
                  </a:rPr>
                  <a:t>dictiona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38080" y="2347920"/>
                <a:ext cx="997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cc0066"/>
                    </a:solidFill>
                    <a:latin typeface="Times New Roman"/>
                  </a:rPr>
                  <a:t>cont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3" name=""/>
          <p:cNvGrpSpPr/>
          <p:nvPr/>
        </p:nvGrpSpPr>
        <p:grpSpPr>
          <a:xfrm>
            <a:off x="1752480" y="4938840"/>
            <a:ext cx="5715000" cy="1218600"/>
            <a:chOff x="1752480" y="4938840"/>
            <a:chExt cx="5715000" cy="1218600"/>
          </a:xfrm>
        </p:grpSpPr>
        <p:sp>
          <p:nvSpPr>
            <p:cNvPr id="704" name=""/>
            <p:cNvSpPr/>
            <p:nvPr/>
          </p:nvSpPr>
          <p:spPr>
            <a:xfrm>
              <a:off x="4495680" y="5241960"/>
              <a:ext cx="297180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very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ositioned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so that it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referred size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can be accommod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52480" y="4938840"/>
              <a:ext cx="2667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209680" y="4259160"/>
            <a:ext cx="4800600" cy="641160"/>
            <a:chOff x="2209680" y="4259160"/>
            <a:chExt cx="4800600" cy="641160"/>
          </a:xfrm>
        </p:grpSpPr>
        <p:sp>
          <p:nvSpPr>
            <p:cNvPr id="707" name=""/>
            <p:cNvSpPr/>
            <p:nvPr/>
          </p:nvSpPr>
          <p:spPr>
            <a:xfrm>
              <a:off x="4495680" y="4259160"/>
              <a:ext cx="2514600" cy="64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very </a:t>
              </a:r>
              <a:r>
                <a:rPr b="1" i="1" lang="en-US" sz="1800" spc="-1" strike="noStrike">
                  <a:solidFill>
                    <a:srgbClr val="cc0066"/>
                  </a:solidFill>
                  <a:latin typeface="Times New Roman"/>
                </a:rPr>
                <a:t>word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1" i="1" lang="en-US" sz="1800" spc="-1" strike="noStrike">
                  <a:solidFill>
                    <a:srgbClr val="cc0066"/>
                  </a:solidFill>
                  <a:latin typeface="Times New Roman"/>
                </a:rPr>
                <a:t>contents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is correct by the </a:t>
              </a:r>
              <a:r>
                <a:rPr b="1" i="1" lang="en-US" sz="1800" spc="-1" strike="noStrike">
                  <a:solidFill>
                    <a:srgbClr val="cc0066"/>
                  </a:solidFill>
                  <a:latin typeface="Times New Roman"/>
                </a:rPr>
                <a:t>diction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09680" y="46339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28600" y="1433520"/>
            <a:ext cx="7543800" cy="495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8600" y="1052640"/>
            <a:ext cx="3352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itor Type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27480" y="914760"/>
            <a:ext cx="3133800" cy="3414240"/>
            <a:chOff x="4227480" y="914760"/>
            <a:chExt cx="3133800" cy="3414240"/>
          </a:xfrm>
        </p:grpSpPr>
        <p:sp>
          <p:nvSpPr>
            <p:cNvPr id="712" name=""/>
            <p:cNvSpPr/>
            <p:nvPr/>
          </p:nvSpPr>
          <p:spPr>
            <a:xfrm>
              <a:off x="4829400" y="914760"/>
              <a:ext cx="2531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ype-model =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vocabu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27480" y="2271600"/>
              <a:ext cx="76320" cy="2057400"/>
            </a:xfrm>
            <a:custGeom>
              <a:avLst/>
              <a:gdLst/>
              <a:ahLst/>
              <a:rect l="l" t="t" r="r" b="b"/>
              <a:pathLst>
                <a:path w="48" h="1296">
                  <a:moveTo>
                    <a:pt x="0" y="0"/>
                  </a:moveTo>
                  <a:lnTo>
                    <a:pt x="48" y="48"/>
                  </a:lnTo>
                  <a:lnTo>
                    <a:pt x="48" y="1200"/>
                  </a:lnTo>
                  <a:lnTo>
                    <a:pt x="0" y="12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4343400" y="1280880"/>
              <a:ext cx="137160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565160" y="3140640"/>
            <a:ext cx="3107880" cy="1036080"/>
            <a:chOff x="4565160" y="3140640"/>
            <a:chExt cx="3107880" cy="1036080"/>
          </a:xfrm>
        </p:grpSpPr>
        <p:sp>
          <p:nvSpPr>
            <p:cNvPr id="716" name=""/>
            <p:cNvSpPr/>
            <p:nvPr/>
          </p:nvSpPr>
          <p:spPr>
            <a:xfrm>
              <a:off x="4565160" y="3140640"/>
              <a:ext cx="3107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perations specified in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f the type model “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vocabu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714640" y="3719520"/>
              <a:ext cx="3157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313960" y="1585800"/>
            <a:ext cx="2270880" cy="1249560"/>
            <a:chOff x="5313960" y="1585800"/>
            <a:chExt cx="2270880" cy="1249560"/>
          </a:xfrm>
        </p:grpSpPr>
        <p:sp>
          <p:nvSpPr>
            <p:cNvPr id="719" name=""/>
            <p:cNvSpPr/>
            <p:nvPr/>
          </p:nvSpPr>
          <p:spPr>
            <a:xfrm>
              <a:off x="5313960" y="2012760"/>
              <a:ext cx="1974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ype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ually in sepa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62560" y="1585800"/>
              <a:ext cx="4222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7957080" y="57913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OCF 3.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DF96-C4D0-4B76-B428-8A30AE2E38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 about Encapsul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 is about hi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ementation decis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make sense to hi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terfaces always imp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we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w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ymorph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ll ab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Hence, specify a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minimal model</a:t>
            </a:r>
            <a:r>
              <a:rPr b="0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of any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E69F-F97A-47B5-A713-D383D92564E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lizing Operation Spe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44953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specification can form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C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bject Constraint Language) used after rectifying some shortcom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ed, used for refinements, testing, change propagation, 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checkable/testable design-by-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057400"/>
          </a:xfrm>
          <a:prstGeom prst="rect">
            <a:avLst/>
          </a:prstGeom>
          <a:solidFill>
            <a:srgbClr val="ffcc66"/>
          </a:solidFill>
          <a:ln w="28440">
            <a:solidFill>
              <a:srgbClr val="cc0066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lvl="3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:: spellCheck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o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ekton"/>
              </a:rPr>
              <a:t>// every word in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s -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: Word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ekton"/>
              </a:rPr>
              <a:t>// has a matching entry in the dict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tionary -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w: Word | dw.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atch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7BCF-8769-40AA-A126-4C7D2F742D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-Based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4680" y="4800600"/>
            <a:ext cx="837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omponent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its external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it 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abor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other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these other components 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ild component models must map to the origin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562720" y="1981080"/>
            <a:ext cx="1752480" cy="838080"/>
            <a:chOff x="5562720" y="1981080"/>
            <a:chExt cx="1752480" cy="838080"/>
          </a:xfrm>
        </p:grpSpPr>
        <p:sp>
          <p:nvSpPr>
            <p:cNvPr id="730" name=""/>
            <p:cNvSpPr/>
            <p:nvPr/>
          </p:nvSpPr>
          <p:spPr>
            <a:xfrm>
              <a:off x="5562720" y="1981080"/>
              <a:ext cx="1752480" cy="83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89520" y="2057040"/>
              <a:ext cx="977400" cy="397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-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783240" y="1828800"/>
            <a:ext cx="1779480" cy="1295280"/>
            <a:chOff x="3783240" y="1828800"/>
            <a:chExt cx="1779480" cy="1295280"/>
          </a:xfrm>
        </p:grpSpPr>
        <p:sp>
          <p:nvSpPr>
            <p:cNvPr id="733" name=""/>
            <p:cNvSpPr/>
            <p:nvPr/>
          </p:nvSpPr>
          <p:spPr>
            <a:xfrm>
              <a:off x="4724280" y="2666880"/>
              <a:ext cx="838440" cy="45720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0" y="0"/>
                  </a:lnTo>
                  <a:lnTo>
                    <a:pt x="52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95680" y="2590920"/>
              <a:ext cx="533520" cy="228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67080" y="2438280"/>
              <a:ext cx="762120" cy="30492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lnTo>
                    <a:pt x="0" y="0"/>
                  </a:lnTo>
                  <a:lnTo>
                    <a:pt x="48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83240" y="1828800"/>
              <a:ext cx="1399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ext 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place 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7314840" y="1524240"/>
            <a:ext cx="1474200" cy="1599840"/>
            <a:chOff x="7314840" y="1524240"/>
            <a:chExt cx="1474200" cy="1599840"/>
          </a:xfrm>
        </p:grpSpPr>
        <p:sp>
          <p:nvSpPr>
            <p:cNvPr id="738" name=""/>
            <p:cNvSpPr/>
            <p:nvPr/>
          </p:nvSpPr>
          <p:spPr>
            <a:xfrm flipH="1">
              <a:off x="7314480" y="2641680"/>
              <a:ext cx="795960" cy="48240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0" y="0"/>
                  </a:lnTo>
                  <a:lnTo>
                    <a:pt x="52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49360" y="2514600"/>
              <a:ext cx="506520" cy="228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14840" y="1524240"/>
              <a:ext cx="14742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imum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04640" y="2438280"/>
              <a:ext cx="723600" cy="30492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lnTo>
                    <a:pt x="0" y="0"/>
                  </a:lnTo>
                  <a:lnTo>
                    <a:pt x="48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3886200" y="3124080"/>
            <a:ext cx="1752480" cy="914400"/>
            <a:chOff x="3886200" y="3124080"/>
            <a:chExt cx="1752480" cy="914400"/>
          </a:xfrm>
        </p:grpSpPr>
        <p:sp>
          <p:nvSpPr>
            <p:cNvPr id="743" name=""/>
            <p:cNvSpPr/>
            <p:nvPr/>
          </p:nvSpPr>
          <p:spPr>
            <a:xfrm>
              <a:off x="3886200" y="3124080"/>
              <a:ext cx="1752480" cy="914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61440" y="3138480"/>
              <a:ext cx="1551960" cy="366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pell Chec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59280" y="3581280"/>
              <a:ext cx="14864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llCheck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6200" y="350532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819840" y="2984040"/>
            <a:ext cx="1828800" cy="1130760"/>
            <a:chOff x="6819840" y="2984040"/>
            <a:chExt cx="1828800" cy="1130760"/>
          </a:xfrm>
        </p:grpSpPr>
        <p:sp>
          <p:nvSpPr>
            <p:cNvPr id="748" name=""/>
            <p:cNvSpPr/>
            <p:nvPr/>
          </p:nvSpPr>
          <p:spPr>
            <a:xfrm>
              <a:off x="6858000" y="3048120"/>
              <a:ext cx="1752480" cy="1066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819840" y="2984040"/>
              <a:ext cx="1828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yout 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07040" y="3657240"/>
              <a:ext cx="9928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yout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32440" y="358128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216880" y="3505320"/>
            <a:ext cx="1122480" cy="368280"/>
          </a:xfrm>
          <a:prstGeom prst="rect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Times New Roman"/>
              </a:rPr>
              <a:t>dic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52240" y="4419720"/>
            <a:ext cx="738360" cy="368280"/>
          </a:xfrm>
          <a:prstGeom prst="rect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Times New Roman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5715000" y="2819520"/>
            <a:ext cx="609480" cy="1676160"/>
            <a:chOff x="5715000" y="2819520"/>
            <a:chExt cx="609480" cy="1676160"/>
          </a:xfrm>
        </p:grpSpPr>
        <p:sp>
          <p:nvSpPr>
            <p:cNvPr id="755" name=""/>
            <p:cNvSpPr/>
            <p:nvPr/>
          </p:nvSpPr>
          <p:spPr>
            <a:xfrm flipV="1">
              <a:off x="6324480" y="2819520"/>
              <a:ext cx="0" cy="167616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flipV="1">
              <a:off x="5715000" y="3809520"/>
              <a:ext cx="457200" cy="68580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3352680" y="3657600"/>
            <a:ext cx="457200" cy="0"/>
          </a:xfrm>
          <a:prstGeom prst="line">
            <a:avLst/>
          </a:prstGeom>
          <a:ln w="12600">
            <a:solidFill>
              <a:srgbClr val="cc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80880" y="1904760"/>
            <a:ext cx="1752840" cy="1676520"/>
            <a:chOff x="380880" y="1904760"/>
            <a:chExt cx="1752840" cy="1676520"/>
          </a:xfrm>
        </p:grpSpPr>
        <p:sp>
          <p:nvSpPr>
            <p:cNvPr id="759" name=""/>
            <p:cNvSpPr/>
            <p:nvPr/>
          </p:nvSpPr>
          <p:spPr>
            <a:xfrm>
              <a:off x="380880" y="1981080"/>
              <a:ext cx="1752840" cy="1600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8040" y="1904760"/>
              <a:ext cx="892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9920" y="2561400"/>
              <a:ext cx="1355400" cy="94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pellCheck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ou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dElement(…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ELement(…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0880" y="228600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0880" y="251460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657600" y="1523880"/>
            <a:ext cx="525780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57600" y="1143000"/>
            <a:ext cx="25909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itor Inter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6200000">
            <a:off x="2165400" y="2666520"/>
            <a:ext cx="304920" cy="304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468520" y="2819520"/>
            <a:ext cx="1189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0360" y="1065960"/>
            <a:ext cx="316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al design in a sepa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ckage from the 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2676600" y="1676160"/>
            <a:ext cx="9446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3E82-8C69-46D4-AE04-B902A7311F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Component implements many Typ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0880" y="5095800"/>
            <a:ext cx="83059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6793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offer different interfaces to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terface has a different supporting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interface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13080" y="16765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46800" y="16765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65360" y="1752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36960" y="1752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60440" y="1766880"/>
            <a:ext cx="49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93800" y="1752480"/>
            <a:ext cx="56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242440" y="1752480"/>
            <a:ext cx="1531080" cy="2896560"/>
            <a:chOff x="2242440" y="1752480"/>
            <a:chExt cx="1531080" cy="2896560"/>
          </a:xfrm>
        </p:grpSpPr>
        <p:grpSp>
          <p:nvGrpSpPr>
            <p:cNvPr id="779" name=""/>
            <p:cNvGrpSpPr/>
            <p:nvPr/>
          </p:nvGrpSpPr>
          <p:grpSpPr>
            <a:xfrm>
              <a:off x="2242440" y="2576520"/>
              <a:ext cx="1531080" cy="2072520"/>
              <a:chOff x="2242440" y="2576520"/>
              <a:chExt cx="1531080" cy="2072520"/>
            </a:xfrm>
          </p:grpSpPr>
          <p:sp>
            <p:nvSpPr>
              <p:cNvPr id="780" name=""/>
              <p:cNvSpPr/>
              <p:nvPr/>
            </p:nvSpPr>
            <p:spPr>
              <a:xfrm>
                <a:off x="2246400" y="2639880"/>
                <a:ext cx="1523880" cy="200844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42440" y="3946680"/>
                <a:ext cx="15094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ext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place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46400" y="397980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246400" y="29653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47480" y="2576520"/>
                <a:ext cx="1526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ellCheck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8160" y="3046320"/>
                <a:ext cx="685800" cy="5526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246400" y="3522600"/>
                <a:ext cx="76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342520" y="2912760"/>
                <a:ext cx="717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q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246400" y="3294000"/>
                <a:ext cx="76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458440" y="3446280"/>
                <a:ext cx="596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r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2550960" y="1752480"/>
              <a:ext cx="750960" cy="83844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0"/>
                  </a:moveTo>
                  <a:lnTo>
                    <a:pt x="0" y="0"/>
                  </a:lnTo>
                  <a:lnTo>
                    <a:pt x="0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5141160" y="1752480"/>
            <a:ext cx="1890000" cy="3277440"/>
            <a:chOff x="5141160" y="1752480"/>
            <a:chExt cx="1890000" cy="3277440"/>
          </a:xfrm>
        </p:grpSpPr>
        <p:grpSp>
          <p:nvGrpSpPr>
            <p:cNvPr id="792" name=""/>
            <p:cNvGrpSpPr/>
            <p:nvPr/>
          </p:nvGrpSpPr>
          <p:grpSpPr>
            <a:xfrm>
              <a:off x="5141160" y="2576520"/>
              <a:ext cx="1890000" cy="2453400"/>
              <a:chOff x="5141160" y="2576520"/>
              <a:chExt cx="1890000" cy="2453400"/>
            </a:xfrm>
          </p:grpSpPr>
          <p:sp>
            <p:nvSpPr>
              <p:cNvPr id="793" name=""/>
              <p:cNvSpPr/>
              <p:nvPr/>
            </p:nvSpPr>
            <p:spPr>
              <a:xfrm>
                <a:off x="5141160" y="4022640"/>
                <a:ext cx="171972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ximum Siz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iz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hildr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41880" y="2630520"/>
                <a:ext cx="1889280" cy="2336760"/>
              </a:xfrm>
              <a:prstGeom prst="rect">
                <a:avLst/>
              </a:prstGeom>
              <a:noFill/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41880" y="4103640"/>
                <a:ext cx="188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141880" y="2924280"/>
                <a:ext cx="188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50680" y="2576520"/>
                <a:ext cx="1168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ayout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191280" y="3003480"/>
                <a:ext cx="735120" cy="549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iz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41880" y="3219480"/>
                <a:ext cx="104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751360" y="3395520"/>
                <a:ext cx="838440" cy="3938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288" y="0"/>
                    </a:moveTo>
                    <a:lnTo>
                      <a:pt x="0" y="0"/>
                    </a:lnTo>
                    <a:lnTo>
                      <a:pt x="0" y="240"/>
                    </a:lnTo>
                    <a:lnTo>
                      <a:pt x="528" y="240"/>
                    </a:lnTo>
                    <a:lnTo>
                      <a:pt x="52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373000" y="3716280"/>
                <a:ext cx="16084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endants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08560" y="323856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 flipH="1">
              <a:off x="5628600" y="1752480"/>
              <a:ext cx="762120" cy="83844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0"/>
                  </a:moveTo>
                  <a:lnTo>
                    <a:pt x="0" y="0"/>
                  </a:lnTo>
                  <a:lnTo>
                    <a:pt x="0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66320" y="2438280"/>
            <a:ext cx="2080080" cy="1312920"/>
            <a:chOff x="166320" y="2438280"/>
            <a:chExt cx="2080080" cy="1312920"/>
          </a:xfrm>
        </p:grpSpPr>
        <p:sp>
          <p:nvSpPr>
            <p:cNvPr id="805" name=""/>
            <p:cNvSpPr/>
            <p:nvPr/>
          </p:nvSpPr>
          <p:spPr>
            <a:xfrm>
              <a:off x="166320" y="2438280"/>
              <a:ext cx="1209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pell-Chec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4960" y="2836800"/>
              <a:ext cx="990720" cy="914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4360" y="29894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55680" y="32004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33600" y="3098880"/>
              <a:ext cx="423720" cy="21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7047000" y="2514600"/>
            <a:ext cx="1941840" cy="1312920"/>
            <a:chOff x="7047000" y="2514600"/>
            <a:chExt cx="1941840" cy="1312920"/>
          </a:xfrm>
        </p:grpSpPr>
        <p:sp>
          <p:nvSpPr>
            <p:cNvPr id="811" name=""/>
            <p:cNvSpPr/>
            <p:nvPr/>
          </p:nvSpPr>
          <p:spPr>
            <a:xfrm>
              <a:off x="7616520" y="2514600"/>
              <a:ext cx="137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out Man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37360" y="2913120"/>
              <a:ext cx="838440" cy="914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47000" y="320040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324560" y="3098880"/>
              <a:ext cx="424080" cy="21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3809880" y="1447920"/>
            <a:ext cx="1371600" cy="533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tor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BD1D-F7BF-45CC-9C3E-A2EB7D1627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-Based Components are “Pluggable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2120" y="5043600"/>
            <a:ext cx="792468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omponent that provides the correct interface (operations and apparent type model) can plug-into anothe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399360" y="3124080"/>
            <a:ext cx="1601640" cy="1388160"/>
            <a:chOff x="6399360" y="3124080"/>
            <a:chExt cx="1601640" cy="1388160"/>
          </a:xfrm>
        </p:grpSpPr>
        <p:grpSp>
          <p:nvGrpSpPr>
            <p:cNvPr id="819" name=""/>
            <p:cNvGrpSpPr/>
            <p:nvPr/>
          </p:nvGrpSpPr>
          <p:grpSpPr>
            <a:xfrm>
              <a:off x="6399360" y="3657600"/>
              <a:ext cx="1601640" cy="854640"/>
              <a:chOff x="6399360" y="3657600"/>
              <a:chExt cx="1601640" cy="854640"/>
            </a:xfrm>
          </p:grpSpPr>
          <p:sp>
            <p:nvSpPr>
              <p:cNvPr id="820" name=""/>
              <p:cNvSpPr/>
              <p:nvPr/>
            </p:nvSpPr>
            <p:spPr>
              <a:xfrm>
                <a:off x="6400800" y="4038480"/>
                <a:ext cx="1600200" cy="4572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99360" y="4114800"/>
                <a:ext cx="1395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B Rec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858000" y="3657600"/>
                <a:ext cx="152280" cy="152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933960" y="38098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flipH="1" flipV="1">
              <a:off x="6552720" y="3124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648320" y="3124080"/>
            <a:ext cx="1566000" cy="1371600"/>
            <a:chOff x="4648320" y="3124080"/>
            <a:chExt cx="1566000" cy="1371600"/>
          </a:xfrm>
        </p:grpSpPr>
        <p:grpSp>
          <p:nvGrpSpPr>
            <p:cNvPr id="826" name=""/>
            <p:cNvGrpSpPr/>
            <p:nvPr/>
          </p:nvGrpSpPr>
          <p:grpSpPr>
            <a:xfrm>
              <a:off x="4648320" y="3657600"/>
              <a:ext cx="1566000" cy="838080"/>
              <a:chOff x="4648320" y="3657600"/>
              <a:chExt cx="1566000" cy="838080"/>
            </a:xfrm>
          </p:grpSpPr>
          <p:sp>
            <p:nvSpPr>
              <p:cNvPr id="827" name=""/>
              <p:cNvSpPr/>
              <p:nvPr/>
            </p:nvSpPr>
            <p:spPr>
              <a:xfrm>
                <a:off x="4648320" y="4038480"/>
                <a:ext cx="1566000" cy="4572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766040" y="4038480"/>
                <a:ext cx="1430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ditorC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50600" y="3657600"/>
                <a:ext cx="240480" cy="152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71200" y="38098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 flipV="1">
              <a:off x="5371200" y="3124080"/>
              <a:ext cx="481680" cy="533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62120" y="2438280"/>
            <a:ext cx="1218960" cy="1905120"/>
            <a:chOff x="762120" y="2438280"/>
            <a:chExt cx="1218960" cy="1905120"/>
          </a:xfrm>
        </p:grpSpPr>
        <p:grpSp>
          <p:nvGrpSpPr>
            <p:cNvPr id="833" name=""/>
            <p:cNvGrpSpPr/>
            <p:nvPr/>
          </p:nvGrpSpPr>
          <p:grpSpPr>
            <a:xfrm>
              <a:off x="762120" y="3505320"/>
              <a:ext cx="990360" cy="838080"/>
              <a:chOff x="762120" y="3505320"/>
              <a:chExt cx="990360" cy="838080"/>
            </a:xfrm>
          </p:grpSpPr>
          <p:sp>
            <p:nvSpPr>
              <p:cNvPr id="834" name=""/>
              <p:cNvSpPr/>
              <p:nvPr/>
            </p:nvSpPr>
            <p:spPr>
              <a:xfrm>
                <a:off x="762120" y="3886200"/>
                <a:ext cx="990360" cy="45720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37360" y="3886200"/>
                <a:ext cx="806760" cy="39744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143000" y="3505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219320" y="3657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 flipV="1">
              <a:off x="1249200" y="2438280"/>
              <a:ext cx="731880" cy="102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2590560" y="2438280"/>
            <a:ext cx="1483920" cy="1905120"/>
            <a:chOff x="2590560" y="2438280"/>
            <a:chExt cx="1483920" cy="1905120"/>
          </a:xfrm>
        </p:grpSpPr>
        <p:grpSp>
          <p:nvGrpSpPr>
            <p:cNvPr id="840" name=""/>
            <p:cNvGrpSpPr/>
            <p:nvPr/>
          </p:nvGrpSpPr>
          <p:grpSpPr>
            <a:xfrm>
              <a:off x="2819520" y="3505320"/>
              <a:ext cx="1254960" cy="838080"/>
              <a:chOff x="2819520" y="3505320"/>
              <a:chExt cx="1254960" cy="838080"/>
            </a:xfrm>
          </p:grpSpPr>
          <p:sp>
            <p:nvSpPr>
              <p:cNvPr id="841" name=""/>
              <p:cNvSpPr/>
              <p:nvPr/>
            </p:nvSpPr>
            <p:spPr>
              <a:xfrm>
                <a:off x="2819520" y="3886200"/>
                <a:ext cx="1218960" cy="45720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894400" y="3886200"/>
                <a:ext cx="1180080" cy="39744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pell Be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200400" y="3505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276720" y="3657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 flipH="1" flipV="1">
              <a:off x="2590560" y="2438280"/>
              <a:ext cx="685800" cy="102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752480" y="1447920"/>
            <a:ext cx="6171480" cy="1675800"/>
            <a:chOff x="1752480" y="1447920"/>
            <a:chExt cx="6171480" cy="1675800"/>
          </a:xfrm>
        </p:grpSpPr>
        <p:sp>
          <p:nvSpPr>
            <p:cNvPr id="847" name=""/>
            <p:cNvSpPr/>
            <p:nvPr/>
          </p:nvSpPr>
          <p:spPr>
            <a:xfrm>
              <a:off x="1752480" y="1523880"/>
              <a:ext cx="1600200" cy="914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92800" y="1447920"/>
              <a:ext cx="193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ell Check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339080" y="1523880"/>
              <a:ext cx="3584880" cy="1599840"/>
              <a:chOff x="4339080" y="1523880"/>
              <a:chExt cx="3584880" cy="1599840"/>
            </a:xfrm>
          </p:grpSpPr>
          <p:sp>
            <p:nvSpPr>
              <p:cNvPr id="850" name=""/>
              <p:cNvSpPr/>
              <p:nvPr/>
            </p:nvSpPr>
            <p:spPr>
              <a:xfrm>
                <a:off x="4339080" y="2346480"/>
                <a:ext cx="1565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ext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place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4343400" y="1523880"/>
                <a:ext cx="3580560" cy="1599840"/>
                <a:chOff x="4343400" y="1523880"/>
                <a:chExt cx="3580560" cy="159984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343400" y="1523880"/>
                  <a:ext cx="3580560" cy="159984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343400" y="2404080"/>
                  <a:ext cx="358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343400" y="1790640"/>
                  <a:ext cx="358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5238720" y="1905120"/>
                <a:ext cx="626400" cy="2286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343400" y="1981080"/>
                <a:ext cx="89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517280" y="1904760"/>
                <a:ext cx="717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q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784160" y="1560600"/>
              <a:ext cx="1640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ellChe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52680" y="20574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30600" y="1955880"/>
              <a:ext cx="423720" cy="21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5709-9815-4C89-BEA5-4B3092480E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Implemen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080" y="1066680"/>
            <a:ext cx="8727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ditorCoreClas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implements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pellCheckable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Layoutable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{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/ store a tree of all elements — graphics, words, characters, tables, et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rivate ElementTree cont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/ this iterator traverses all elements in the contents tree in depth-first or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rivate DepthFirstIterator elementIterator = contents.roo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/ this iterator only visits Word elements, ignoring oth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rivate WordIterator spellPosition = new WordFilter (elementIterato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/ return the “next” word in the tr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ublic Word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nextWord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() {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ord w = spellPosition.word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pellPosition.next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turn w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/ replace the last visited word with the replac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ublic void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replaceWord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(Word replacement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pellPostion.replaceBefore (replacemen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B08F-CD70-407B-9FC9-01D524BF49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Componen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solidFill>
            <a:srgbClr val="ffcc00"/>
          </a:solidFill>
          <a:ln w="19080">
            <a:solidFill>
              <a:srgbClr val="cc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her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software that can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ly devel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delivered as a unit, and that defin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which it can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o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other components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v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520" y="3504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mponent package can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utable, source, design, specification, models, t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lf-contai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be independently deli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ponent implements provid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terfa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terms of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Times New Roman"/>
              </a:rPr>
              <a:t>The implementation must be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Times New Roman"/>
              </a:rPr>
              <a:t>in terms of interfaces</a:t>
            </a:r>
            <a:r>
              <a:rPr b="0" lang="en-US" sz="1600" spc="-1" strike="noStrike">
                <a:solidFill>
                  <a:srgbClr val="cc0066"/>
                </a:solidFill>
                <a:latin typeface="Times New Roman"/>
              </a:rPr>
              <a:t> expected from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B428-82B0-4F54-9F75-26B72E65B6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fin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2971800" y="3886200"/>
            <a:ext cx="2209680" cy="1971720"/>
          </a:xfrm>
          <a:prstGeom prst="rect">
            <a:avLst/>
          </a:prstGeom>
          <a:ln w="0">
            <a:noFill/>
          </a:ln>
        </p:spPr>
      </p:pic>
      <p:grpSp>
        <p:nvGrpSpPr>
          <p:cNvPr id="865" name=""/>
          <p:cNvGrpSpPr/>
          <p:nvPr/>
        </p:nvGrpSpPr>
        <p:grpSpPr>
          <a:xfrm>
            <a:off x="6248520" y="1599840"/>
            <a:ext cx="2209680" cy="397440"/>
            <a:chOff x="6248520" y="1599840"/>
            <a:chExt cx="2209680" cy="397440"/>
          </a:xfrm>
        </p:grpSpPr>
        <p:sp>
          <p:nvSpPr>
            <p:cNvPr id="866" name=""/>
            <p:cNvSpPr/>
            <p:nvPr/>
          </p:nvSpPr>
          <p:spPr>
            <a:xfrm>
              <a:off x="7831080" y="1600200"/>
              <a:ext cx="627120" cy="228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16765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23560" y="1599840"/>
              <a:ext cx="140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ds seq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600880" y="1143000"/>
            <a:ext cx="3162240" cy="3733920"/>
            <a:chOff x="5600880" y="1143000"/>
            <a:chExt cx="3162240" cy="3733920"/>
          </a:xfrm>
        </p:grpSpPr>
        <p:sp>
          <p:nvSpPr>
            <p:cNvPr id="870" name=""/>
            <p:cNvSpPr/>
            <p:nvPr/>
          </p:nvSpPr>
          <p:spPr>
            <a:xfrm>
              <a:off x="5600880" y="3962520"/>
              <a:ext cx="24382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itorCore &lt;&lt;class&gt;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67560" y="2895480"/>
              <a:ext cx="533520" cy="304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34320" y="320040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6244560" y="1143000"/>
              <a:ext cx="2518560" cy="1676160"/>
              <a:chOff x="6244560" y="1143000"/>
              <a:chExt cx="2518560" cy="1676160"/>
            </a:xfrm>
          </p:grpSpPr>
          <p:sp>
            <p:nvSpPr>
              <p:cNvPr id="874" name=""/>
              <p:cNvSpPr/>
              <p:nvPr/>
            </p:nvSpPr>
            <p:spPr>
              <a:xfrm>
                <a:off x="6397920" y="1143000"/>
                <a:ext cx="1931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pell Check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244560" y="2041560"/>
                <a:ext cx="1565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ext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place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"/>
              <p:cNvGrpSpPr/>
              <p:nvPr/>
            </p:nvGrpSpPr>
            <p:grpSpPr>
              <a:xfrm>
                <a:off x="6248520" y="1219320"/>
                <a:ext cx="2514600" cy="1599840"/>
                <a:chOff x="6248520" y="1219320"/>
                <a:chExt cx="2514600" cy="15998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6248520" y="1219320"/>
                  <a:ext cx="2514600" cy="159984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248520" y="2099520"/>
                  <a:ext cx="251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248520" y="1486080"/>
                  <a:ext cx="251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0" name=""/>
            <p:cNvSpPr/>
            <p:nvPr/>
          </p:nvSpPr>
          <p:spPr>
            <a:xfrm>
              <a:off x="7067160" y="3241800"/>
              <a:ext cx="13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243720" y="2514600"/>
            <a:ext cx="6690600" cy="1114200"/>
            <a:chOff x="243720" y="2514600"/>
            <a:chExt cx="6690600" cy="1114200"/>
          </a:xfrm>
        </p:grpSpPr>
        <p:sp>
          <p:nvSpPr>
            <p:cNvPr id="882" name=""/>
            <p:cNvSpPr/>
            <p:nvPr/>
          </p:nvSpPr>
          <p:spPr>
            <a:xfrm>
              <a:off x="243720" y="3048120"/>
              <a:ext cx="6194520" cy="580680"/>
            </a:xfrm>
            <a:prstGeom prst="rect">
              <a:avLst/>
            </a:prstGeom>
            <a:noFill/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words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contents.asDepthFirstSequence </a:t>
              </a: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-&gt; select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(e | e.isKindOf (Word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3352680"/>
              <a:ext cx="4572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28760" y="2514600"/>
              <a:ext cx="39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bstraction function” or “retrieval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6019920"/>
            <a:ext cx="77724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cc00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ion function “retrieves” abstract model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4A6B-2578-45A4-9B2E-94B28657FD0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 a Component using Oth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120" y="5043600"/>
            <a:ext cx="79246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e can now plug-in and out different dictionaries, languages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49040" y="1523880"/>
            <a:ext cx="1641960" cy="1311840"/>
            <a:chOff x="149040" y="1523880"/>
            <a:chExt cx="1641960" cy="1311840"/>
          </a:xfrm>
        </p:grpSpPr>
        <p:sp>
          <p:nvSpPr>
            <p:cNvPr id="889" name=""/>
            <p:cNvSpPr/>
            <p:nvPr/>
          </p:nvSpPr>
          <p:spPr>
            <a:xfrm>
              <a:off x="149040" y="2438280"/>
              <a:ext cx="1641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ll-Che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80880" y="1523880"/>
              <a:ext cx="990360" cy="914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3581280" y="1981080"/>
            <a:ext cx="175284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579120" y="2057040"/>
            <a:ext cx="1727280" cy="39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er-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337000" y="2641680"/>
            <a:ext cx="758880" cy="48240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0" y="0"/>
                </a:lnTo>
                <a:lnTo>
                  <a:pt x="52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15000" y="2514600"/>
            <a:ext cx="533520" cy="228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562720" y="2438280"/>
            <a:ext cx="761760" cy="30492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0" y="192"/>
                </a:moveTo>
                <a:lnTo>
                  <a:pt x="0" y="0"/>
                </a:lnTo>
                <a:lnTo>
                  <a:pt x="48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876920" y="3048120"/>
            <a:ext cx="1752480" cy="1218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38760" y="2971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24880" y="3504960"/>
            <a:ext cx="1065960" cy="7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876920" y="3352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162920" y="3429000"/>
            <a:ext cx="1600200" cy="76212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59680" y="3505320"/>
            <a:ext cx="1346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7620120" y="3048120"/>
            <a:ext cx="152280" cy="380880"/>
            <a:chOff x="7620120" y="3048120"/>
            <a:chExt cx="152280" cy="380880"/>
          </a:xfrm>
        </p:grpSpPr>
        <p:sp>
          <p:nvSpPr>
            <p:cNvPr id="903" name=""/>
            <p:cNvSpPr/>
            <p:nvPr/>
          </p:nvSpPr>
          <p:spPr>
            <a:xfrm>
              <a:off x="7620120" y="30481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6080" y="3200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200400" y="1676520"/>
            <a:ext cx="3733920" cy="28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1295280"/>
            <a:ext cx="22096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ll Checke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16200000">
            <a:off x="1525680" y="1905120"/>
            <a:ext cx="304560" cy="304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828800" y="2057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718D-6510-4274-9A83-AF55DFAF58A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Components: Modeling Issu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-304920" y="99036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ssemble variety of configurations from a kit of reusable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s abstract parts, abstract connections, multiple views and “plug”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33520" y="3276720"/>
            <a:ext cx="1980720" cy="672840"/>
            <a:chOff x="533520" y="3276720"/>
            <a:chExt cx="1980720" cy="672840"/>
          </a:xfrm>
        </p:grpSpPr>
        <p:sp>
          <p:nvSpPr>
            <p:cNvPr id="912" name=""/>
            <p:cNvSpPr/>
            <p:nvPr/>
          </p:nvSpPr>
          <p:spPr>
            <a:xfrm>
              <a:off x="533520" y="3276720"/>
              <a:ext cx="9903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Times New Roman"/>
                </a:rPr>
                <a:t>Rece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23880" y="3581280"/>
              <a:ext cx="9903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h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61760" y="3504960"/>
              <a:ext cx="761760" cy="152280"/>
            </a:xfrm>
            <a:custGeom>
              <a:avLst/>
              <a:gdLst/>
              <a:ahLst/>
              <a:rect l="l" t="t" r="r" b="b"/>
              <a:pathLst>
                <a:path w="480" h="96">
                  <a:moveTo>
                    <a:pt x="0" y="0"/>
                  </a:moveTo>
                  <a:lnTo>
                    <a:pt x="0" y="96"/>
                  </a:lnTo>
                  <a:lnTo>
                    <a:pt x="4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22040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800600" y="2971800"/>
            <a:ext cx="1981080" cy="672840"/>
            <a:chOff x="4800600" y="2971800"/>
            <a:chExt cx="1981080" cy="672840"/>
          </a:xfrm>
        </p:grpSpPr>
        <p:sp>
          <p:nvSpPr>
            <p:cNvPr id="917" name=""/>
            <p:cNvSpPr/>
            <p:nvPr/>
          </p:nvSpPr>
          <p:spPr>
            <a:xfrm>
              <a:off x="4800600" y="2971800"/>
              <a:ext cx="99036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Times New Roman"/>
                </a:rPr>
                <a:t>Bu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90960" y="327636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3200400"/>
              <a:ext cx="761760" cy="152280"/>
            </a:xfrm>
            <a:custGeom>
              <a:avLst/>
              <a:gdLst/>
              <a:ahLst/>
              <a:rect l="l" t="t" r="r" b="b"/>
              <a:pathLst>
                <a:path w="480" h="96">
                  <a:moveTo>
                    <a:pt x="0" y="0"/>
                  </a:moveTo>
                  <a:lnTo>
                    <a:pt x="0" y="96"/>
                  </a:lnTo>
                  <a:lnTo>
                    <a:pt x="4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48784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-25920" y="3581280"/>
            <a:ext cx="5627520" cy="1739880"/>
            <a:chOff x="-25920" y="3581280"/>
            <a:chExt cx="5627520" cy="1739880"/>
          </a:xfrm>
        </p:grpSpPr>
        <p:sp>
          <p:nvSpPr>
            <p:cNvPr id="922" name=""/>
            <p:cNvSpPr/>
            <p:nvPr/>
          </p:nvSpPr>
          <p:spPr>
            <a:xfrm>
              <a:off x="-25920" y="4952880"/>
              <a:ext cx="56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eparate views for flexible use (can ship to any 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ceiver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2590920" y="3733920"/>
              <a:ext cx="83808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505320" y="3581280"/>
              <a:ext cx="129528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4267080" y="5334120"/>
            <a:ext cx="4267080" cy="1294920"/>
            <a:chOff x="4267080" y="5334120"/>
            <a:chExt cx="4267080" cy="1294920"/>
          </a:xfrm>
        </p:grpSpPr>
        <p:sp>
          <p:nvSpPr>
            <p:cNvPr id="926" name=""/>
            <p:cNvSpPr/>
            <p:nvPr/>
          </p:nvSpPr>
          <p:spPr>
            <a:xfrm>
              <a:off x="5497920" y="5638680"/>
              <a:ext cx="303624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12400" y="5562360"/>
              <a:ext cx="257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grated business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497920" y="5334120"/>
              <a:ext cx="65628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825880" y="5943600"/>
              <a:ext cx="11491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Times New Roman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03320" y="6248160"/>
              <a:ext cx="65664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18360" y="6400800"/>
              <a:ext cx="656640" cy="15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564600" y="61722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75360" y="6095880"/>
              <a:ext cx="32796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67080" y="5638680"/>
              <a:ext cx="1230840" cy="38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6858000" y="3962520"/>
            <a:ext cx="2210760" cy="1252080"/>
            <a:chOff x="6858000" y="3962520"/>
            <a:chExt cx="2210760" cy="1252080"/>
          </a:xfrm>
        </p:grpSpPr>
        <p:sp>
          <p:nvSpPr>
            <p:cNvPr id="936" name=""/>
            <p:cNvSpPr/>
            <p:nvPr/>
          </p:nvSpPr>
          <p:spPr>
            <a:xfrm>
              <a:off x="7009200" y="4572000"/>
              <a:ext cx="205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recise interfa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or 3rd assemb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58000" y="396252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2550960" y="2743200"/>
            <a:ext cx="2136600" cy="916920"/>
            <a:chOff x="2550960" y="2743200"/>
            <a:chExt cx="2136600" cy="916920"/>
          </a:xfrm>
        </p:grpSpPr>
        <p:sp>
          <p:nvSpPr>
            <p:cNvPr id="939" name=""/>
            <p:cNvSpPr/>
            <p:nvPr/>
          </p:nvSpPr>
          <p:spPr>
            <a:xfrm>
              <a:off x="2550960" y="3200400"/>
              <a:ext cx="21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19440" y="3084480"/>
              <a:ext cx="237240" cy="228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75080" y="2743200"/>
              <a:ext cx="201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vent&gt;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Times New Roman"/>
                </a:rPr>
                <a:t>shi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en-US" sz="1800" spc="-1" strike="noStrike">
                  <a:solidFill>
                    <a:srgbClr val="cc0066"/>
                  </a:solidFill>
                  <a:latin typeface="Times New Roman"/>
                </a:rPr>
                <a:t>orde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911160" y="1905120"/>
            <a:ext cx="5080320" cy="914400"/>
            <a:chOff x="911160" y="1905120"/>
            <a:chExt cx="5080320" cy="914400"/>
          </a:xfrm>
        </p:grpSpPr>
        <p:sp>
          <p:nvSpPr>
            <p:cNvPr id="943" name=""/>
            <p:cNvSpPr/>
            <p:nvPr/>
          </p:nvSpPr>
          <p:spPr>
            <a:xfrm>
              <a:off x="911160" y="1905120"/>
              <a:ext cx="508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igher-level late-bound connectors and proper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bstract the protocol, defer bin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390840" y="25909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304920" y="2514600"/>
            <a:ext cx="6639840" cy="2438280"/>
            <a:chOff x="304920" y="2514600"/>
            <a:chExt cx="6639840" cy="2438280"/>
          </a:xfrm>
        </p:grpSpPr>
        <p:grpSp>
          <p:nvGrpSpPr>
            <p:cNvPr id="946" name=""/>
            <p:cNvGrpSpPr/>
            <p:nvPr/>
          </p:nvGrpSpPr>
          <p:grpSpPr>
            <a:xfrm>
              <a:off x="304920" y="2743200"/>
              <a:ext cx="2272680" cy="1904760"/>
              <a:chOff x="304920" y="2743200"/>
              <a:chExt cx="2272680" cy="1904760"/>
            </a:xfrm>
          </p:grpSpPr>
          <p:sp>
            <p:nvSpPr>
              <p:cNvPr id="947" name=""/>
              <p:cNvSpPr/>
              <p:nvPr/>
            </p:nvSpPr>
            <p:spPr>
              <a:xfrm>
                <a:off x="316080" y="4027320"/>
                <a:ext cx="2261520" cy="111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8" name=""/>
              <p:cNvGrpSpPr/>
              <p:nvPr/>
            </p:nvGrpSpPr>
            <p:grpSpPr>
              <a:xfrm>
                <a:off x="304920" y="2743200"/>
                <a:ext cx="2272320" cy="1904760"/>
                <a:chOff x="304920" y="2743200"/>
                <a:chExt cx="2272320" cy="190476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1079640" y="2819160"/>
                  <a:ext cx="7552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hipp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03920" y="4082760"/>
                  <a:ext cx="216180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66ff"/>
                      </a:solidFill>
                      <a:latin typeface="Times New Roman"/>
                    </a:rPr>
                    <a:t>ship (shipment, receiv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hippingStatus (ord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04920" y="2743200"/>
                  <a:ext cx="2261160" cy="1904760"/>
                </a:xfrm>
                <a:prstGeom prst="rect">
                  <a:avLst/>
                </a:prstGeom>
                <a:noFill/>
                <a:ln w="28440">
                  <a:solidFill>
                    <a:srgbClr val="cc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316080" y="3112920"/>
                  <a:ext cx="2261160" cy="111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3" name=""/>
            <p:cNvGrpSpPr/>
            <p:nvPr/>
          </p:nvGrpSpPr>
          <p:grpSpPr>
            <a:xfrm>
              <a:off x="4672080" y="2514600"/>
              <a:ext cx="2272680" cy="2438280"/>
              <a:chOff x="4672080" y="2514600"/>
              <a:chExt cx="2272680" cy="2438280"/>
            </a:xfrm>
          </p:grpSpPr>
          <p:sp>
            <p:nvSpPr>
              <p:cNvPr id="954" name=""/>
              <p:cNvSpPr/>
              <p:nvPr/>
            </p:nvSpPr>
            <p:spPr>
              <a:xfrm>
                <a:off x="5246280" y="2514600"/>
                <a:ext cx="114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rder Tak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71800" y="3836880"/>
                <a:ext cx="1776240" cy="97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akeOrder (inf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rderStatus (...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ncel (...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66"/>
                    </a:solidFill>
                    <a:latin typeface="Times New Roman"/>
                  </a:rPr>
                  <a:t>&lt;&lt;output&gt;&gt;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cc0066"/>
                    </a:solidFill>
                    <a:latin typeface="Times New Roman"/>
                  </a:rPr>
                  <a:t>orde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83240" y="3733560"/>
                <a:ext cx="2261520" cy="129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672080" y="2514600"/>
                <a:ext cx="2261520" cy="2438280"/>
              </a:xfrm>
              <a:prstGeom prst="rect">
                <a:avLst/>
              </a:prstGeom>
              <a:noFill/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683240" y="2820960"/>
                <a:ext cx="2261520" cy="12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6705720" y="1843200"/>
            <a:ext cx="2311920" cy="671400"/>
            <a:chOff x="6705720" y="1843200"/>
            <a:chExt cx="2311920" cy="671400"/>
          </a:xfrm>
        </p:grpSpPr>
        <p:sp>
          <p:nvSpPr>
            <p:cNvPr id="960" name=""/>
            <p:cNvSpPr/>
            <p:nvPr/>
          </p:nvSpPr>
          <p:spPr>
            <a:xfrm>
              <a:off x="6780960" y="1843200"/>
              <a:ext cx="22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igher-level pa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bstract the ob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6705720" y="2133720"/>
              <a:ext cx="3045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225360" y="5286240"/>
            <a:ext cx="41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must integrate in conceptua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must integrate data in 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shared objects with multiple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federated data + cross-component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EEA0-2E57-4B9C-9C16-1EB869D251B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4076640" y="1043280"/>
            <a:ext cx="2781360" cy="5000400"/>
            <a:chOff x="4076640" y="1043280"/>
            <a:chExt cx="2781360" cy="5000400"/>
          </a:xfrm>
        </p:grpSpPr>
        <p:sp>
          <p:nvSpPr>
            <p:cNvPr id="964" name=""/>
            <p:cNvSpPr/>
            <p:nvPr/>
          </p:nvSpPr>
          <p:spPr>
            <a:xfrm>
              <a:off x="4076640" y="1667160"/>
              <a:ext cx="2779920" cy="49032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76640" y="2886480"/>
              <a:ext cx="2779920" cy="49032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Local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76640" y="4181760"/>
              <a:ext cx="2779920" cy="49032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Business 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76640" y="5553360"/>
              <a:ext cx="2779920" cy="49032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Business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8440" y="1043280"/>
              <a:ext cx="2779560" cy="490320"/>
            </a:xfrm>
            <a:prstGeom prst="cube">
              <a:avLst>
                <a:gd name="adj" fmla="val 25000"/>
              </a:avLst>
            </a:prstGeom>
            <a:solidFill>
              <a:srgbClr val="00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usiness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5676840" y="2179080"/>
            <a:ext cx="2958840" cy="368280"/>
            <a:chOff x="5676840" y="2179080"/>
            <a:chExt cx="2958840" cy="368280"/>
          </a:xfrm>
        </p:grpSpPr>
        <p:sp>
          <p:nvSpPr>
            <p:cNvPr id="970" name=""/>
            <p:cNvSpPr/>
            <p:nvPr/>
          </p:nvSpPr>
          <p:spPr>
            <a:xfrm>
              <a:off x="6842520" y="2179080"/>
              <a:ext cx="179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” conn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5676840" y="2361960"/>
              <a:ext cx="1218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5676840" y="3504600"/>
            <a:ext cx="3468600" cy="368280"/>
            <a:chOff x="5676840" y="3504600"/>
            <a:chExt cx="3468600" cy="368280"/>
          </a:xfrm>
        </p:grpSpPr>
        <p:sp>
          <p:nvSpPr>
            <p:cNvPr id="973" name=""/>
            <p:cNvSpPr/>
            <p:nvPr/>
          </p:nvSpPr>
          <p:spPr>
            <a:xfrm>
              <a:off x="6818760" y="3504600"/>
              <a:ext cx="23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tributed” conn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76840" y="37339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5676840" y="4876200"/>
            <a:ext cx="3468600" cy="368280"/>
            <a:chOff x="5676840" y="4876200"/>
            <a:chExt cx="3468600" cy="368280"/>
          </a:xfrm>
        </p:grpSpPr>
        <p:sp>
          <p:nvSpPr>
            <p:cNvPr id="976" name=""/>
            <p:cNvSpPr/>
            <p:nvPr/>
          </p:nvSpPr>
          <p:spPr>
            <a:xfrm>
              <a:off x="6818760" y="4876200"/>
              <a:ext cx="23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tributed” conn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676840" y="5029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Components: Tiered Archite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238720" y="2133720"/>
            <a:ext cx="380880" cy="3352680"/>
            <a:chOff x="5238720" y="2133720"/>
            <a:chExt cx="380880" cy="3352680"/>
          </a:xfrm>
        </p:grpSpPr>
        <p:sp>
          <p:nvSpPr>
            <p:cNvPr id="980" name=""/>
            <p:cNvSpPr/>
            <p:nvPr/>
          </p:nvSpPr>
          <p:spPr>
            <a:xfrm>
              <a:off x="5448240" y="21337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38720" y="22860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48240" y="342900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38720" y="3581280"/>
              <a:ext cx="380880" cy="30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48240" y="47242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38720" y="4876920"/>
              <a:ext cx="380880" cy="304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606600" y="380916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nterfaces connecting Business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2743200" y="4114800"/>
            <a:ext cx="4343400" cy="304920"/>
            <a:chOff x="2743200" y="4114800"/>
            <a:chExt cx="4343400" cy="304920"/>
          </a:xfrm>
        </p:grpSpPr>
        <p:grpSp>
          <p:nvGrpSpPr>
            <p:cNvPr id="988" name=""/>
            <p:cNvGrpSpPr/>
            <p:nvPr/>
          </p:nvGrpSpPr>
          <p:grpSpPr>
            <a:xfrm>
              <a:off x="3771720" y="4267080"/>
              <a:ext cx="648000" cy="152640"/>
              <a:chOff x="3771720" y="4267080"/>
              <a:chExt cx="648000" cy="152640"/>
            </a:xfrm>
          </p:grpSpPr>
          <p:sp>
            <p:nvSpPr>
              <p:cNvPr id="989" name=""/>
              <p:cNvSpPr/>
              <p:nvPr/>
            </p:nvSpPr>
            <p:spPr>
              <a:xfrm>
                <a:off x="3886200" y="43434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771360" y="4267080"/>
                <a:ext cx="152280" cy="15264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6438600" y="4267080"/>
              <a:ext cx="648000" cy="152640"/>
              <a:chOff x="6438600" y="4267080"/>
              <a:chExt cx="648000" cy="152640"/>
            </a:xfrm>
          </p:grpSpPr>
          <p:sp>
            <p:nvSpPr>
              <p:cNvPr id="992" name=""/>
              <p:cNvSpPr/>
              <p:nvPr/>
            </p:nvSpPr>
            <p:spPr>
              <a:xfrm flipH="1">
                <a:off x="6438600" y="43434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4320" y="4267080"/>
                <a:ext cx="152280" cy="15264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>
              <a:off x="2743200" y="4114800"/>
              <a:ext cx="9144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608400" y="335196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vertical 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4560" y="298548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package application components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2209680" y="1371600"/>
            <a:ext cx="5193720" cy="5320440"/>
            <a:chOff x="2209680" y="1371600"/>
            <a:chExt cx="5193720" cy="5320440"/>
          </a:xfrm>
        </p:grpSpPr>
        <p:grpSp>
          <p:nvGrpSpPr>
            <p:cNvPr id="998" name=""/>
            <p:cNvGrpSpPr/>
            <p:nvPr/>
          </p:nvGrpSpPr>
          <p:grpSpPr>
            <a:xfrm>
              <a:off x="2209680" y="1371600"/>
              <a:ext cx="4381560" cy="4952880"/>
              <a:chOff x="2209680" y="1371600"/>
              <a:chExt cx="4381560" cy="4952880"/>
            </a:xfrm>
          </p:grpSpPr>
          <p:sp>
            <p:nvSpPr>
              <p:cNvPr id="999" name=""/>
              <p:cNvSpPr/>
              <p:nvPr/>
            </p:nvSpPr>
            <p:spPr>
              <a:xfrm>
                <a:off x="4305240" y="1371600"/>
                <a:ext cx="609840" cy="4952880"/>
              </a:xfrm>
              <a:prstGeom prst="cube">
                <a:avLst>
                  <a:gd name="adj" fmla="val 25000"/>
                </a:avLst>
              </a:prstGeom>
              <a:solidFill>
                <a:srgbClr val="0000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981760" y="1371600"/>
                <a:ext cx="609480" cy="4952880"/>
              </a:xfrm>
              <a:prstGeom prst="cube">
                <a:avLst>
                  <a:gd name="adj" fmla="val 25000"/>
                </a:avLst>
              </a:prstGeom>
              <a:solidFill>
                <a:srgbClr val="ffcc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209680" y="3429000"/>
                <a:ext cx="205740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4211640" y="63237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Times New Roman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96600" y="6323760"/>
              <a:ext cx="13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Times New Roman"/>
                </a:rPr>
                <a:t>Order Ta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-5040" y="4342680"/>
            <a:ext cx="4082040" cy="2219760"/>
            <a:chOff x="-5040" y="4342680"/>
            <a:chExt cx="4082040" cy="2219760"/>
          </a:xfrm>
        </p:grpSpPr>
        <p:sp>
          <p:nvSpPr>
            <p:cNvPr id="1005" name=""/>
            <p:cNvSpPr/>
            <p:nvPr/>
          </p:nvSpPr>
          <p:spPr>
            <a:xfrm>
              <a:off x="-5040" y="4342680"/>
              <a:ext cx="408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onent packaging + reuse at all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2760" y="6010200"/>
              <a:ext cx="1441440" cy="49032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23920" y="4790880"/>
              <a:ext cx="1046880" cy="49032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I pa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22800" y="4790880"/>
              <a:ext cx="1798200" cy="49032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Ob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8040" y="5476680"/>
              <a:ext cx="2939760" cy="49032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Objects + UI 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801800" y="6072120"/>
              <a:ext cx="2011680" cy="49032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gging, events,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4343400" y="2133720"/>
            <a:ext cx="2057400" cy="3352680"/>
            <a:chOff x="4343400" y="2133720"/>
            <a:chExt cx="2057400" cy="3352680"/>
          </a:xfrm>
        </p:grpSpPr>
        <p:grpSp>
          <p:nvGrpSpPr>
            <p:cNvPr id="1012" name=""/>
            <p:cNvGrpSpPr/>
            <p:nvPr/>
          </p:nvGrpSpPr>
          <p:grpSpPr>
            <a:xfrm>
              <a:off x="4343400" y="2133720"/>
              <a:ext cx="380880" cy="3352680"/>
              <a:chOff x="4343400" y="2133720"/>
              <a:chExt cx="380880" cy="3352680"/>
            </a:xfrm>
          </p:grpSpPr>
          <p:sp>
            <p:nvSpPr>
              <p:cNvPr id="1013" name=""/>
              <p:cNvSpPr/>
              <p:nvPr/>
            </p:nvSpPr>
            <p:spPr>
              <a:xfrm>
                <a:off x="4552920" y="2133720"/>
                <a:ext cx="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343400" y="2286000"/>
                <a:ext cx="380880" cy="30492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52920" y="3429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343400" y="3581280"/>
                <a:ext cx="380880" cy="30492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52920" y="472428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343400" y="4876920"/>
                <a:ext cx="380880" cy="30456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019920" y="2133720"/>
              <a:ext cx="380880" cy="3352680"/>
              <a:chOff x="6019920" y="2133720"/>
              <a:chExt cx="380880" cy="3352680"/>
            </a:xfrm>
          </p:grpSpPr>
          <p:sp>
            <p:nvSpPr>
              <p:cNvPr id="1020" name=""/>
              <p:cNvSpPr/>
              <p:nvPr/>
            </p:nvSpPr>
            <p:spPr>
              <a:xfrm>
                <a:off x="6229440" y="2133720"/>
                <a:ext cx="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019920" y="2286000"/>
                <a:ext cx="380880" cy="30492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229440" y="3429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019920" y="3581280"/>
                <a:ext cx="380880" cy="30492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229440" y="472428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019920" y="4876920"/>
                <a:ext cx="380880" cy="30456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6" name=""/>
          <p:cNvSpPr/>
          <p:nvPr/>
        </p:nvSpPr>
        <p:spPr>
          <a:xfrm>
            <a:off x="243720" y="1981080"/>
            <a:ext cx="3531960" cy="916920"/>
          </a:xfrm>
          <a:prstGeom prst="rect">
            <a:avLst/>
          </a:prstGeom>
          <a:solidFill>
            <a:srgbClr val="ffcc00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oom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show architec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s, 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oom 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model abs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380880" y="1066680"/>
            <a:ext cx="2971440" cy="533520"/>
            <a:chOff x="380880" y="1066680"/>
            <a:chExt cx="2971440" cy="533520"/>
          </a:xfrm>
        </p:grpSpPr>
        <p:grpSp>
          <p:nvGrpSpPr>
            <p:cNvPr id="1028" name=""/>
            <p:cNvGrpSpPr/>
            <p:nvPr/>
          </p:nvGrpSpPr>
          <p:grpSpPr>
            <a:xfrm>
              <a:off x="380880" y="1066680"/>
              <a:ext cx="990720" cy="533520"/>
              <a:chOff x="380880" y="1066680"/>
              <a:chExt cx="990720" cy="533520"/>
            </a:xfrm>
          </p:grpSpPr>
          <p:sp>
            <p:nvSpPr>
              <p:cNvPr id="1029" name=""/>
              <p:cNvSpPr/>
              <p:nvPr/>
            </p:nvSpPr>
            <p:spPr>
              <a:xfrm>
                <a:off x="463320" y="1143000"/>
                <a:ext cx="75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hipp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80880" y="1066680"/>
                <a:ext cx="990720" cy="533520"/>
              </a:xfrm>
              <a:prstGeom prst="rect">
                <a:avLst/>
              </a:prstGeom>
              <a:noFill/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80880" y="144756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2050920" y="1066680"/>
              <a:ext cx="1301400" cy="533520"/>
              <a:chOff x="2050920" y="1066680"/>
              <a:chExt cx="1301400" cy="533520"/>
            </a:xfrm>
          </p:grpSpPr>
          <p:sp>
            <p:nvSpPr>
              <p:cNvPr id="1033" name=""/>
              <p:cNvSpPr/>
              <p:nvPr/>
            </p:nvSpPr>
            <p:spPr>
              <a:xfrm>
                <a:off x="2125080" y="1143000"/>
                <a:ext cx="114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rder Tak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2050920" y="1066680"/>
                <a:ext cx="1301400" cy="533520"/>
                <a:chOff x="2050920" y="1066680"/>
                <a:chExt cx="1301400" cy="53352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2050920" y="1066680"/>
                  <a:ext cx="1301400" cy="533520"/>
                </a:xfrm>
                <a:prstGeom prst="rect">
                  <a:avLst/>
                </a:prstGeom>
                <a:noFill/>
                <a:ln w="28440">
                  <a:solidFill>
                    <a:srgbClr val="cc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050920" y="1447560"/>
                  <a:ext cx="130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7" name=""/>
            <p:cNvSpPr/>
            <p:nvPr/>
          </p:nvSpPr>
          <p:spPr>
            <a:xfrm>
              <a:off x="1600200" y="1219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1371240" y="1295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09D1-9CBD-4445-AB7C-26E88915F50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1676520" y="9144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Specifying and Designing Java B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4659-11D4-4DE4-9FFF-A284663FF3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eption versus Undefined Behavi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33160" y="4876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exceptions are different from undefined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r needs clear indication of exception versu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 should not be overspecified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OCF8.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152280" y="1292400"/>
            <a:ext cx="8839440" cy="29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AFA6-F495-4D4A-8A63-FD719CE0187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ying Excep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ica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::spellCheck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ption = throws (Object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throw &lt;=&gt;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= not throws (Obje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if normal, nothing throw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separ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fining different excep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::spellCheck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ctionary@pre = null) or (read_only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mpl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a definite exception if no dictionary or read_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ws (DictionaryError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mpl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ictionary@pre 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ptio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mpl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ents un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ontents definitely unchanged on any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858000" y="6705360"/>
            <a:ext cx="175248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9C58-45E4-481C-A16C-CE5A16C7BA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1676520" y="9144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Specifying and Designing Java B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5CF5-31FC-4511-9B56-015E8A89874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model attribute vs. query meth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81532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e-model attribute do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y a get/set metho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are just a model of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necessarily externally accessi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publicly accessible things are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must have read-only methods for any public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a recurring pattern for any “exposed” attribu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cut for “property” attributes with Catalysis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7337880" y="1905120"/>
            <a:ext cx="1348920" cy="1019160"/>
            <a:chOff x="7337880" y="1905120"/>
            <a:chExt cx="1348920" cy="1019160"/>
          </a:xfrm>
        </p:grpSpPr>
        <p:sp>
          <p:nvSpPr>
            <p:cNvPr id="1054" name=""/>
            <p:cNvSpPr/>
            <p:nvPr/>
          </p:nvSpPr>
          <p:spPr>
            <a:xfrm>
              <a:off x="7391520" y="1905120"/>
              <a:ext cx="129528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Model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91520" y="21337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91520" y="25909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37880" y="255600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ubl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0585-87CF-4A1F-85D9-6F4ED3CB996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wan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explicit get/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es the main int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 patt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property&gt;&gt; can be annotated on any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property&gt;&gt; is defined as a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/set is implied (expanded form) of that an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B3A3-2E4F-49D2-91EE-218176E684E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and Interfa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lvl="1" marL="466200" indent="-155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s must clearly separate interfaces from implement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200" indent="-155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s must be organized to capture interface depend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743200" y="2438280"/>
            <a:ext cx="3352680" cy="1143000"/>
            <a:chOff x="2743200" y="2438280"/>
            <a:chExt cx="3352680" cy="1143000"/>
          </a:xfrm>
        </p:grpSpPr>
        <p:sp>
          <p:nvSpPr>
            <p:cNvPr id="105" name=""/>
            <p:cNvSpPr/>
            <p:nvPr/>
          </p:nvSpPr>
          <p:spPr>
            <a:xfrm>
              <a:off x="2743200" y="2666880"/>
              <a:ext cx="33526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4382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readsh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4960" y="2895480"/>
              <a:ext cx="53316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440" y="3124080"/>
              <a:ext cx="53316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038480" y="2895120"/>
              <a:ext cx="45684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4038120" y="3200040"/>
              <a:ext cx="456840" cy="1526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0480" y="270792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92440" y="320004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ta 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7360" y="3047760"/>
              <a:ext cx="62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0880" y="1676520"/>
            <a:ext cx="2361600" cy="1218240"/>
            <a:chOff x="380880" y="1676520"/>
            <a:chExt cx="2361600" cy="1218240"/>
          </a:xfrm>
        </p:grpSpPr>
        <p:grpSp>
          <p:nvGrpSpPr>
            <p:cNvPr id="115" name=""/>
            <p:cNvGrpSpPr/>
            <p:nvPr/>
          </p:nvGrpSpPr>
          <p:grpSpPr>
            <a:xfrm>
              <a:off x="380880" y="1676520"/>
              <a:ext cx="1904760" cy="533160"/>
              <a:chOff x="380880" y="1676520"/>
              <a:chExt cx="1904760" cy="533160"/>
            </a:xfrm>
          </p:grpSpPr>
          <p:sp>
            <p:nvSpPr>
              <p:cNvPr id="116" name=""/>
              <p:cNvSpPr/>
              <p:nvPr/>
            </p:nvSpPr>
            <p:spPr>
              <a:xfrm>
                <a:off x="380880" y="1676520"/>
                <a:ext cx="14475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Displa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880" y="1905120"/>
                <a:ext cx="190476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H="1" flipV="1">
              <a:off x="1752120" y="2285280"/>
              <a:ext cx="9903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791320" y="1676520"/>
            <a:ext cx="1904760" cy="1066320"/>
            <a:chOff x="5791320" y="1676520"/>
            <a:chExt cx="1904760" cy="1066320"/>
          </a:xfrm>
        </p:grpSpPr>
        <p:grpSp>
          <p:nvGrpSpPr>
            <p:cNvPr id="120" name=""/>
            <p:cNvGrpSpPr/>
            <p:nvPr/>
          </p:nvGrpSpPr>
          <p:grpSpPr>
            <a:xfrm>
              <a:off x="5791320" y="1676520"/>
              <a:ext cx="1904760" cy="533160"/>
              <a:chOff x="5791320" y="1676520"/>
              <a:chExt cx="1904760" cy="533160"/>
            </a:xfrm>
          </p:grpSpPr>
          <p:sp>
            <p:nvSpPr>
              <p:cNvPr id="121" name=""/>
              <p:cNvSpPr/>
              <p:nvPr/>
            </p:nvSpPr>
            <p:spPr>
              <a:xfrm>
                <a:off x="5791320" y="1676520"/>
                <a:ext cx="14475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DataSour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91320" y="1905120"/>
                <a:ext cx="190476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V="1">
              <a:off x="6095880" y="2209680"/>
              <a:ext cx="609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96160" y="3733920"/>
            <a:ext cx="33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t contain (or refer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faces provided and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781680" y="2209680"/>
            <a:ext cx="1295280" cy="761400"/>
            <a:chOff x="6781680" y="2209680"/>
            <a:chExt cx="1295280" cy="761400"/>
          </a:xfrm>
        </p:grpSpPr>
        <p:sp>
          <p:nvSpPr>
            <p:cNvPr id="126" name=""/>
            <p:cNvSpPr/>
            <p:nvPr/>
          </p:nvSpPr>
          <p:spPr>
            <a:xfrm flipH="1" flipV="1">
              <a:off x="6933600" y="220968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7085880" y="2209680"/>
              <a:ext cx="381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7314840" y="220968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781680" y="2666880"/>
              <a:ext cx="533160" cy="304200"/>
              <a:chOff x="6781680" y="2666880"/>
              <a:chExt cx="533160" cy="304200"/>
            </a:xfrm>
          </p:grpSpPr>
          <p:sp>
            <p:nvSpPr>
              <p:cNvPr id="130" name=""/>
              <p:cNvSpPr/>
              <p:nvPr/>
            </p:nvSpPr>
            <p:spPr>
              <a:xfrm>
                <a:off x="6781680" y="2666880"/>
                <a:ext cx="405360" cy="130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781680" y="2797200"/>
                <a:ext cx="533160" cy="173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7238880" y="2590560"/>
              <a:ext cx="533160" cy="304920"/>
              <a:chOff x="7238880" y="2590560"/>
              <a:chExt cx="533160" cy="304920"/>
            </a:xfrm>
          </p:grpSpPr>
          <p:sp>
            <p:nvSpPr>
              <p:cNvPr id="133" name=""/>
              <p:cNvSpPr/>
              <p:nvPr/>
            </p:nvSpPr>
            <p:spPr>
              <a:xfrm>
                <a:off x="7238880" y="2590560"/>
                <a:ext cx="40536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38880" y="2721240"/>
                <a:ext cx="533160" cy="174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543440" y="2514240"/>
              <a:ext cx="533520" cy="304920"/>
              <a:chOff x="7543440" y="2514240"/>
              <a:chExt cx="533520" cy="30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7543440" y="2514240"/>
                <a:ext cx="40536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543440" y="2644920"/>
                <a:ext cx="533520" cy="174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6547320" y="304812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y 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used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9965-BAAE-4498-B071-FC7AEEB77B96}" type="slidenum">
              <a:t>5</a:t>
            </a:fld>
          </a:p>
        </p:txBody>
      </p:sp>
    </p:spTree>
  </p:cSld>
  <p:transition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alysis Model Frame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320480"/>
            <a:ext cx="7772400" cy="584280"/>
          </a:xfrm>
          <a:prstGeom prst="rect">
            <a:avLst/>
          </a:prstGeom>
          <a:solidFill>
            <a:srgbClr val="ffcc00"/>
          </a:solidFill>
          <a:ln w="9360">
            <a:solidFill>
              <a:srgbClr val="cc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eneric template package which is imported with substit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062000" y="3048120"/>
            <a:ext cx="373392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62000" y="2514600"/>
            <a:ext cx="19810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588320" y="3352680"/>
            <a:ext cx="2475360" cy="2008800"/>
            <a:chOff x="1588320" y="3352680"/>
            <a:chExt cx="2475360" cy="2008800"/>
          </a:xfrm>
        </p:grpSpPr>
        <p:sp>
          <p:nvSpPr>
            <p:cNvPr id="1065" name=""/>
            <p:cNvSpPr/>
            <p:nvPr/>
          </p:nvSpPr>
          <p:spPr>
            <a:xfrm>
              <a:off x="1588320" y="4659120"/>
              <a:ext cx="2364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Times New Roman"/>
                </a:rPr>
                <a:t>get_&lt;property&gt; () :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Times New Roman"/>
                </a:rPr>
                <a:t>set_&lt;property&gt; 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595520" y="3352680"/>
              <a:ext cx="2468160" cy="2008080"/>
              <a:chOff x="1595520" y="3352680"/>
              <a:chExt cx="2468160" cy="2008080"/>
            </a:xfrm>
          </p:grpSpPr>
          <p:sp>
            <p:nvSpPr>
              <p:cNvPr id="1067" name=""/>
              <p:cNvSpPr/>
              <p:nvPr/>
            </p:nvSpPr>
            <p:spPr>
              <a:xfrm>
                <a:off x="1595520" y="3352680"/>
                <a:ext cx="2468160" cy="20080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595520" y="4692240"/>
                <a:ext cx="246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595520" y="3677760"/>
                <a:ext cx="246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1591200" y="3733560"/>
              <a:ext cx="134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Times New Roman"/>
                </a:rPr>
                <a:t>property: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5221440" y="23274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ackage to be im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401160" y="48769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es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74200" y="3733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stituting for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3119400" y="2514600"/>
            <a:ext cx="21337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2967120" y="3886200"/>
            <a:ext cx="297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957480" y="5029200"/>
            <a:ext cx="2362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33800" y="3581280"/>
            <a:ext cx="1905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67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964760" y="6213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OCF9.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B71E-C4E2-4186-888E-32B4FB8811E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&lt;property&gt;&gt; stereotyp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1" marL="5965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property&gt;&gt; stereotype means a read-write ac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65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reotype implies import with substit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9943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 X \ EditorCore, property\current, T\Elemen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986040" y="3870360"/>
            <a:ext cx="3070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get_selection () :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et_selection (E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990720" y="2563920"/>
            <a:ext cx="3656880" cy="2008080"/>
            <a:chOff x="990720" y="2563920"/>
            <a:chExt cx="3656880" cy="2008080"/>
          </a:xfrm>
        </p:grpSpPr>
        <p:sp>
          <p:nvSpPr>
            <p:cNvPr id="1084" name=""/>
            <p:cNvSpPr/>
            <p:nvPr/>
          </p:nvSpPr>
          <p:spPr>
            <a:xfrm>
              <a:off x="990720" y="2563920"/>
              <a:ext cx="3656880" cy="20080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990720" y="3903480"/>
              <a:ext cx="365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990720" y="2889000"/>
              <a:ext cx="365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1335960" y="2514600"/>
            <a:ext cx="130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tor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76720" y="3124080"/>
            <a:ext cx="990360" cy="552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672200" y="2895480"/>
            <a:ext cx="1600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  0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77440" y="326052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&lt;&lt;property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990720" y="32767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33520" y="2286000"/>
            <a:ext cx="45720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3520" y="1752480"/>
            <a:ext cx="19810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791320" y="1752480"/>
            <a:ext cx="312408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791320" y="1219320"/>
            <a:ext cx="19810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012360" y="1960560"/>
            <a:ext cx="2476080" cy="1448640"/>
            <a:chOff x="6012360" y="1960560"/>
            <a:chExt cx="2476080" cy="1448640"/>
          </a:xfrm>
        </p:grpSpPr>
        <p:sp>
          <p:nvSpPr>
            <p:cNvPr id="1097" name=""/>
            <p:cNvSpPr/>
            <p:nvPr/>
          </p:nvSpPr>
          <p:spPr>
            <a:xfrm>
              <a:off x="6012360" y="2706840"/>
              <a:ext cx="2364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t_&lt;property&gt; () :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_&lt;property&gt; 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19920" y="1960560"/>
              <a:ext cx="2468520" cy="1447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019920" y="2722680"/>
              <a:ext cx="246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19920" y="2286000"/>
              <a:ext cx="246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17040" y="2249640"/>
              <a:ext cx="1437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propert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691320" y="1960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3892-CAB3-4B59-B892-92A019904D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“property” vari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&lt;indexed_property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ty (int): Property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lt;&lt;indexed_property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enera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Property (int, PropertyT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Property (int) : Property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Property ( Array(PropertyType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Property () : Array(PropertyT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&lt;bound_property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lies event protocol for notifying of change i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s Catalysis framework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utput ev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hange 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e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qualit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OCF 9.7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&lt;constrained_property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lies vetoable protocol of change i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s Catalysis framework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utput ev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hang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7086240" y="6476760"/>
            <a:ext cx="1676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4F20-AB0A-4B5E-935F-5300F25A77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1676520" y="9144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Specifying and Designing Java B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600" indent="-178200"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C977-DA8C-4F82-97F5-43114E53439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vent is a notification of a change in st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specify events an object can respo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its type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specify events an object can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ene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its type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ener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pecified in normal OO interface 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C207-2379-4E5A-9394-DD1B1186948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ying Ev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168560"/>
            <a:ext cx="8305920" cy="294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recipient does not know of other interfaces and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ount balance changes due to deposit, withdraw, transfer, interest, fraud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itor element size changes due to edits, spell check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going events should be specified independently of triggering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talysis,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ynam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vari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pplies to every operation post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atic invariant applies to every state, before and after each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ynamic invariant applies to every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an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.e. to every post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019560" y="6476760"/>
            <a:ext cx="25146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1800" y="5241960"/>
            <a:ext cx="5692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&lt;&lt;output_event&gt;&gt;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element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inv effect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  contents[size@pre &lt;&gt; size]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orAll (e | ^ elementChanged (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57200" y="3706920"/>
            <a:ext cx="5791320" cy="2617560"/>
            <a:chOff x="457200" y="3706920"/>
            <a:chExt cx="5791320" cy="2617560"/>
          </a:xfrm>
        </p:grpSpPr>
        <p:sp>
          <p:nvSpPr>
            <p:cNvPr id="1116" name=""/>
            <p:cNvSpPr/>
            <p:nvPr/>
          </p:nvSpPr>
          <p:spPr>
            <a:xfrm>
              <a:off x="457200" y="3706920"/>
              <a:ext cx="5791320" cy="2617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7200" y="5105520"/>
              <a:ext cx="579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57200" y="4130640"/>
              <a:ext cx="579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802440" y="3657600"/>
            <a:ext cx="130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tor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743200" y="4370400"/>
            <a:ext cx="1295280" cy="658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294920" y="4141440"/>
            <a:ext cx="1289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57200" y="45226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43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66240" y="4765680"/>
            <a:ext cx="27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any operation,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element in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 a size change,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uses an output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724280" y="5181480"/>
            <a:ext cx="364176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st discuss &lt;&lt;output event&gt;&gt; here; separately discuss event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75D3-CDDF-4928-B031-BB8FCFC45D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&lt;output_event&gt;&gt; stereotyp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1" marL="61020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output_event&gt;&gt; implies a protocol of de/registration of liste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548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list of listeners,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^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erms of that registered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group output events into Listener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7120" y="3565440"/>
            <a:ext cx="4404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&lt;&lt;output_event&gt;&gt;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element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addElementChangedListener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removeElementChangedListener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457200" y="2259000"/>
            <a:ext cx="4419360" cy="2693880"/>
            <a:chOff x="457200" y="2259000"/>
            <a:chExt cx="4419360" cy="2693880"/>
          </a:xfrm>
        </p:grpSpPr>
        <p:sp>
          <p:nvSpPr>
            <p:cNvPr id="1130" name=""/>
            <p:cNvSpPr/>
            <p:nvPr/>
          </p:nvSpPr>
          <p:spPr>
            <a:xfrm>
              <a:off x="457200" y="2259000"/>
              <a:ext cx="4419360" cy="2693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200" y="359856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7200" y="258408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802440" y="2209680"/>
            <a:ext cx="130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tor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743200" y="2819520"/>
            <a:ext cx="990720" cy="5522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428480" y="2590560"/>
            <a:ext cx="1289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" y="2971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8600" y="1905120"/>
            <a:ext cx="49528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8600" y="1371600"/>
            <a:ext cx="19810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91320" y="1752480"/>
            <a:ext cx="312408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91320" y="1219320"/>
            <a:ext cx="19810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_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816520" y="1828800"/>
            <a:ext cx="30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Framework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f register/de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for any output event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model of list of listen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Defines 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^output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o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2E9A-D151-4F6A-9681-7D8B2D4C5B7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1676520" y="13716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and Designing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45F2-D254-4317-9BD1-76C32479C7A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“connectors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1387800" y="990720"/>
            <a:ext cx="7554600" cy="2806560"/>
            <a:chOff x="1387800" y="990720"/>
            <a:chExt cx="7554600" cy="2806560"/>
          </a:xfrm>
        </p:grpSpPr>
        <p:sp>
          <p:nvSpPr>
            <p:cNvPr id="1147" name=""/>
            <p:cNvSpPr/>
            <p:nvPr/>
          </p:nvSpPr>
          <p:spPr>
            <a:xfrm>
              <a:off x="7758720" y="152388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ekton"/>
                </a:rPr>
                <a:t>prope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547640" y="990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ekton"/>
                </a:rPr>
                <a:t>output e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87800" y="3429000"/>
              <a:ext cx="175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ekton"/>
                </a:rPr>
                <a:t>input 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238880" y="1523880"/>
              <a:ext cx="609840" cy="15264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7010280" y="1752120"/>
              <a:ext cx="91440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1523520" y="2666520"/>
              <a:ext cx="304920" cy="7621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1523880" y="1295280"/>
              <a:ext cx="68580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233640" y="914400"/>
            <a:ext cx="8681760" cy="2826720"/>
            <a:chOff x="233640" y="914400"/>
            <a:chExt cx="8681760" cy="2826720"/>
          </a:xfrm>
        </p:grpSpPr>
        <p:sp>
          <p:nvSpPr>
            <p:cNvPr id="1155" name=""/>
            <p:cNvSpPr/>
            <p:nvPr/>
          </p:nvSpPr>
          <p:spPr>
            <a:xfrm>
              <a:off x="914400" y="1219320"/>
              <a:ext cx="609480" cy="3045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ut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9480" y="2971800"/>
              <a:ext cx="609840" cy="3049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28800" y="295272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738960" y="2138760"/>
              <a:ext cx="115308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rmo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72480" y="2138760"/>
              <a:ext cx="90756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resho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950520" y="2824560"/>
              <a:ext cx="42768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72480" y="3434040"/>
              <a:ext cx="90756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resho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39320" y="3357720"/>
              <a:ext cx="116532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fferenti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419720" y="2438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905360" y="3505320"/>
              <a:ext cx="11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400800" y="3048120"/>
              <a:ext cx="53352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240"/>
                  </a:moveTo>
                  <a:lnTo>
                    <a:pt x="0" y="0"/>
                  </a:lnTo>
                  <a:lnTo>
                    <a:pt x="3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324480" y="2438280"/>
              <a:ext cx="60984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0"/>
                  </a:moveTo>
                  <a:lnTo>
                    <a:pt x="0" y="288"/>
                  </a:lnTo>
                  <a:lnTo>
                    <a:pt x="384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391520" y="2971800"/>
              <a:ext cx="90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76920" y="2286000"/>
              <a:ext cx="11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67280" y="1195560"/>
              <a:ext cx="1266840" cy="1760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595920" y="1214280"/>
              <a:ext cx="243000" cy="1382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5400000">
              <a:off x="6981480" y="1209600"/>
              <a:ext cx="142920" cy="15228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rot="16200000">
              <a:off x="5880600" y="1204920"/>
              <a:ext cx="142920" cy="15228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375240" y="91440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l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477120" y="137160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362320" y="2286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181320" y="223848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86400" y="223848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371840" y="287640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95920" y="345744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353280" y="3000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276960" y="284796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58080" y="292428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429240" y="173340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371600" y="1523880"/>
              <a:ext cx="53352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528" y="432"/>
                  </a:move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914400" y="2590920"/>
              <a:ext cx="990720" cy="380880"/>
            </a:xfrm>
            <a:custGeom>
              <a:avLst/>
              <a:gdLst/>
              <a:ahLst/>
              <a:rect l="l" t="t" r="r" b="b"/>
              <a:pathLst>
                <a:path w="816" h="240">
                  <a:moveTo>
                    <a:pt x="816" y="0"/>
                  </a:moveTo>
                  <a:lnTo>
                    <a:pt x="0" y="0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333440" y="215280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57160" y="254304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33760" y="1600200"/>
              <a:ext cx="72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es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459240" y="1219320"/>
              <a:ext cx="51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371600" y="1981080"/>
              <a:ext cx="51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371600" y="236232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3640" y="266688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ogg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14240" y="1981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&lt;&lt;physical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905120" y="1905120"/>
              <a:ext cx="457200" cy="1066320"/>
              <a:chOff x="1905120" y="1905120"/>
              <a:chExt cx="457200" cy="1066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1905120" y="2133360"/>
                <a:ext cx="457200" cy="8380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905120" y="1905120"/>
                <a:ext cx="457200" cy="456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914480" y="2133360"/>
                <a:ext cx="447840" cy="3808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6479640" y="1371600"/>
              <a:ext cx="76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500880" y="17524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34160" y="198108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66400" y="198108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03880" y="25146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420440" y="297180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75480" y="3200400"/>
              <a:ext cx="7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74400" y="342900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66000" y="312408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923080" y="253368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508800" y="266688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508800" y="297180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391520" y="266688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305920" y="2819520"/>
              <a:ext cx="609480" cy="3045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984080" y="266688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718560" y="4343400"/>
            <a:ext cx="4555080" cy="2057400"/>
            <a:chOff x="718560" y="4343400"/>
            <a:chExt cx="4555080" cy="2057400"/>
          </a:xfrm>
        </p:grpSpPr>
        <p:grpSp>
          <p:nvGrpSpPr>
            <p:cNvPr id="1214" name=""/>
            <p:cNvGrpSpPr/>
            <p:nvPr/>
          </p:nvGrpSpPr>
          <p:grpSpPr>
            <a:xfrm>
              <a:off x="1539720" y="4724640"/>
              <a:ext cx="3733920" cy="1676160"/>
              <a:chOff x="1539720" y="4724640"/>
              <a:chExt cx="3733920" cy="1676160"/>
            </a:xfrm>
          </p:grpSpPr>
          <p:sp>
            <p:nvSpPr>
              <p:cNvPr id="1215" name=""/>
              <p:cNvSpPr/>
              <p:nvPr/>
            </p:nvSpPr>
            <p:spPr>
              <a:xfrm>
                <a:off x="1539720" y="4953240"/>
                <a:ext cx="838440" cy="14475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435560" y="4953240"/>
                <a:ext cx="838080" cy="14475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292560" y="5029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378160" y="5158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21160" y="5158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64080" y="4724640"/>
                <a:ext cx="125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Times New Roman"/>
                  </a:rPr>
                  <a:t>&lt;&lt;replicate&gt;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292560" y="60436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378160" y="6172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521160" y="6172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737800" y="5738760"/>
                <a:ext cx="131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66"/>
                    </a:solidFill>
                    <a:latin typeface="Times New Roman"/>
                  </a:rPr>
                  <a:t>&lt;&lt;workflow&gt;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718560" y="4343400"/>
              <a:ext cx="453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ther forms of higher-level “connector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708240" y="58323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OCF 10.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ED44-52C6-46BB-AED7-3460C32D619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work for Architectural Connec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>
            <a:off x="149400" y="2057400"/>
            <a:ext cx="8994600" cy="260028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>
            <a:off x="4611240" y="12193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Here is what I m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by “Workflow” in any domai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atalys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abstraction of some interaction protoc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works define abstract connectors: workflow, events,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6781320" y="647676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D996-D0A5-48ED-A8D7-1585C80683F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560" y="5486400"/>
            <a:ext cx="5406120" cy="458280"/>
          </a:xfrm>
          <a:prstGeom prst="rect">
            <a:avLst/>
          </a:prstGeom>
          <a:solidFill>
            <a:srgbClr val="f2ffc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’s what’s interesting about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16360" y="1828800"/>
            <a:ext cx="5188320" cy="458280"/>
          </a:xfrm>
          <a:prstGeom prst="rect">
            <a:avLst/>
          </a:prstGeom>
          <a:solidFill>
            <a:srgbClr val="f2ffc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Components compose and g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8120" y="1143000"/>
            <a:ext cx="3542400" cy="458280"/>
          </a:xfrm>
          <a:prstGeom prst="rect">
            <a:avLst/>
          </a:prstGeom>
          <a:solidFill>
            <a:srgbClr val="f2ffc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Components 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94120" y="3276720"/>
            <a:ext cx="5142600" cy="458280"/>
          </a:xfrm>
          <a:prstGeom prst="rect">
            <a:avLst/>
          </a:prstGeom>
          <a:solidFill>
            <a:srgbClr val="f2ffc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omponents may be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3886200"/>
            <a:ext cx="1539360" cy="630360"/>
            <a:chOff x="380880" y="3886200"/>
            <a:chExt cx="1539360" cy="630360"/>
          </a:xfrm>
        </p:grpSpPr>
        <p:sp>
          <p:nvSpPr>
            <p:cNvPr id="144" name=""/>
            <p:cNvSpPr/>
            <p:nvPr/>
          </p:nvSpPr>
          <p:spPr>
            <a:xfrm>
              <a:off x="394920" y="3973680"/>
              <a:ext cx="1173600" cy="53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72120" y="3888000"/>
              <a:ext cx="338040" cy="628560"/>
            </a:xfrm>
            <a:custGeom>
              <a:avLst/>
              <a:gdLst/>
              <a:ahLst/>
              <a:rect l="l" t="t" r="r" b="b"/>
              <a:pathLst>
                <a:path w="97" h="396">
                  <a:moveTo>
                    <a:pt x="0" y="53"/>
                  </a:moveTo>
                  <a:lnTo>
                    <a:pt x="0" y="395"/>
                  </a:lnTo>
                  <a:lnTo>
                    <a:pt x="96" y="328"/>
                  </a:lnTo>
                  <a:lnTo>
                    <a:pt x="96" y="0"/>
                  </a:lnTo>
                  <a:lnTo>
                    <a:pt x="0" y="53"/>
                  </a:lnTo>
                </a:path>
              </a:pathLst>
            </a:custGeom>
            <a:solidFill>
              <a:srgbClr val="808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3886200"/>
              <a:ext cx="1539360" cy="90720"/>
            </a:xfrm>
            <a:custGeom>
              <a:avLst/>
              <a:gdLst/>
              <a:ahLst/>
              <a:rect l="l" t="t" r="r" b="b"/>
              <a:pathLst>
                <a:path w="442" h="57">
                  <a:moveTo>
                    <a:pt x="0" y="56"/>
                  </a:moveTo>
                  <a:lnTo>
                    <a:pt x="341" y="56"/>
                  </a:lnTo>
                  <a:lnTo>
                    <a:pt x="441" y="0"/>
                  </a:lnTo>
                  <a:lnTo>
                    <a:pt x="111" y="0"/>
                  </a:lnTo>
                  <a:lnTo>
                    <a:pt x="0" y="56"/>
                  </a:lnTo>
                </a:path>
              </a:pathLst>
            </a:custGeom>
            <a:solidFill>
              <a:srgbClr val="ffff8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57280" y="4551480"/>
            <a:ext cx="701640" cy="628560"/>
            <a:chOff x="2357280" y="4551480"/>
            <a:chExt cx="701640" cy="628560"/>
          </a:xfrm>
        </p:grpSpPr>
        <p:sp>
          <p:nvSpPr>
            <p:cNvPr id="148" name=""/>
            <p:cNvSpPr/>
            <p:nvPr/>
          </p:nvSpPr>
          <p:spPr>
            <a:xfrm>
              <a:off x="2361960" y="4638600"/>
              <a:ext cx="534960" cy="536040"/>
            </a:xfrm>
            <a:prstGeom prst="rect">
              <a:avLst/>
            </a:prstGeom>
            <a:solidFill>
              <a:srgbClr val="00c0c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01960" y="4551480"/>
              <a:ext cx="155520" cy="628560"/>
            </a:xfrm>
            <a:custGeom>
              <a:avLst/>
              <a:gdLst/>
              <a:ahLst/>
              <a:rect l="l" t="t" r="r" b="b"/>
              <a:pathLst>
                <a:path w="98" h="396">
                  <a:moveTo>
                    <a:pt x="0" y="53"/>
                  </a:moveTo>
                  <a:lnTo>
                    <a:pt x="0" y="395"/>
                  </a:lnTo>
                  <a:lnTo>
                    <a:pt x="97" y="328"/>
                  </a:lnTo>
                  <a:lnTo>
                    <a:pt x="97" y="0"/>
                  </a:lnTo>
                  <a:lnTo>
                    <a:pt x="0" y="53"/>
                  </a:lnTo>
                </a:path>
              </a:pathLst>
            </a:custGeom>
            <a:solidFill>
              <a:srgbClr val="00606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57280" y="4551480"/>
              <a:ext cx="701640" cy="87120"/>
            </a:xfrm>
            <a:custGeom>
              <a:avLst/>
              <a:gdLst/>
              <a:ahLst/>
              <a:rect l="l" t="t" r="r" b="b"/>
              <a:pathLst>
                <a:path w="442" h="55">
                  <a:moveTo>
                    <a:pt x="0" y="54"/>
                  </a:moveTo>
                  <a:lnTo>
                    <a:pt x="342" y="54"/>
                  </a:lnTo>
                  <a:lnTo>
                    <a:pt x="441" y="0"/>
                  </a:lnTo>
                  <a:lnTo>
                    <a:pt x="110" y="0"/>
                  </a:lnTo>
                  <a:lnTo>
                    <a:pt x="0" y="54"/>
                  </a:lnTo>
                </a:path>
              </a:pathLst>
            </a:custGeom>
            <a:solidFill>
              <a:srgbClr val="40ffff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411360" y="4016520"/>
            <a:ext cx="701640" cy="631800"/>
            <a:chOff x="3411360" y="4016520"/>
            <a:chExt cx="701640" cy="631800"/>
          </a:xfrm>
        </p:grpSpPr>
        <p:sp>
          <p:nvSpPr>
            <p:cNvPr id="152" name=""/>
            <p:cNvSpPr/>
            <p:nvPr/>
          </p:nvSpPr>
          <p:spPr>
            <a:xfrm>
              <a:off x="3413160" y="4108680"/>
              <a:ext cx="534960" cy="53316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52800" y="4019760"/>
              <a:ext cx="154080" cy="628560"/>
            </a:xfrm>
            <a:custGeom>
              <a:avLst/>
              <a:gdLst/>
              <a:ahLst/>
              <a:rect l="l" t="t" r="r" b="b"/>
              <a:pathLst>
                <a:path w="97" h="396">
                  <a:moveTo>
                    <a:pt x="0" y="53"/>
                  </a:moveTo>
                  <a:lnTo>
                    <a:pt x="0" y="395"/>
                  </a:lnTo>
                  <a:lnTo>
                    <a:pt x="96" y="328"/>
                  </a:lnTo>
                  <a:lnTo>
                    <a:pt x="96" y="0"/>
                  </a:lnTo>
                  <a:lnTo>
                    <a:pt x="0" y="53"/>
                  </a:lnTo>
                </a:path>
              </a:pathLst>
            </a:custGeom>
            <a:solidFill>
              <a:srgbClr val="80008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11360" y="4016520"/>
              <a:ext cx="701640" cy="90360"/>
            </a:xfrm>
            <a:custGeom>
              <a:avLst/>
              <a:gdLst/>
              <a:ahLst/>
              <a:rect l="l" t="t" r="r" b="b"/>
              <a:pathLst>
                <a:path w="442" h="57">
                  <a:moveTo>
                    <a:pt x="0" y="56"/>
                  </a:moveTo>
                  <a:lnTo>
                    <a:pt x="341" y="56"/>
                  </a:lnTo>
                  <a:lnTo>
                    <a:pt x="441" y="0"/>
                  </a:lnTo>
                  <a:lnTo>
                    <a:pt x="110" y="0"/>
                  </a:lnTo>
                  <a:lnTo>
                    <a:pt x="0" y="56"/>
                  </a:lnTo>
                </a:path>
              </a:pathLst>
            </a:custGeom>
            <a:solidFill>
              <a:srgbClr val="ff40ff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33520" y="2489040"/>
            <a:ext cx="1459800" cy="611280"/>
            <a:chOff x="533520" y="2489040"/>
            <a:chExt cx="1459800" cy="611280"/>
          </a:xfrm>
        </p:grpSpPr>
        <p:sp>
          <p:nvSpPr>
            <p:cNvPr id="156" name=""/>
            <p:cNvSpPr/>
            <p:nvPr/>
          </p:nvSpPr>
          <p:spPr>
            <a:xfrm>
              <a:off x="536400" y="2558880"/>
              <a:ext cx="1122120" cy="536760"/>
            </a:xfrm>
            <a:prstGeom prst="rect">
              <a:avLst/>
            </a:prstGeom>
            <a:solidFill>
              <a:srgbClr val="ff8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5360" y="2489040"/>
              <a:ext cx="321840" cy="611280"/>
            </a:xfrm>
            <a:custGeom>
              <a:avLst/>
              <a:gdLst/>
              <a:ahLst/>
              <a:rect l="l" t="t" r="r" b="b"/>
              <a:pathLst>
                <a:path w="97" h="385">
                  <a:moveTo>
                    <a:pt x="0" y="43"/>
                  </a:moveTo>
                  <a:lnTo>
                    <a:pt x="0" y="384"/>
                  </a:lnTo>
                  <a:lnTo>
                    <a:pt x="96" y="327"/>
                  </a:lnTo>
                  <a:lnTo>
                    <a:pt x="96" y="0"/>
                  </a:lnTo>
                  <a:lnTo>
                    <a:pt x="0" y="43"/>
                  </a:lnTo>
                </a:path>
              </a:pathLst>
            </a:custGeom>
            <a:solidFill>
              <a:srgbClr val="804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520" y="2489040"/>
              <a:ext cx="1459800" cy="68400"/>
            </a:xfrm>
            <a:custGeom>
              <a:avLst/>
              <a:gdLst/>
              <a:ahLst/>
              <a:rect l="l" t="t" r="r" b="b"/>
              <a:pathLst>
                <a:path w="440" h="43">
                  <a:moveTo>
                    <a:pt x="0" y="42"/>
                  </a:moveTo>
                  <a:lnTo>
                    <a:pt x="341" y="42"/>
                  </a:lnTo>
                  <a:lnTo>
                    <a:pt x="439" y="0"/>
                  </a:lnTo>
                  <a:lnTo>
                    <a:pt x="110" y="0"/>
                  </a:lnTo>
                  <a:lnTo>
                    <a:pt x="0" y="42"/>
                  </a:lnTo>
                </a:path>
              </a:pathLst>
            </a:custGeom>
            <a:solidFill>
              <a:srgbClr val="ffa04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365640" y="2522520"/>
            <a:ext cx="701640" cy="612720"/>
            <a:chOff x="3365640" y="2522520"/>
            <a:chExt cx="701640" cy="612720"/>
          </a:xfrm>
        </p:grpSpPr>
        <p:sp>
          <p:nvSpPr>
            <p:cNvPr id="160" name=""/>
            <p:cNvSpPr/>
            <p:nvPr/>
          </p:nvSpPr>
          <p:spPr>
            <a:xfrm>
              <a:off x="3370680" y="2592360"/>
              <a:ext cx="531720" cy="536400"/>
            </a:xfrm>
            <a:prstGeom prst="rect">
              <a:avLst/>
            </a:prstGeom>
            <a:solidFill>
              <a:srgbClr val="00e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07080" y="2522520"/>
              <a:ext cx="157320" cy="612720"/>
            </a:xfrm>
            <a:custGeom>
              <a:avLst/>
              <a:gdLst/>
              <a:ahLst/>
              <a:rect l="l" t="t" r="r" b="b"/>
              <a:pathLst>
                <a:path w="99" h="386">
                  <a:moveTo>
                    <a:pt x="0" y="43"/>
                  </a:moveTo>
                  <a:lnTo>
                    <a:pt x="0" y="385"/>
                  </a:lnTo>
                  <a:lnTo>
                    <a:pt x="98" y="328"/>
                  </a:lnTo>
                  <a:lnTo>
                    <a:pt x="98" y="0"/>
                  </a:lnTo>
                  <a:lnTo>
                    <a:pt x="0" y="43"/>
                  </a:lnTo>
                </a:path>
              </a:pathLst>
            </a:custGeom>
            <a:solidFill>
              <a:srgbClr val="006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5640" y="2522520"/>
              <a:ext cx="701640" cy="71280"/>
            </a:xfrm>
            <a:custGeom>
              <a:avLst/>
              <a:gdLst/>
              <a:ahLst/>
              <a:rect l="l" t="t" r="r" b="b"/>
              <a:pathLst>
                <a:path w="442" h="45">
                  <a:moveTo>
                    <a:pt x="0" y="44"/>
                  </a:moveTo>
                  <a:lnTo>
                    <a:pt x="341" y="44"/>
                  </a:lnTo>
                  <a:lnTo>
                    <a:pt x="441" y="0"/>
                  </a:lnTo>
                  <a:lnTo>
                    <a:pt x="110" y="0"/>
                  </a:lnTo>
                  <a:lnTo>
                    <a:pt x="0" y="44"/>
                  </a:lnTo>
                </a:path>
              </a:pathLst>
            </a:custGeom>
            <a:solidFill>
              <a:srgbClr val="80ff8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590920" y="1828800"/>
            <a:ext cx="696960" cy="585720"/>
            <a:chOff x="2590920" y="1828800"/>
            <a:chExt cx="696960" cy="585720"/>
          </a:xfrm>
        </p:grpSpPr>
        <p:sp>
          <p:nvSpPr>
            <p:cNvPr id="164" name=""/>
            <p:cNvSpPr/>
            <p:nvPr/>
          </p:nvSpPr>
          <p:spPr>
            <a:xfrm>
              <a:off x="2590920" y="1876320"/>
              <a:ext cx="534960" cy="5367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32000" y="1828800"/>
              <a:ext cx="154080" cy="585720"/>
            </a:xfrm>
            <a:custGeom>
              <a:avLst/>
              <a:gdLst/>
              <a:ahLst/>
              <a:rect l="l" t="t" r="r" b="b"/>
              <a:pathLst>
                <a:path w="97" h="369">
                  <a:moveTo>
                    <a:pt x="0" y="27"/>
                  </a:moveTo>
                  <a:lnTo>
                    <a:pt x="0" y="368"/>
                  </a:lnTo>
                  <a:lnTo>
                    <a:pt x="96" y="323"/>
                  </a:lnTo>
                  <a:lnTo>
                    <a:pt x="96" y="0"/>
                  </a:lnTo>
                  <a:lnTo>
                    <a:pt x="0" y="27"/>
                  </a:lnTo>
                </a:path>
              </a:pathLst>
            </a:custGeom>
            <a:solidFill>
              <a:srgbClr val="c00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90920" y="1828800"/>
              <a:ext cx="696960" cy="44280"/>
            </a:xfrm>
            <a:custGeom>
              <a:avLst/>
              <a:gdLst/>
              <a:ahLst/>
              <a:rect l="l" t="t" r="r" b="b"/>
              <a:pathLst>
                <a:path w="439" h="28">
                  <a:moveTo>
                    <a:pt x="0" y="27"/>
                  </a:moveTo>
                  <a:lnTo>
                    <a:pt x="340" y="27"/>
                  </a:lnTo>
                  <a:lnTo>
                    <a:pt x="438" y="0"/>
                  </a:lnTo>
                  <a:lnTo>
                    <a:pt x="107" y="0"/>
                  </a:lnTo>
                  <a:lnTo>
                    <a:pt x="0" y="27"/>
                  </a:lnTo>
                </a:path>
              </a:pathLst>
            </a:custGeom>
            <a:solidFill>
              <a:srgbClr val="ff404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1580760" y="3133800"/>
            <a:ext cx="20520" cy="69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742840" y="3124080"/>
            <a:ext cx="75564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27160" y="2133720"/>
            <a:ext cx="563760" cy="53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43280" y="2838240"/>
            <a:ext cx="1320480" cy="2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62200" y="3123720"/>
            <a:ext cx="19080" cy="895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6668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040" y="40384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33400" y="3159000"/>
            <a:ext cx="809640" cy="134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Essenti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733D-A55F-42F6-8015-E9F4F4034B9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1676520" y="13716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and Designing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3F6A-2F7E-4DBD-8176-A9A0E08A26F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atic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943600" cy="4456080"/>
          </a:xfrm>
          <a:prstGeom prst="rect">
            <a:avLst/>
          </a:prstGeom>
          <a:ln w="0">
            <a:noFill/>
          </a:ln>
        </p:spPr>
      </p:pic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activity of trying to uncover defects in an implementation against a specification (I.e. in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finemen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at run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800240" y="6553080"/>
            <a:ext cx="380988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C025-9134-4323-A68C-D0FDE81B5E1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838224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inement kind determines test har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test strategies for different refinement k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/post instr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actions, covering success and exceptions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test structures with mapping to deployment hardw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to systematic tes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762760" cy="134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B5A1-11B9-4B58-AA80-D774DF7B173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ing with Abstraction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er writes a spec and associated test asser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r has to supply two thing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t of abstraction function so the test assertions to execu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bstraction function for each specification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ation types must be implemented as adapter for this test ha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e/post conditions can then be executed as part of the cod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OCF 6.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952880" y="6476760"/>
            <a:ext cx="381024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7A0C-D736-496C-9F2B-7B5EF747B76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Adap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6324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1"/>
          <a:stretch/>
        </p:blipFill>
        <p:spPr>
          <a:xfrm>
            <a:off x="914400" y="4876920"/>
            <a:ext cx="7669080" cy="1746000"/>
          </a:xfrm>
          <a:prstGeom prst="rect">
            <a:avLst/>
          </a:prstGeom>
          <a:ln w="0">
            <a:noFill/>
          </a:ln>
        </p:spPr>
      </p:pic>
      <p:sp>
        <p:nvSpPr>
          <p:cNvPr id="1248" name=""/>
          <p:cNvSpPr/>
          <p:nvPr/>
        </p:nvSpPr>
        <p:spPr>
          <a:xfrm>
            <a:off x="3124080" y="1295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257800" y="12952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76720" y="1371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648320" y="1371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71440" y="1386000"/>
            <a:ext cx="49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05160" y="1371600"/>
            <a:ext cx="56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2053440" y="1371600"/>
            <a:ext cx="1531080" cy="2895840"/>
            <a:chOff x="2053440" y="1371600"/>
            <a:chExt cx="1531080" cy="2895840"/>
          </a:xfrm>
        </p:grpSpPr>
        <p:grpSp>
          <p:nvGrpSpPr>
            <p:cNvPr id="1255" name=""/>
            <p:cNvGrpSpPr/>
            <p:nvPr/>
          </p:nvGrpSpPr>
          <p:grpSpPr>
            <a:xfrm>
              <a:off x="2053440" y="2195280"/>
              <a:ext cx="1531080" cy="2072160"/>
              <a:chOff x="2053440" y="2195280"/>
              <a:chExt cx="1531080" cy="2072160"/>
            </a:xfrm>
          </p:grpSpPr>
          <p:sp>
            <p:nvSpPr>
              <p:cNvPr id="1256" name=""/>
              <p:cNvSpPr/>
              <p:nvPr/>
            </p:nvSpPr>
            <p:spPr>
              <a:xfrm>
                <a:off x="2057400" y="2258280"/>
                <a:ext cx="1523880" cy="20080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053440" y="3565080"/>
                <a:ext cx="15094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ext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place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057400" y="359820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057400" y="25837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58480" y="2195280"/>
                <a:ext cx="1526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ellCheck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819160" y="2664720"/>
                <a:ext cx="685800" cy="5522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57400" y="3141000"/>
                <a:ext cx="76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153520" y="2531160"/>
                <a:ext cx="717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q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57400" y="2912400"/>
                <a:ext cx="76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269440" y="3064680"/>
                <a:ext cx="596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r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2361960" y="1371600"/>
              <a:ext cx="750960" cy="83808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0"/>
                  </a:moveTo>
                  <a:lnTo>
                    <a:pt x="0" y="0"/>
                  </a:lnTo>
                  <a:lnTo>
                    <a:pt x="0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160" y="1371600"/>
            <a:ext cx="1890000" cy="3277440"/>
            <a:chOff x="4952160" y="1371600"/>
            <a:chExt cx="1890000" cy="3277440"/>
          </a:xfrm>
        </p:grpSpPr>
        <p:grpSp>
          <p:nvGrpSpPr>
            <p:cNvPr id="1268" name=""/>
            <p:cNvGrpSpPr/>
            <p:nvPr/>
          </p:nvGrpSpPr>
          <p:grpSpPr>
            <a:xfrm>
              <a:off x="4952160" y="2195640"/>
              <a:ext cx="1890000" cy="2453400"/>
              <a:chOff x="4952160" y="2195640"/>
              <a:chExt cx="1890000" cy="2453400"/>
            </a:xfrm>
          </p:grpSpPr>
          <p:sp>
            <p:nvSpPr>
              <p:cNvPr id="1269" name=""/>
              <p:cNvSpPr/>
              <p:nvPr/>
            </p:nvSpPr>
            <p:spPr>
              <a:xfrm>
                <a:off x="4952160" y="3641760"/>
                <a:ext cx="171972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ximum Siz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iz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hildr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952880" y="2249640"/>
                <a:ext cx="1889280" cy="2336760"/>
              </a:xfrm>
              <a:prstGeom prst="rect">
                <a:avLst/>
              </a:prstGeom>
              <a:noFill/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952880" y="3722760"/>
                <a:ext cx="188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952880" y="2543400"/>
                <a:ext cx="188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161680" y="2195640"/>
                <a:ext cx="1168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ayout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002280" y="2622600"/>
                <a:ext cx="735120" cy="549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iz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952880" y="2838600"/>
                <a:ext cx="104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562360" y="3014640"/>
                <a:ext cx="838440" cy="3938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288" y="0"/>
                    </a:moveTo>
                    <a:lnTo>
                      <a:pt x="0" y="0"/>
                    </a:lnTo>
                    <a:lnTo>
                      <a:pt x="0" y="240"/>
                    </a:lnTo>
                    <a:lnTo>
                      <a:pt x="528" y="240"/>
                    </a:lnTo>
                    <a:lnTo>
                      <a:pt x="52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184000" y="3335400"/>
                <a:ext cx="16084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endants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019560" y="285768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 flipH="1">
              <a:off x="5439600" y="1371600"/>
              <a:ext cx="762120" cy="83844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0"/>
                  </a:moveTo>
                  <a:lnTo>
                    <a:pt x="0" y="0"/>
                  </a:lnTo>
                  <a:lnTo>
                    <a:pt x="0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3621240" y="1066680"/>
            <a:ext cx="137160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tor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0600" y="392760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adapter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view/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6201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553080" y="4572000"/>
            <a:ext cx="91440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F0E1-451B-4E9F-9077-66BF7F150B1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52280" y="5943240"/>
            <a:ext cx="3733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1676520" y="13716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bjects to compon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interface versu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with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and Designing Java Be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nd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against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F719-0F50-4EB8-ACAB-C27100DE082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Reus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440" y="426672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08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 and p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08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y white-box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08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y black-box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08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: code? interfaces? designs? business mode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333440" y="1738440"/>
            <a:ext cx="152424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sed V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686480" y="1738440"/>
            <a:ext cx="152388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sed 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857680" y="3490920"/>
            <a:ext cx="1523880" cy="609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19670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171880" y="2424240"/>
            <a:ext cx="12952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90000" y="266688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to reu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to reu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57200" y="1585800"/>
            <a:ext cx="2629080" cy="9144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95920" y="11430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952520" y="2971800"/>
            <a:ext cx="4038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Don’t reuse code withou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Model reuse is highest p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Reusable artifacts must be pre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6880" y="19810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3E28-7273-498F-BA42-0287195C3EE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-usable Components and Vari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066680" y="1219320"/>
            <a:ext cx="70106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Point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cation at which a generic component may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zed for use in a particular applic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3657600" y="2362320"/>
            <a:ext cx="1904760" cy="1600200"/>
            <a:chOff x="3657600" y="2362320"/>
            <a:chExt cx="1904760" cy="1600200"/>
          </a:xfrm>
        </p:grpSpPr>
        <p:sp>
          <p:nvSpPr>
            <p:cNvPr id="1302" name=""/>
            <p:cNvSpPr/>
            <p:nvPr/>
          </p:nvSpPr>
          <p:spPr>
            <a:xfrm>
              <a:off x="4952880" y="259092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657600" y="2362320"/>
              <a:ext cx="1904760" cy="1600200"/>
            </a:xfrm>
            <a:custGeom>
              <a:avLst/>
              <a:gdLst/>
              <a:ahLst/>
              <a:rect l="l" t="t" r="r" b="b"/>
              <a:pathLst>
                <a:path w="1200" h="1008">
                  <a:moveTo>
                    <a:pt x="0" y="0"/>
                  </a:moveTo>
                  <a:lnTo>
                    <a:pt x="0" y="384"/>
                  </a:lnTo>
                  <a:lnTo>
                    <a:pt x="144" y="384"/>
                  </a:lnTo>
                  <a:lnTo>
                    <a:pt x="144" y="624"/>
                  </a:lnTo>
                  <a:lnTo>
                    <a:pt x="0" y="624"/>
                  </a:lnTo>
                  <a:lnTo>
                    <a:pt x="0" y="1008"/>
                  </a:lnTo>
                  <a:lnTo>
                    <a:pt x="432" y="1008"/>
                  </a:lnTo>
                  <a:lnTo>
                    <a:pt x="576" y="864"/>
                  </a:lnTo>
                  <a:lnTo>
                    <a:pt x="720" y="1008"/>
                  </a:lnTo>
                  <a:lnTo>
                    <a:pt x="1200" y="1008"/>
                  </a:lnTo>
                  <a:lnTo>
                    <a:pt x="1200" y="624"/>
                  </a:lnTo>
                  <a:lnTo>
                    <a:pt x="1056" y="624"/>
                  </a:lnTo>
                  <a:lnTo>
                    <a:pt x="1056" y="480"/>
                  </a:lnTo>
                  <a:lnTo>
                    <a:pt x="1104" y="480"/>
                  </a:lnTo>
                  <a:lnTo>
                    <a:pt x="1104" y="384"/>
                  </a:lnTo>
                  <a:lnTo>
                    <a:pt x="1200" y="384"/>
                  </a:lnTo>
                  <a:lnTo>
                    <a:pt x="12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1f1fe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956040" y="2819520"/>
              <a:ext cx="135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5638680" y="2514600"/>
            <a:ext cx="1676520" cy="1295280"/>
            <a:chOff x="5638680" y="2514600"/>
            <a:chExt cx="1676520" cy="1295280"/>
          </a:xfrm>
        </p:grpSpPr>
        <p:sp>
          <p:nvSpPr>
            <p:cNvPr id="1306" name=""/>
            <p:cNvSpPr/>
            <p:nvPr/>
          </p:nvSpPr>
          <p:spPr>
            <a:xfrm>
              <a:off x="6553080" y="327672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144" y="0"/>
                  </a:moveTo>
                  <a:lnTo>
                    <a:pt x="48" y="0"/>
                  </a:lnTo>
                  <a:lnTo>
                    <a:pt x="48" y="96"/>
                  </a:lnTo>
                  <a:lnTo>
                    <a:pt x="0" y="96"/>
                  </a:lnTo>
                  <a:lnTo>
                    <a:pt x="0" y="240"/>
                  </a:lnTo>
                  <a:lnTo>
                    <a:pt x="144" y="240"/>
                  </a:lnTo>
                  <a:lnTo>
                    <a:pt x="144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553080" y="266688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144" y="0"/>
                  </a:moveTo>
                  <a:lnTo>
                    <a:pt x="48" y="0"/>
                  </a:lnTo>
                  <a:lnTo>
                    <a:pt x="48" y="96"/>
                  </a:lnTo>
                  <a:lnTo>
                    <a:pt x="0" y="96"/>
                  </a:lnTo>
                  <a:lnTo>
                    <a:pt x="0" y="240"/>
                  </a:lnTo>
                  <a:lnTo>
                    <a:pt x="144" y="240"/>
                  </a:lnTo>
                  <a:lnTo>
                    <a:pt x="144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33960" y="297180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144" y="0"/>
                  </a:moveTo>
                  <a:lnTo>
                    <a:pt x="48" y="0"/>
                  </a:lnTo>
                  <a:lnTo>
                    <a:pt x="48" y="96"/>
                  </a:lnTo>
                  <a:lnTo>
                    <a:pt x="0" y="96"/>
                  </a:lnTo>
                  <a:lnTo>
                    <a:pt x="0" y="240"/>
                  </a:lnTo>
                  <a:lnTo>
                    <a:pt x="144" y="240"/>
                  </a:lnTo>
                  <a:lnTo>
                    <a:pt x="144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172200" y="297180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144" y="0"/>
                  </a:moveTo>
                  <a:lnTo>
                    <a:pt x="48" y="0"/>
                  </a:lnTo>
                  <a:lnTo>
                    <a:pt x="48" y="96"/>
                  </a:lnTo>
                  <a:lnTo>
                    <a:pt x="0" y="96"/>
                  </a:lnTo>
                  <a:lnTo>
                    <a:pt x="0" y="240"/>
                  </a:lnTo>
                  <a:lnTo>
                    <a:pt x="144" y="240"/>
                  </a:lnTo>
                  <a:lnTo>
                    <a:pt x="144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638680" y="2514600"/>
              <a:ext cx="1676520" cy="1295280"/>
            </a:xfrm>
            <a:prstGeom prst="leftArrowCallout">
              <a:avLst>
                <a:gd name="adj1" fmla="val 17159"/>
                <a:gd name="adj2" fmla="val 14218"/>
                <a:gd name="adj3" fmla="val 11643"/>
                <a:gd name="adj4" fmla="val 76711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2286000" y="2514600"/>
            <a:ext cx="1295280" cy="1295280"/>
            <a:chOff x="2286000" y="2514600"/>
            <a:chExt cx="1295280" cy="1295280"/>
          </a:xfrm>
        </p:grpSpPr>
        <p:sp>
          <p:nvSpPr>
            <p:cNvPr id="1312" name=""/>
            <p:cNvSpPr/>
            <p:nvPr/>
          </p:nvSpPr>
          <p:spPr>
            <a:xfrm>
              <a:off x="2438280" y="266688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0"/>
                  </a:moveTo>
                  <a:lnTo>
                    <a:pt x="0" y="240"/>
                  </a:lnTo>
                  <a:lnTo>
                    <a:pt x="144" y="240"/>
                  </a:lnTo>
                  <a:lnTo>
                    <a:pt x="144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19520" y="297180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0"/>
                  </a:moveTo>
                  <a:lnTo>
                    <a:pt x="0" y="240"/>
                  </a:lnTo>
                  <a:lnTo>
                    <a:pt x="144" y="240"/>
                  </a:lnTo>
                  <a:lnTo>
                    <a:pt x="144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38280" y="327672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0"/>
                  </a:moveTo>
                  <a:lnTo>
                    <a:pt x="0" y="240"/>
                  </a:lnTo>
                  <a:lnTo>
                    <a:pt x="144" y="240"/>
                  </a:lnTo>
                  <a:lnTo>
                    <a:pt x="144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286000" y="2514600"/>
              <a:ext cx="1295280" cy="1295280"/>
            </a:xfrm>
            <a:prstGeom prst="leftArrowCallout">
              <a:avLst>
                <a:gd name="adj1" fmla="val 17409"/>
                <a:gd name="adj2" fmla="val 14218"/>
                <a:gd name="adj3" fmla="val 11806"/>
                <a:gd name="adj4" fmla="val 70840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3933720" y="4038480"/>
            <a:ext cx="1295280" cy="838440"/>
            <a:chOff x="3933720" y="4038480"/>
            <a:chExt cx="1295280" cy="838440"/>
          </a:xfrm>
        </p:grpSpPr>
        <p:sp>
          <p:nvSpPr>
            <p:cNvPr id="1317" name=""/>
            <p:cNvSpPr/>
            <p:nvPr/>
          </p:nvSpPr>
          <p:spPr>
            <a:xfrm>
              <a:off x="4066920" y="45720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638600" y="45720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 rot="16200000">
              <a:off x="4161960" y="3809880"/>
              <a:ext cx="838440" cy="1295280"/>
            </a:xfrm>
            <a:prstGeom prst="leftArrowCallout">
              <a:avLst>
                <a:gd name="adj1" fmla="val 27266"/>
                <a:gd name="adj2" fmla="val 21964"/>
                <a:gd name="adj3" fmla="val 17421"/>
                <a:gd name="adj4" fmla="val 55121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1199160" y="3581280"/>
            <a:ext cx="6252120" cy="1433880"/>
            <a:chOff x="1199160" y="3581280"/>
            <a:chExt cx="6252120" cy="1433880"/>
          </a:xfrm>
        </p:grpSpPr>
        <p:sp>
          <p:nvSpPr>
            <p:cNvPr id="1321" name=""/>
            <p:cNvSpPr/>
            <p:nvPr/>
          </p:nvSpPr>
          <p:spPr>
            <a:xfrm>
              <a:off x="1199160" y="4648320"/>
              <a:ext cx="2280240" cy="366840"/>
            </a:xfrm>
            <a:prstGeom prst="rect">
              <a:avLst/>
            </a:prstGeom>
            <a:solidFill>
              <a:srgbClr val="f2ffc0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source </a:t>
              </a:r>
              <a:r>
                <a:rPr b="1" lang="en-US" sz="1800" spc="-1" strike="noStrike">
                  <a:solidFill>
                    <a:srgbClr val="cc0066"/>
                  </a:solidFill>
                  <a:latin typeface="Comic Sans MS"/>
                </a:rPr>
                <a:t>Allo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2819520" y="3581280"/>
              <a:ext cx="121896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60360" y="4648320"/>
              <a:ext cx="1690920" cy="366840"/>
            </a:xfrm>
            <a:prstGeom prst="rect">
              <a:avLst/>
            </a:prstGeom>
            <a:solidFill>
              <a:srgbClr val="f2ffc0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chin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>
              <a:off x="6629400" y="38858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1949040" y="5257800"/>
            <a:ext cx="5614560" cy="366840"/>
            <a:chOff x="1949040" y="5257800"/>
            <a:chExt cx="5614560" cy="366840"/>
          </a:xfrm>
        </p:grpSpPr>
        <p:sp>
          <p:nvSpPr>
            <p:cNvPr id="1326" name=""/>
            <p:cNvSpPr/>
            <p:nvPr/>
          </p:nvSpPr>
          <p:spPr>
            <a:xfrm>
              <a:off x="1949040" y="5257800"/>
              <a:ext cx="764280" cy="3668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45880" y="5257800"/>
              <a:ext cx="1917720" cy="3668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om </a:t>
              </a:r>
              <a:r>
                <a:rPr b="1" lang="en-US" sz="1800" spc="-1" strike="noStrike">
                  <a:solidFill>
                    <a:srgbClr val="cc0066"/>
                  </a:solidFill>
                  <a:latin typeface="Comic Sans MS"/>
                </a:rPr>
                <a:t>Allo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23480" y="5791320"/>
            <a:ext cx="5506560" cy="442800"/>
            <a:chOff x="1923480" y="5791320"/>
            <a:chExt cx="5506560" cy="442800"/>
          </a:xfrm>
        </p:grpSpPr>
        <p:sp>
          <p:nvSpPr>
            <p:cNvPr id="1329" name=""/>
            <p:cNvSpPr/>
            <p:nvPr/>
          </p:nvSpPr>
          <p:spPr>
            <a:xfrm>
              <a:off x="1923480" y="5867280"/>
              <a:ext cx="826560" cy="36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00320" y="5791320"/>
              <a:ext cx="1629720" cy="36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ll Chec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638680" y="2057400"/>
            <a:ext cx="3141720" cy="914040"/>
            <a:chOff x="5638680" y="2057400"/>
            <a:chExt cx="3141720" cy="914040"/>
          </a:xfrm>
        </p:grpSpPr>
        <p:sp>
          <p:nvSpPr>
            <p:cNvPr id="1332" name=""/>
            <p:cNvSpPr/>
            <p:nvPr/>
          </p:nvSpPr>
          <p:spPr>
            <a:xfrm>
              <a:off x="7004160" y="205740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riation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5638680" y="2209320"/>
              <a:ext cx="13716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AAFE-58B1-46B2-A8F6-0B8C1ABCD64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Seminar Business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2152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ed from all three frameworks, with fold/unf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1440" y="3200400"/>
            <a:ext cx="74448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3357000" y="4952880"/>
            <a:ext cx="1851480" cy="641160"/>
            <a:chOff x="3357000" y="4952880"/>
            <a:chExt cx="1851480" cy="641160"/>
          </a:xfrm>
        </p:grpSpPr>
        <p:sp>
          <p:nvSpPr>
            <p:cNvPr id="1338" name=""/>
            <p:cNvSpPr/>
            <p:nvPr/>
          </p:nvSpPr>
          <p:spPr>
            <a:xfrm>
              <a:off x="3357000" y="4952880"/>
              <a:ext cx="1820160" cy="64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Times New Roman"/>
                </a:rPr>
                <a:t>Seminar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Times New Roman"/>
                </a:rPr>
                <a:t>when: Date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366720" y="5263920"/>
              <a:ext cx="18417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850680" y="4876920"/>
            <a:ext cx="76860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6360" y="3200400"/>
            <a:ext cx="150804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omFac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6031800" y="3276720"/>
            <a:ext cx="1797840" cy="2652840"/>
            <a:chOff x="6031800" y="3276720"/>
            <a:chExt cx="1797840" cy="2652840"/>
          </a:xfrm>
        </p:grpSpPr>
        <p:sp>
          <p:nvSpPr>
            <p:cNvPr id="1343" name=""/>
            <p:cNvSpPr/>
            <p:nvPr/>
          </p:nvSpPr>
          <p:spPr>
            <a:xfrm>
              <a:off x="6641640" y="5562720"/>
              <a:ext cx="118800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str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31800" y="3276720"/>
              <a:ext cx="1632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structorSk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5" name=""/>
          <p:cNvSpPr/>
          <p:nvPr/>
        </p:nvSpPr>
        <p:spPr>
          <a:xfrm flipV="1">
            <a:off x="6553080" y="3657600"/>
            <a:ext cx="336600" cy="466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4724280" y="3657600"/>
            <a:ext cx="457200" cy="466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4800600" y="4435560"/>
            <a:ext cx="380880" cy="517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48520" y="4486320"/>
            <a:ext cx="838080" cy="1076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 flipV="1">
            <a:off x="1371240" y="3580920"/>
            <a:ext cx="685800" cy="474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1371240" y="4425840"/>
            <a:ext cx="685800" cy="405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429000" y="4425840"/>
            <a:ext cx="609480" cy="527040"/>
          </a:xfrm>
          <a:prstGeom prst="line">
            <a:avLst/>
          </a:prstGeom>
          <a:ln w="28440">
            <a:solidFill>
              <a:srgbClr val="33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3535200" y="3581280"/>
            <a:ext cx="427320" cy="480960"/>
          </a:xfrm>
          <a:prstGeom prst="line">
            <a:avLst/>
          </a:prstGeom>
          <a:ln w="28440">
            <a:solidFill>
              <a:srgbClr val="33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5785920" y="3657600"/>
            <a:ext cx="2801880" cy="2652840"/>
            <a:chOff x="5785920" y="3657600"/>
            <a:chExt cx="2801880" cy="2652840"/>
          </a:xfrm>
        </p:grpSpPr>
        <p:sp>
          <p:nvSpPr>
            <p:cNvPr id="1354" name=""/>
            <p:cNvSpPr/>
            <p:nvPr/>
          </p:nvSpPr>
          <p:spPr>
            <a:xfrm>
              <a:off x="5785920" y="5943600"/>
              <a:ext cx="2801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v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pability == certs.ski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5" name=""/>
            <p:cNvGrpSpPr/>
            <p:nvPr/>
          </p:nvGrpSpPr>
          <p:grpSpPr>
            <a:xfrm>
              <a:off x="7090200" y="3657600"/>
              <a:ext cx="1344960" cy="1879560"/>
              <a:chOff x="7090200" y="3657600"/>
              <a:chExt cx="1344960" cy="1879560"/>
            </a:xfrm>
          </p:grpSpPr>
          <p:sp>
            <p:nvSpPr>
              <p:cNvPr id="1356" name=""/>
              <p:cNvSpPr/>
              <p:nvPr/>
            </p:nvSpPr>
            <p:spPr>
              <a:xfrm>
                <a:off x="7090200" y="4419720"/>
                <a:ext cx="1344960" cy="366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ertif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27080" y="3657600"/>
                <a:ext cx="840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* ski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390080" y="4800600"/>
                <a:ext cx="790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* cer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91520" y="36576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91520" y="4800600"/>
                <a:ext cx="0" cy="73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1" name=""/>
          <p:cNvSpPr/>
          <p:nvPr/>
        </p:nvSpPr>
        <p:spPr>
          <a:xfrm>
            <a:off x="1828800" y="3962520"/>
            <a:ext cx="18288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76920" y="4038480"/>
            <a:ext cx="18288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0880" y="2133720"/>
            <a:ext cx="8382240" cy="441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0880" y="1752480"/>
            <a:ext cx="235296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nar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987720" y="2209680"/>
            <a:ext cx="70488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787800" y="2286000"/>
            <a:ext cx="137844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Copy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479400" y="6095880"/>
            <a:ext cx="114984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3000" y="5715000"/>
            <a:ext cx="1828800" cy="457200"/>
          </a:xfrm>
          <a:prstGeom prst="ellipse">
            <a:avLst/>
          </a:prstGeom>
          <a:solidFill>
            <a:srgbClr val="cc0066">
              <a:alpha val="5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800600" y="2743200"/>
            <a:ext cx="1523880" cy="380880"/>
          </a:xfrm>
          <a:prstGeom prst="ellips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6324480" y="2514240"/>
            <a:ext cx="457200" cy="314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 flipV="1">
            <a:off x="4495320" y="2590560"/>
            <a:ext cx="381240" cy="228600"/>
          </a:xfrm>
          <a:prstGeom prst="line">
            <a:avLst/>
          </a:prstGeom>
          <a:ln w="28440">
            <a:solidFill>
              <a:srgbClr val="33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444920" y="2971800"/>
            <a:ext cx="432000" cy="254160"/>
          </a:xfrm>
          <a:prstGeom prst="line">
            <a:avLst/>
          </a:prstGeom>
          <a:ln w="28440">
            <a:solidFill>
              <a:srgbClr val="33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2362320" y="3580920"/>
            <a:ext cx="1981080" cy="2133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717640" y="5486400"/>
            <a:ext cx="559080" cy="279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971800" y="5994360"/>
            <a:ext cx="457200" cy="254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6EF3-EC07-45BA-8FEF-54116BDDC4A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Framework for Seminar S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80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implementation with type specs of missing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533520" y="1762200"/>
            <a:ext cx="81532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74FF-26E7-4C53-9179-583F1F95F96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Components Interac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440" y="1219320"/>
            <a:ext cx="7550640" cy="458280"/>
          </a:xfrm>
          <a:prstGeom prst="rect">
            <a:avLst/>
          </a:prstGeom>
          <a:solidFill>
            <a:srgbClr val="f2ffc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nents interact via clearly specifi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5638680"/>
            <a:ext cx="8381880" cy="824040"/>
          </a:xfrm>
          <a:prstGeom prst="rect">
            <a:avLst/>
          </a:prstGeom>
          <a:solidFill>
            <a:srgbClr val="f2ffc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ocus on behavi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stored data, implemented procedures, other interfaces remain completely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276720" y="4038480"/>
            <a:ext cx="1539000" cy="630360"/>
            <a:chOff x="3276720" y="4038480"/>
            <a:chExt cx="1539000" cy="630360"/>
          </a:xfrm>
        </p:grpSpPr>
        <p:sp>
          <p:nvSpPr>
            <p:cNvPr id="180" name=""/>
            <p:cNvSpPr/>
            <p:nvPr/>
          </p:nvSpPr>
          <p:spPr>
            <a:xfrm>
              <a:off x="3290760" y="4125960"/>
              <a:ext cx="1173600" cy="53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67600" y="4040280"/>
              <a:ext cx="337680" cy="628560"/>
            </a:xfrm>
            <a:custGeom>
              <a:avLst/>
              <a:gdLst/>
              <a:ahLst/>
              <a:rect l="l" t="t" r="r" b="b"/>
              <a:pathLst>
                <a:path w="97" h="396">
                  <a:moveTo>
                    <a:pt x="0" y="53"/>
                  </a:moveTo>
                  <a:lnTo>
                    <a:pt x="0" y="395"/>
                  </a:lnTo>
                  <a:lnTo>
                    <a:pt x="96" y="328"/>
                  </a:lnTo>
                  <a:lnTo>
                    <a:pt x="96" y="0"/>
                  </a:lnTo>
                  <a:lnTo>
                    <a:pt x="0" y="53"/>
                  </a:lnTo>
                </a:path>
              </a:pathLst>
            </a:custGeom>
            <a:solidFill>
              <a:srgbClr val="808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6720" y="4038480"/>
              <a:ext cx="1539000" cy="90720"/>
            </a:xfrm>
            <a:custGeom>
              <a:avLst/>
              <a:gdLst/>
              <a:ahLst/>
              <a:rect l="l" t="t" r="r" b="b"/>
              <a:pathLst>
                <a:path w="442" h="57">
                  <a:moveTo>
                    <a:pt x="0" y="56"/>
                  </a:moveTo>
                  <a:lnTo>
                    <a:pt x="341" y="56"/>
                  </a:lnTo>
                  <a:lnTo>
                    <a:pt x="441" y="0"/>
                  </a:lnTo>
                  <a:lnTo>
                    <a:pt x="111" y="0"/>
                  </a:lnTo>
                  <a:lnTo>
                    <a:pt x="0" y="56"/>
                  </a:lnTo>
                </a:path>
              </a:pathLst>
            </a:custGeom>
            <a:solidFill>
              <a:srgbClr val="ffff8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53120" y="4703760"/>
            <a:ext cx="701640" cy="628560"/>
            <a:chOff x="5253120" y="4703760"/>
            <a:chExt cx="701640" cy="628560"/>
          </a:xfrm>
        </p:grpSpPr>
        <p:sp>
          <p:nvSpPr>
            <p:cNvPr id="184" name=""/>
            <p:cNvSpPr/>
            <p:nvPr/>
          </p:nvSpPr>
          <p:spPr>
            <a:xfrm>
              <a:off x="5257800" y="4790880"/>
              <a:ext cx="534960" cy="536040"/>
            </a:xfrm>
            <a:prstGeom prst="rect">
              <a:avLst/>
            </a:prstGeom>
            <a:solidFill>
              <a:srgbClr val="00c0c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800" y="4703760"/>
              <a:ext cx="155520" cy="628560"/>
            </a:xfrm>
            <a:custGeom>
              <a:avLst/>
              <a:gdLst/>
              <a:ahLst/>
              <a:rect l="l" t="t" r="r" b="b"/>
              <a:pathLst>
                <a:path w="98" h="396">
                  <a:moveTo>
                    <a:pt x="0" y="53"/>
                  </a:moveTo>
                  <a:lnTo>
                    <a:pt x="0" y="395"/>
                  </a:lnTo>
                  <a:lnTo>
                    <a:pt x="97" y="328"/>
                  </a:lnTo>
                  <a:lnTo>
                    <a:pt x="97" y="0"/>
                  </a:lnTo>
                  <a:lnTo>
                    <a:pt x="0" y="53"/>
                  </a:lnTo>
                </a:path>
              </a:pathLst>
            </a:custGeom>
            <a:solidFill>
              <a:srgbClr val="00606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3120" y="4703760"/>
              <a:ext cx="701640" cy="87120"/>
            </a:xfrm>
            <a:custGeom>
              <a:avLst/>
              <a:gdLst/>
              <a:ahLst/>
              <a:rect l="l" t="t" r="r" b="b"/>
              <a:pathLst>
                <a:path w="442" h="55">
                  <a:moveTo>
                    <a:pt x="0" y="54"/>
                  </a:moveTo>
                  <a:lnTo>
                    <a:pt x="342" y="54"/>
                  </a:lnTo>
                  <a:lnTo>
                    <a:pt x="441" y="0"/>
                  </a:lnTo>
                  <a:lnTo>
                    <a:pt x="110" y="0"/>
                  </a:lnTo>
                  <a:lnTo>
                    <a:pt x="0" y="54"/>
                  </a:lnTo>
                </a:path>
              </a:pathLst>
            </a:custGeom>
            <a:solidFill>
              <a:srgbClr val="40ffff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307200" y="4168800"/>
            <a:ext cx="701640" cy="631800"/>
            <a:chOff x="6307200" y="4168800"/>
            <a:chExt cx="701640" cy="631800"/>
          </a:xfrm>
        </p:grpSpPr>
        <p:sp>
          <p:nvSpPr>
            <p:cNvPr id="188" name=""/>
            <p:cNvSpPr/>
            <p:nvPr/>
          </p:nvSpPr>
          <p:spPr>
            <a:xfrm>
              <a:off x="6309000" y="4260960"/>
              <a:ext cx="534960" cy="53316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48640" y="4172040"/>
              <a:ext cx="154080" cy="628560"/>
            </a:xfrm>
            <a:custGeom>
              <a:avLst/>
              <a:gdLst/>
              <a:ahLst/>
              <a:rect l="l" t="t" r="r" b="b"/>
              <a:pathLst>
                <a:path w="97" h="396">
                  <a:moveTo>
                    <a:pt x="0" y="53"/>
                  </a:moveTo>
                  <a:lnTo>
                    <a:pt x="0" y="395"/>
                  </a:lnTo>
                  <a:lnTo>
                    <a:pt x="96" y="328"/>
                  </a:lnTo>
                  <a:lnTo>
                    <a:pt x="96" y="0"/>
                  </a:lnTo>
                  <a:lnTo>
                    <a:pt x="0" y="53"/>
                  </a:lnTo>
                </a:path>
              </a:pathLst>
            </a:custGeom>
            <a:solidFill>
              <a:srgbClr val="80008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07200" y="4168800"/>
              <a:ext cx="701640" cy="90360"/>
            </a:xfrm>
            <a:custGeom>
              <a:avLst/>
              <a:gdLst/>
              <a:ahLst/>
              <a:rect l="l" t="t" r="r" b="b"/>
              <a:pathLst>
                <a:path w="442" h="57">
                  <a:moveTo>
                    <a:pt x="0" y="56"/>
                  </a:moveTo>
                  <a:lnTo>
                    <a:pt x="341" y="56"/>
                  </a:lnTo>
                  <a:lnTo>
                    <a:pt x="441" y="0"/>
                  </a:lnTo>
                  <a:lnTo>
                    <a:pt x="110" y="0"/>
                  </a:lnTo>
                  <a:lnTo>
                    <a:pt x="0" y="56"/>
                  </a:lnTo>
                </a:path>
              </a:pathLst>
            </a:custGeom>
            <a:solidFill>
              <a:srgbClr val="ff40ff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29000" y="2641680"/>
            <a:ext cx="1459800" cy="611280"/>
            <a:chOff x="3429000" y="2641680"/>
            <a:chExt cx="1459800" cy="611280"/>
          </a:xfrm>
        </p:grpSpPr>
        <p:sp>
          <p:nvSpPr>
            <p:cNvPr id="192" name=""/>
            <p:cNvSpPr/>
            <p:nvPr/>
          </p:nvSpPr>
          <p:spPr>
            <a:xfrm>
              <a:off x="3431880" y="2711520"/>
              <a:ext cx="1122120" cy="536760"/>
            </a:xfrm>
            <a:prstGeom prst="rect">
              <a:avLst/>
            </a:prstGeom>
            <a:solidFill>
              <a:srgbClr val="ff8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60840" y="2641680"/>
              <a:ext cx="321840" cy="611280"/>
            </a:xfrm>
            <a:custGeom>
              <a:avLst/>
              <a:gdLst/>
              <a:ahLst/>
              <a:rect l="l" t="t" r="r" b="b"/>
              <a:pathLst>
                <a:path w="97" h="385">
                  <a:moveTo>
                    <a:pt x="0" y="43"/>
                  </a:moveTo>
                  <a:lnTo>
                    <a:pt x="0" y="384"/>
                  </a:lnTo>
                  <a:lnTo>
                    <a:pt x="96" y="327"/>
                  </a:lnTo>
                  <a:lnTo>
                    <a:pt x="96" y="0"/>
                  </a:lnTo>
                  <a:lnTo>
                    <a:pt x="0" y="43"/>
                  </a:lnTo>
                </a:path>
              </a:pathLst>
            </a:custGeom>
            <a:solidFill>
              <a:srgbClr val="804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29000" y="2641680"/>
              <a:ext cx="1459800" cy="68400"/>
            </a:xfrm>
            <a:custGeom>
              <a:avLst/>
              <a:gdLst/>
              <a:ahLst/>
              <a:rect l="l" t="t" r="r" b="b"/>
              <a:pathLst>
                <a:path w="440" h="43">
                  <a:moveTo>
                    <a:pt x="0" y="42"/>
                  </a:moveTo>
                  <a:lnTo>
                    <a:pt x="341" y="42"/>
                  </a:lnTo>
                  <a:lnTo>
                    <a:pt x="439" y="0"/>
                  </a:lnTo>
                  <a:lnTo>
                    <a:pt x="110" y="0"/>
                  </a:lnTo>
                  <a:lnTo>
                    <a:pt x="0" y="42"/>
                  </a:lnTo>
                </a:path>
              </a:pathLst>
            </a:custGeom>
            <a:solidFill>
              <a:srgbClr val="ffa04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61120" y="2674800"/>
            <a:ext cx="701640" cy="612720"/>
            <a:chOff x="6261120" y="2674800"/>
            <a:chExt cx="701640" cy="612720"/>
          </a:xfrm>
        </p:grpSpPr>
        <p:sp>
          <p:nvSpPr>
            <p:cNvPr id="196" name=""/>
            <p:cNvSpPr/>
            <p:nvPr/>
          </p:nvSpPr>
          <p:spPr>
            <a:xfrm>
              <a:off x="6266160" y="2744640"/>
              <a:ext cx="531720" cy="536400"/>
            </a:xfrm>
            <a:prstGeom prst="rect">
              <a:avLst/>
            </a:prstGeom>
            <a:solidFill>
              <a:srgbClr val="00e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02560" y="2674800"/>
              <a:ext cx="157320" cy="612720"/>
            </a:xfrm>
            <a:custGeom>
              <a:avLst/>
              <a:gdLst/>
              <a:ahLst/>
              <a:rect l="l" t="t" r="r" b="b"/>
              <a:pathLst>
                <a:path w="99" h="386">
                  <a:moveTo>
                    <a:pt x="0" y="43"/>
                  </a:moveTo>
                  <a:lnTo>
                    <a:pt x="0" y="385"/>
                  </a:lnTo>
                  <a:lnTo>
                    <a:pt x="98" y="328"/>
                  </a:lnTo>
                  <a:lnTo>
                    <a:pt x="98" y="0"/>
                  </a:lnTo>
                  <a:lnTo>
                    <a:pt x="0" y="43"/>
                  </a:lnTo>
                </a:path>
              </a:pathLst>
            </a:custGeom>
            <a:solidFill>
              <a:srgbClr val="006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61120" y="2674800"/>
              <a:ext cx="701640" cy="71280"/>
            </a:xfrm>
            <a:custGeom>
              <a:avLst/>
              <a:gdLst/>
              <a:ahLst/>
              <a:rect l="l" t="t" r="r" b="b"/>
              <a:pathLst>
                <a:path w="442" h="45">
                  <a:moveTo>
                    <a:pt x="0" y="44"/>
                  </a:moveTo>
                  <a:lnTo>
                    <a:pt x="341" y="44"/>
                  </a:lnTo>
                  <a:lnTo>
                    <a:pt x="441" y="0"/>
                  </a:lnTo>
                  <a:lnTo>
                    <a:pt x="110" y="0"/>
                  </a:lnTo>
                  <a:lnTo>
                    <a:pt x="0" y="44"/>
                  </a:lnTo>
                </a:path>
              </a:pathLst>
            </a:custGeom>
            <a:solidFill>
              <a:srgbClr val="80ff8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18000" y="1981080"/>
            <a:ext cx="696960" cy="585720"/>
            <a:chOff x="5418000" y="1981080"/>
            <a:chExt cx="696960" cy="585720"/>
          </a:xfrm>
        </p:grpSpPr>
        <p:sp>
          <p:nvSpPr>
            <p:cNvPr id="200" name=""/>
            <p:cNvSpPr/>
            <p:nvPr/>
          </p:nvSpPr>
          <p:spPr>
            <a:xfrm>
              <a:off x="5418000" y="2028600"/>
              <a:ext cx="534960" cy="5367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9080" y="1981080"/>
              <a:ext cx="154080" cy="585720"/>
            </a:xfrm>
            <a:custGeom>
              <a:avLst/>
              <a:gdLst/>
              <a:ahLst/>
              <a:rect l="l" t="t" r="r" b="b"/>
              <a:pathLst>
                <a:path w="97" h="369">
                  <a:moveTo>
                    <a:pt x="0" y="27"/>
                  </a:moveTo>
                  <a:lnTo>
                    <a:pt x="0" y="368"/>
                  </a:lnTo>
                  <a:lnTo>
                    <a:pt x="96" y="323"/>
                  </a:lnTo>
                  <a:lnTo>
                    <a:pt x="96" y="0"/>
                  </a:lnTo>
                  <a:lnTo>
                    <a:pt x="0" y="27"/>
                  </a:lnTo>
                </a:path>
              </a:pathLst>
            </a:custGeom>
            <a:solidFill>
              <a:srgbClr val="c00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18000" y="1981080"/>
              <a:ext cx="696960" cy="44280"/>
            </a:xfrm>
            <a:custGeom>
              <a:avLst/>
              <a:gdLst/>
              <a:ahLst/>
              <a:rect l="l" t="t" r="r" b="b"/>
              <a:pathLst>
                <a:path w="439" h="28">
                  <a:moveTo>
                    <a:pt x="0" y="27"/>
                  </a:moveTo>
                  <a:lnTo>
                    <a:pt x="340" y="27"/>
                  </a:lnTo>
                  <a:lnTo>
                    <a:pt x="438" y="0"/>
                  </a:lnTo>
                  <a:lnTo>
                    <a:pt x="107" y="0"/>
                  </a:lnTo>
                  <a:lnTo>
                    <a:pt x="0" y="27"/>
                  </a:lnTo>
                </a:path>
              </a:pathLst>
            </a:custGeom>
            <a:solidFill>
              <a:srgbClr val="ff404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429000" y="281952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58880" y="41911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495320" y="2362320"/>
            <a:ext cx="2257920" cy="1981080"/>
            <a:chOff x="4495320" y="2362320"/>
            <a:chExt cx="2257920" cy="1981080"/>
          </a:xfrm>
        </p:grpSpPr>
        <p:sp>
          <p:nvSpPr>
            <p:cNvPr id="206" name=""/>
            <p:cNvSpPr/>
            <p:nvPr/>
          </p:nvSpPr>
          <p:spPr>
            <a:xfrm flipH="1">
              <a:off x="4495320" y="3286080"/>
              <a:ext cx="180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714640" y="3276720"/>
              <a:ext cx="67932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800240" y="2362320"/>
              <a:ext cx="422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295600" y="2990880"/>
              <a:ext cx="8636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477120" y="3276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53240" y="3736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9760" y="3276720"/>
              <a:ext cx="76032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419720" y="2209680"/>
            <a:ext cx="2409480" cy="2543400"/>
            <a:chOff x="4419720" y="2209680"/>
            <a:chExt cx="2409480" cy="2543400"/>
          </a:xfrm>
        </p:grpSpPr>
        <p:sp>
          <p:nvSpPr>
            <p:cNvPr id="214" name=""/>
            <p:cNvSpPr/>
            <p:nvPr/>
          </p:nvSpPr>
          <p:spPr>
            <a:xfrm>
              <a:off x="4923000" y="312408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Deliv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419720" y="2209680"/>
              <a:ext cx="2409480" cy="2543400"/>
              <a:chOff x="4419720" y="2209680"/>
              <a:chExt cx="2409480" cy="25434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838760" y="2933640"/>
                <a:ext cx="419040" cy="152280"/>
                <a:chOff x="4838760" y="2933640"/>
                <a:chExt cx="419040" cy="15228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4838760" y="30096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105160" y="2933640"/>
                  <a:ext cx="152640" cy="15228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419720" y="3657600"/>
                <a:ext cx="152280" cy="419040"/>
                <a:chOff x="4419720" y="3657600"/>
                <a:chExt cx="152280" cy="4190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95680" y="377208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6200000">
                  <a:off x="4419360" y="3657600"/>
                  <a:ext cx="152640" cy="15228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591160" y="4334040"/>
                <a:ext cx="152280" cy="419040"/>
                <a:chOff x="5591160" y="4334040"/>
                <a:chExt cx="152280" cy="4190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667120" y="4448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16200000">
                  <a:off x="5590800" y="4334040"/>
                  <a:ext cx="152640" cy="15228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400800" y="3774960"/>
                <a:ext cx="152280" cy="419040"/>
                <a:chOff x="6400800" y="3774960"/>
                <a:chExt cx="152280" cy="4190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476760" y="388944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16200000">
                  <a:off x="6400440" y="3774960"/>
                  <a:ext cx="152640" cy="15228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76920" y="3276720"/>
                <a:ext cx="152280" cy="419040"/>
                <a:chOff x="6676920" y="3276720"/>
                <a:chExt cx="152280" cy="41904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6752880" y="327672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 rot="5400000">
                  <a:off x="6676560" y="3543120"/>
                  <a:ext cx="152640" cy="15228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334120" y="4334040"/>
                <a:ext cx="152280" cy="419040"/>
                <a:chOff x="5334120" y="4334040"/>
                <a:chExt cx="152280" cy="4190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410080" y="4448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6200000">
                  <a:off x="5333760" y="4334040"/>
                  <a:ext cx="152640" cy="15228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181480" y="2209680"/>
                <a:ext cx="228600" cy="152640"/>
                <a:chOff x="5181480" y="2209680"/>
                <a:chExt cx="228600" cy="152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295960" y="2286000"/>
                  <a:ext cx="11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5181480" y="2209680"/>
                  <a:ext cx="152640" cy="1526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412920" y="3048120"/>
            <a:ext cx="3396960" cy="2085840"/>
            <a:chOff x="412920" y="3048120"/>
            <a:chExt cx="3396960" cy="2085840"/>
          </a:xfrm>
        </p:grpSpPr>
        <p:sp>
          <p:nvSpPr>
            <p:cNvPr id="238" name=""/>
            <p:cNvSpPr/>
            <p:nvPr/>
          </p:nvSpPr>
          <p:spPr>
            <a:xfrm>
              <a:off x="412920" y="3581280"/>
              <a:ext cx="261900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ow is data stor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s the data stored her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 actually stored her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hat other interface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ovided or us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895480" y="3048120"/>
              <a:ext cx="9144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71800" y="44956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41720" y="1905120"/>
            <a:ext cx="3831840" cy="1220040"/>
            <a:chOff x="441720" y="1905120"/>
            <a:chExt cx="3831840" cy="1220040"/>
          </a:xfrm>
        </p:grpSpPr>
        <p:grpSp>
          <p:nvGrpSpPr>
            <p:cNvPr id="242" name=""/>
            <p:cNvGrpSpPr/>
            <p:nvPr/>
          </p:nvGrpSpPr>
          <p:grpSpPr>
            <a:xfrm>
              <a:off x="441720" y="2247840"/>
              <a:ext cx="3539520" cy="877320"/>
              <a:chOff x="441720" y="2247840"/>
              <a:chExt cx="3539520" cy="87732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3828960" y="2247840"/>
                <a:ext cx="152280" cy="419040"/>
                <a:chOff x="3828960" y="2247840"/>
                <a:chExt cx="152280" cy="419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904920" y="236232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6200000">
                  <a:off x="3828600" y="2247840"/>
                  <a:ext cx="152640" cy="15228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441720" y="2666880"/>
                <a:ext cx="1480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Interf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1905120" y="2361960"/>
                <a:ext cx="190476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487680" y="1905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Pick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F8C7-2B20-4B08-A6FF-25F29419152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800280" y="1295280"/>
            <a:ext cx="812448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ed learning track at www.catalysis.o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 of Catalysis-related consulting, training,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Computer Associates’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onent Technology Center</a:t>
            </a:r>
            <a:br>
              <a:rPr sz="20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mond D’Souza - desmond.dsouza@acm.o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web si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platinum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catalysis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iconcomp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c.platinum.com (Intra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7FB9-0FED-4192-B6EA-26BBE883B6C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85800" y="132084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Beans specs: www.javasoft.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JavaBeans specs: www.javasoft.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CF] Objects, Components, and Frameworks with UML: the Catalysis approach, D. D’Souza and A. Wills, Addison Wesley, 19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zyperski, “Component Software: Beyond OO Programming”, Addison Wesley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E8AC-8BCB-4864-A408-8BD17E9CED6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ing a Compon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276720" y="4038480"/>
            <a:ext cx="1539000" cy="630360"/>
            <a:chOff x="3276720" y="4038480"/>
            <a:chExt cx="1539000" cy="630360"/>
          </a:xfrm>
        </p:grpSpPr>
        <p:sp>
          <p:nvSpPr>
            <p:cNvPr id="251" name=""/>
            <p:cNvSpPr/>
            <p:nvPr/>
          </p:nvSpPr>
          <p:spPr>
            <a:xfrm>
              <a:off x="3290760" y="4125960"/>
              <a:ext cx="1173600" cy="53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67600" y="4040280"/>
              <a:ext cx="337680" cy="628560"/>
            </a:xfrm>
            <a:custGeom>
              <a:avLst/>
              <a:gdLst/>
              <a:ahLst/>
              <a:rect l="l" t="t" r="r" b="b"/>
              <a:pathLst>
                <a:path w="97" h="396">
                  <a:moveTo>
                    <a:pt x="0" y="53"/>
                  </a:moveTo>
                  <a:lnTo>
                    <a:pt x="0" y="395"/>
                  </a:lnTo>
                  <a:lnTo>
                    <a:pt x="96" y="328"/>
                  </a:lnTo>
                  <a:lnTo>
                    <a:pt x="96" y="0"/>
                  </a:lnTo>
                  <a:lnTo>
                    <a:pt x="0" y="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76720" y="4038480"/>
              <a:ext cx="1539000" cy="90720"/>
            </a:xfrm>
            <a:custGeom>
              <a:avLst/>
              <a:gdLst/>
              <a:ahLst/>
              <a:rect l="l" t="t" r="r" b="b"/>
              <a:pathLst>
                <a:path w="442" h="57">
                  <a:moveTo>
                    <a:pt x="0" y="56"/>
                  </a:moveTo>
                  <a:lnTo>
                    <a:pt x="341" y="56"/>
                  </a:lnTo>
                  <a:lnTo>
                    <a:pt x="441" y="0"/>
                  </a:lnTo>
                  <a:lnTo>
                    <a:pt x="111" y="0"/>
                  </a:lnTo>
                  <a:lnTo>
                    <a:pt x="0" y="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253120" y="4703760"/>
            <a:ext cx="701640" cy="628560"/>
            <a:chOff x="5253120" y="4703760"/>
            <a:chExt cx="701640" cy="628560"/>
          </a:xfrm>
        </p:grpSpPr>
        <p:sp>
          <p:nvSpPr>
            <p:cNvPr id="255" name=""/>
            <p:cNvSpPr/>
            <p:nvPr/>
          </p:nvSpPr>
          <p:spPr>
            <a:xfrm>
              <a:off x="5257800" y="4790880"/>
              <a:ext cx="534960" cy="536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800" y="4703760"/>
              <a:ext cx="155520" cy="628560"/>
            </a:xfrm>
            <a:custGeom>
              <a:avLst/>
              <a:gdLst/>
              <a:ahLst/>
              <a:rect l="l" t="t" r="r" b="b"/>
              <a:pathLst>
                <a:path w="98" h="396">
                  <a:moveTo>
                    <a:pt x="0" y="53"/>
                  </a:moveTo>
                  <a:lnTo>
                    <a:pt x="0" y="395"/>
                  </a:lnTo>
                  <a:lnTo>
                    <a:pt x="97" y="328"/>
                  </a:lnTo>
                  <a:lnTo>
                    <a:pt x="97" y="0"/>
                  </a:lnTo>
                  <a:lnTo>
                    <a:pt x="0" y="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53120" y="4703760"/>
              <a:ext cx="701640" cy="87120"/>
            </a:xfrm>
            <a:custGeom>
              <a:avLst/>
              <a:gdLst/>
              <a:ahLst/>
              <a:rect l="l" t="t" r="r" b="b"/>
              <a:pathLst>
                <a:path w="442" h="55">
                  <a:moveTo>
                    <a:pt x="0" y="54"/>
                  </a:moveTo>
                  <a:lnTo>
                    <a:pt x="342" y="54"/>
                  </a:lnTo>
                  <a:lnTo>
                    <a:pt x="441" y="0"/>
                  </a:lnTo>
                  <a:lnTo>
                    <a:pt x="110" y="0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8120" y="2438280"/>
            <a:ext cx="1840680" cy="814320"/>
            <a:chOff x="3048120" y="2438280"/>
            <a:chExt cx="1840680" cy="814320"/>
          </a:xfrm>
        </p:grpSpPr>
        <p:sp>
          <p:nvSpPr>
            <p:cNvPr id="259" name=""/>
            <p:cNvSpPr/>
            <p:nvPr/>
          </p:nvSpPr>
          <p:spPr>
            <a:xfrm>
              <a:off x="3051720" y="2531160"/>
              <a:ext cx="1414440" cy="714960"/>
            </a:xfrm>
            <a:prstGeom prst="rect">
              <a:avLst/>
            </a:prstGeom>
            <a:solidFill>
              <a:srgbClr val="ff8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75160" y="2438280"/>
              <a:ext cx="406080" cy="814320"/>
            </a:xfrm>
            <a:custGeom>
              <a:avLst/>
              <a:gdLst/>
              <a:ahLst/>
              <a:rect l="l" t="t" r="r" b="b"/>
              <a:pathLst>
                <a:path w="97" h="385">
                  <a:moveTo>
                    <a:pt x="0" y="43"/>
                  </a:moveTo>
                  <a:lnTo>
                    <a:pt x="0" y="384"/>
                  </a:lnTo>
                  <a:lnTo>
                    <a:pt x="96" y="327"/>
                  </a:lnTo>
                  <a:lnTo>
                    <a:pt x="96" y="0"/>
                  </a:lnTo>
                  <a:lnTo>
                    <a:pt x="0" y="43"/>
                  </a:lnTo>
                </a:path>
              </a:pathLst>
            </a:custGeom>
            <a:solidFill>
              <a:srgbClr val="804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8120" y="2438280"/>
              <a:ext cx="1840680" cy="91080"/>
            </a:xfrm>
            <a:custGeom>
              <a:avLst/>
              <a:gdLst/>
              <a:ahLst/>
              <a:rect l="l" t="t" r="r" b="b"/>
              <a:pathLst>
                <a:path w="440" h="43">
                  <a:moveTo>
                    <a:pt x="0" y="42"/>
                  </a:moveTo>
                  <a:lnTo>
                    <a:pt x="341" y="42"/>
                  </a:lnTo>
                  <a:lnTo>
                    <a:pt x="439" y="0"/>
                  </a:lnTo>
                  <a:lnTo>
                    <a:pt x="110" y="0"/>
                  </a:lnTo>
                  <a:lnTo>
                    <a:pt x="0" y="42"/>
                  </a:lnTo>
                </a:path>
              </a:pathLst>
            </a:custGeom>
            <a:solidFill>
              <a:srgbClr val="ffa04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261120" y="2674800"/>
            <a:ext cx="701640" cy="612720"/>
            <a:chOff x="6261120" y="2674800"/>
            <a:chExt cx="701640" cy="612720"/>
          </a:xfrm>
        </p:grpSpPr>
        <p:sp>
          <p:nvSpPr>
            <p:cNvPr id="263" name=""/>
            <p:cNvSpPr/>
            <p:nvPr/>
          </p:nvSpPr>
          <p:spPr>
            <a:xfrm>
              <a:off x="6266160" y="2744640"/>
              <a:ext cx="531720" cy="53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02560" y="2674800"/>
              <a:ext cx="157320" cy="612720"/>
            </a:xfrm>
            <a:custGeom>
              <a:avLst/>
              <a:gdLst/>
              <a:ahLst/>
              <a:rect l="l" t="t" r="r" b="b"/>
              <a:pathLst>
                <a:path w="99" h="386">
                  <a:moveTo>
                    <a:pt x="0" y="43"/>
                  </a:moveTo>
                  <a:lnTo>
                    <a:pt x="0" y="385"/>
                  </a:lnTo>
                  <a:lnTo>
                    <a:pt x="98" y="328"/>
                  </a:lnTo>
                  <a:lnTo>
                    <a:pt x="98" y="0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61120" y="2674800"/>
              <a:ext cx="701640" cy="71280"/>
            </a:xfrm>
            <a:custGeom>
              <a:avLst/>
              <a:gdLst/>
              <a:ahLst/>
              <a:rect l="l" t="t" r="r" b="b"/>
              <a:pathLst>
                <a:path w="442" h="45">
                  <a:moveTo>
                    <a:pt x="0" y="44"/>
                  </a:moveTo>
                  <a:lnTo>
                    <a:pt x="341" y="44"/>
                  </a:lnTo>
                  <a:lnTo>
                    <a:pt x="441" y="0"/>
                  </a:lnTo>
                  <a:lnTo>
                    <a:pt x="110" y="0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418000" y="1981080"/>
            <a:ext cx="696960" cy="585720"/>
            <a:chOff x="5418000" y="1981080"/>
            <a:chExt cx="696960" cy="585720"/>
          </a:xfrm>
        </p:grpSpPr>
        <p:sp>
          <p:nvSpPr>
            <p:cNvPr id="267" name=""/>
            <p:cNvSpPr/>
            <p:nvPr/>
          </p:nvSpPr>
          <p:spPr>
            <a:xfrm>
              <a:off x="5418000" y="2028600"/>
              <a:ext cx="534960" cy="5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59080" y="1981080"/>
              <a:ext cx="154080" cy="585720"/>
            </a:xfrm>
            <a:custGeom>
              <a:avLst/>
              <a:gdLst/>
              <a:ahLst/>
              <a:rect l="l" t="t" r="r" b="b"/>
              <a:pathLst>
                <a:path w="97" h="369">
                  <a:moveTo>
                    <a:pt x="0" y="27"/>
                  </a:moveTo>
                  <a:lnTo>
                    <a:pt x="0" y="368"/>
                  </a:lnTo>
                  <a:lnTo>
                    <a:pt x="96" y="323"/>
                  </a:lnTo>
                  <a:lnTo>
                    <a:pt x="96" y="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8000" y="1981080"/>
              <a:ext cx="696960" cy="44280"/>
            </a:xfrm>
            <a:custGeom>
              <a:avLst/>
              <a:gdLst/>
              <a:ahLst/>
              <a:rect l="l" t="t" r="r" b="b"/>
              <a:pathLst>
                <a:path w="439" h="28">
                  <a:moveTo>
                    <a:pt x="0" y="27"/>
                  </a:moveTo>
                  <a:lnTo>
                    <a:pt x="340" y="27"/>
                  </a:lnTo>
                  <a:lnTo>
                    <a:pt x="438" y="0"/>
                  </a:lnTo>
                  <a:lnTo>
                    <a:pt x="107" y="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276720" y="26668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58880" y="41911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320" y="3286080"/>
            <a:ext cx="180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00240" y="2362320"/>
            <a:ext cx="4222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5295600" y="2990880"/>
            <a:ext cx="863640" cy="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9760" y="3276720"/>
            <a:ext cx="7603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23000" y="312408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838760" y="2933640"/>
            <a:ext cx="419040" cy="152280"/>
            <a:chOff x="4838760" y="2933640"/>
            <a:chExt cx="419040" cy="152280"/>
          </a:xfrm>
        </p:grpSpPr>
        <p:sp>
          <p:nvSpPr>
            <p:cNvPr id="278" name=""/>
            <p:cNvSpPr/>
            <p:nvPr/>
          </p:nvSpPr>
          <p:spPr>
            <a:xfrm flipH="1">
              <a:off x="4838760" y="30096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05160" y="2933640"/>
              <a:ext cx="152640" cy="15228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419720" y="3657600"/>
            <a:ext cx="152280" cy="419040"/>
            <a:chOff x="4419720" y="3657600"/>
            <a:chExt cx="152280" cy="419040"/>
          </a:xfrm>
        </p:grpSpPr>
        <p:sp>
          <p:nvSpPr>
            <p:cNvPr id="281" name=""/>
            <p:cNvSpPr/>
            <p:nvPr/>
          </p:nvSpPr>
          <p:spPr>
            <a:xfrm>
              <a:off x="4495680" y="3772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4419360" y="36576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4120" y="4334040"/>
            <a:ext cx="152280" cy="419040"/>
            <a:chOff x="5334120" y="4334040"/>
            <a:chExt cx="152280" cy="419040"/>
          </a:xfrm>
        </p:grpSpPr>
        <p:sp>
          <p:nvSpPr>
            <p:cNvPr id="284" name=""/>
            <p:cNvSpPr/>
            <p:nvPr/>
          </p:nvSpPr>
          <p:spPr>
            <a:xfrm>
              <a:off x="5410080" y="4448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5333760" y="4334040"/>
              <a:ext cx="152640" cy="15228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181480" y="2209680"/>
            <a:ext cx="228600" cy="152640"/>
            <a:chOff x="5181480" y="2209680"/>
            <a:chExt cx="228600" cy="152640"/>
          </a:xfrm>
        </p:grpSpPr>
        <p:sp>
          <p:nvSpPr>
            <p:cNvPr id="287" name=""/>
            <p:cNvSpPr/>
            <p:nvPr/>
          </p:nvSpPr>
          <p:spPr>
            <a:xfrm>
              <a:off x="5295960" y="2286000"/>
              <a:ext cx="11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181480" y="22096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81360" y="281952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666880" y="2743200"/>
            <a:ext cx="152640" cy="15228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9680" y="1295280"/>
            <a:ext cx="3731400" cy="1371600"/>
            <a:chOff x="229680" y="1295280"/>
            <a:chExt cx="3731400" cy="1371600"/>
          </a:xfrm>
        </p:grpSpPr>
        <p:sp>
          <p:nvSpPr>
            <p:cNvPr id="292" name=""/>
            <p:cNvSpPr/>
            <p:nvPr/>
          </p:nvSpPr>
          <p:spPr>
            <a:xfrm>
              <a:off x="229680" y="1295280"/>
              <a:ext cx="3731400" cy="366840"/>
            </a:xfrm>
            <a:prstGeom prst="rect">
              <a:avLst/>
            </a:prstGeom>
            <a:solidFill>
              <a:srgbClr val="f2ffc0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ervices Provided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Interface Sp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33720" y="1752480"/>
              <a:ext cx="6094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948200" y="1295280"/>
            <a:ext cx="3751200" cy="838440"/>
            <a:chOff x="4948200" y="1295280"/>
            <a:chExt cx="3751200" cy="838440"/>
          </a:xfrm>
        </p:grpSpPr>
        <p:sp>
          <p:nvSpPr>
            <p:cNvPr id="295" name=""/>
            <p:cNvSpPr/>
            <p:nvPr/>
          </p:nvSpPr>
          <p:spPr>
            <a:xfrm>
              <a:off x="4948200" y="1295280"/>
              <a:ext cx="3751200" cy="366840"/>
            </a:xfrm>
            <a:prstGeom prst="rect">
              <a:avLst/>
            </a:prstGeom>
            <a:solidFill>
              <a:srgbClr val="f2ffc0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ervices Required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Interface Sp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257800" y="167652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181480" y="3809880"/>
            <a:ext cx="3786480" cy="641160"/>
            <a:chOff x="5181480" y="3809880"/>
            <a:chExt cx="3786480" cy="641160"/>
          </a:xfrm>
        </p:grpSpPr>
        <p:sp>
          <p:nvSpPr>
            <p:cNvPr id="298" name=""/>
            <p:cNvSpPr/>
            <p:nvPr/>
          </p:nvSpPr>
          <p:spPr>
            <a:xfrm>
              <a:off x="5827680" y="3809880"/>
              <a:ext cx="3140280" cy="641160"/>
            </a:xfrm>
            <a:prstGeom prst="rect">
              <a:avLst/>
            </a:prstGeom>
            <a:solidFill>
              <a:srgbClr val="f2ffc0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vents Raised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Not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 state chan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3886200"/>
              <a:ext cx="6858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97560" y="4572000"/>
            <a:ext cx="6250320" cy="1250640"/>
            <a:chOff x="97560" y="4572000"/>
            <a:chExt cx="6250320" cy="1250640"/>
          </a:xfrm>
        </p:grpSpPr>
        <p:sp>
          <p:nvSpPr>
            <p:cNvPr id="301" name=""/>
            <p:cNvSpPr/>
            <p:nvPr/>
          </p:nvSpPr>
          <p:spPr>
            <a:xfrm>
              <a:off x="97560" y="5181480"/>
              <a:ext cx="6250320" cy="641160"/>
            </a:xfrm>
            <a:prstGeom prst="rect">
              <a:avLst/>
            </a:prstGeom>
            <a:solidFill>
              <a:srgbClr val="f2ffc0"/>
            </a:solidFill>
            <a:ln w="0">
              <a:noFill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gical model of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omponent 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Typ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face operations and events specified based on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2484720" y="4572000"/>
              <a:ext cx="304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295280" y="2895120"/>
            <a:ext cx="2438640" cy="1448280"/>
            <a:chOff x="1295280" y="2895120"/>
            <a:chExt cx="2438640" cy="1448280"/>
          </a:xfrm>
        </p:grpSpPr>
        <p:sp>
          <p:nvSpPr>
            <p:cNvPr id="304" name=""/>
            <p:cNvSpPr/>
            <p:nvPr/>
          </p:nvSpPr>
          <p:spPr>
            <a:xfrm>
              <a:off x="1295280" y="3200400"/>
              <a:ext cx="1524240" cy="1143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23880" y="3809880"/>
              <a:ext cx="228600" cy="152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3429000"/>
              <a:ext cx="228600" cy="1522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6000" y="4114800"/>
              <a:ext cx="228600" cy="1522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0200" y="350532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0" y="192"/>
                  </a:moveTo>
                  <a:lnTo>
                    <a:pt x="0" y="0"/>
                  </a:lnTo>
                  <a:lnTo>
                    <a:pt x="4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819520" y="3276360"/>
              <a:ext cx="91440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523880" y="2895120"/>
              <a:ext cx="14479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914400" y="6019920"/>
            <a:ext cx="8001000" cy="6411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Precise model of information exchanged, assumptions, guarant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791400" y="1752480"/>
            <a:ext cx="2137680" cy="2057400"/>
            <a:chOff x="6791400" y="1752480"/>
            <a:chExt cx="2137680" cy="2057400"/>
          </a:xfrm>
        </p:grpSpPr>
        <p:sp>
          <p:nvSpPr>
            <p:cNvPr id="314" name=""/>
            <p:cNvSpPr/>
            <p:nvPr/>
          </p:nvSpPr>
          <p:spPr>
            <a:xfrm>
              <a:off x="6791400" y="2209680"/>
              <a:ext cx="213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Not standard OO!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0280" y="1752480"/>
              <a:ext cx="1143000" cy="381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38880" y="2590920"/>
              <a:ext cx="914400" cy="12189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5993-E393-4655-81AC-FC8B090A12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“connectors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8600" y="23162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Tekton"/>
              </a:rPr>
              <a:t>&lt;&lt;event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3640" y="914400"/>
            <a:ext cx="8681760" cy="2826720"/>
            <a:chOff x="233640" y="914400"/>
            <a:chExt cx="8681760" cy="2826720"/>
          </a:xfrm>
        </p:grpSpPr>
        <p:sp>
          <p:nvSpPr>
            <p:cNvPr id="320" name=""/>
            <p:cNvSpPr/>
            <p:nvPr/>
          </p:nvSpPr>
          <p:spPr>
            <a:xfrm>
              <a:off x="914400" y="1219320"/>
              <a:ext cx="609480" cy="3045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ut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2971800"/>
              <a:ext cx="609840" cy="3049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28800" y="295272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38960" y="2138760"/>
              <a:ext cx="115308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rmo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72480" y="2138760"/>
              <a:ext cx="90756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resho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50520" y="2824560"/>
              <a:ext cx="42768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72480" y="3434040"/>
              <a:ext cx="90756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resho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9320" y="3357720"/>
              <a:ext cx="1165320" cy="307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fferenti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9720" y="2438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05360" y="3505320"/>
              <a:ext cx="11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00800" y="3048120"/>
              <a:ext cx="53352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240"/>
                  </a:moveTo>
                  <a:lnTo>
                    <a:pt x="0" y="0"/>
                  </a:lnTo>
                  <a:lnTo>
                    <a:pt x="3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24480" y="2438280"/>
              <a:ext cx="60984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0"/>
                  </a:moveTo>
                  <a:lnTo>
                    <a:pt x="0" y="288"/>
                  </a:lnTo>
                  <a:lnTo>
                    <a:pt x="384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1520" y="2971800"/>
              <a:ext cx="90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6920" y="2286000"/>
              <a:ext cx="11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67280" y="1195560"/>
              <a:ext cx="1266840" cy="1760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95920" y="1214280"/>
              <a:ext cx="243000" cy="1382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6981480" y="1209600"/>
              <a:ext cx="142920" cy="15228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rot="16200000">
              <a:off x="5880600" y="1204920"/>
              <a:ext cx="142920" cy="15228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5240" y="91440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l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77120" y="137160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2320" y="2286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81320" y="223848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23848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71840" y="287640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95920" y="345744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53280" y="3000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76960" y="284796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58080" y="292428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29240" y="173340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71600" y="1523880"/>
              <a:ext cx="53352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528" y="432"/>
                  </a:move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4400" y="2590920"/>
              <a:ext cx="990720" cy="380880"/>
            </a:xfrm>
            <a:custGeom>
              <a:avLst/>
              <a:gdLst/>
              <a:ahLst/>
              <a:rect l="l" t="t" r="r" b="b"/>
              <a:pathLst>
                <a:path w="816" h="240">
                  <a:moveTo>
                    <a:pt x="816" y="0"/>
                  </a:moveTo>
                  <a:lnTo>
                    <a:pt x="0" y="0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33440" y="215280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7160" y="2543040"/>
              <a:ext cx="9540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3760" y="1600200"/>
              <a:ext cx="72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es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9240" y="1219320"/>
              <a:ext cx="51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71600" y="1981080"/>
              <a:ext cx="51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71600" y="236232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3640" y="266688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ogg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14240" y="1981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&lt;&lt;physical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905120" y="1905120"/>
              <a:ext cx="457200" cy="1066320"/>
              <a:chOff x="1905120" y="1905120"/>
              <a:chExt cx="457200" cy="1066320"/>
            </a:xfrm>
          </p:grpSpPr>
          <p:sp>
            <p:nvSpPr>
              <p:cNvPr id="360" name=""/>
              <p:cNvSpPr/>
              <p:nvPr/>
            </p:nvSpPr>
            <p:spPr>
              <a:xfrm>
                <a:off x="1905120" y="2133360"/>
                <a:ext cx="457200" cy="8380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05120" y="1905120"/>
                <a:ext cx="457200" cy="456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14480" y="2133360"/>
                <a:ext cx="447840" cy="3808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479640" y="1371600"/>
              <a:ext cx="76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00880" y="17524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34160" y="198108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66400" y="198108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03880" y="25146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20440" y="297180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5480" y="3200400"/>
              <a:ext cx="7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74400" y="342900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66000" y="312408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23080" y="253368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08800" y="266688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08800" y="297180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91520" y="266688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05920" y="2819520"/>
              <a:ext cx="609480" cy="3045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4080" y="266688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18560" y="4343400"/>
            <a:ext cx="4555080" cy="2057400"/>
            <a:chOff x="718560" y="4343400"/>
            <a:chExt cx="4555080" cy="2057400"/>
          </a:xfrm>
        </p:grpSpPr>
        <p:grpSp>
          <p:nvGrpSpPr>
            <p:cNvPr id="379" name=""/>
            <p:cNvGrpSpPr/>
            <p:nvPr/>
          </p:nvGrpSpPr>
          <p:grpSpPr>
            <a:xfrm>
              <a:off x="1539720" y="4724640"/>
              <a:ext cx="3733920" cy="1676160"/>
              <a:chOff x="1539720" y="4724640"/>
              <a:chExt cx="3733920" cy="1676160"/>
            </a:xfrm>
          </p:grpSpPr>
          <p:sp>
            <p:nvSpPr>
              <p:cNvPr id="380" name=""/>
              <p:cNvSpPr/>
              <p:nvPr/>
            </p:nvSpPr>
            <p:spPr>
              <a:xfrm>
                <a:off x="1539720" y="4953240"/>
                <a:ext cx="838440" cy="14475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35560" y="4953240"/>
                <a:ext cx="838080" cy="14475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92560" y="5029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378160" y="5158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521160" y="5158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64080" y="4724640"/>
                <a:ext cx="125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Times New Roman"/>
                  </a:rPr>
                  <a:t>&lt;&lt;replicate&gt;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292560" y="60436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378160" y="6172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21160" y="6172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37800" y="5738760"/>
                <a:ext cx="131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66"/>
                    </a:solidFill>
                    <a:latin typeface="Times New Roman"/>
                  </a:rPr>
                  <a:t>&lt;&lt;workflow&gt;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18560" y="4343400"/>
              <a:ext cx="453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ther forms of higher-level “connector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708240" y="58323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OCF 10.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8600" y="19810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Tekton"/>
              </a:rPr>
              <a:t>&lt;&lt;event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49320" y="274320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Tekton"/>
              </a:rPr>
              <a:t>&lt;&lt;prop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4760" y="182880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Tekton"/>
              </a:rPr>
              <a:t>&lt;&lt;prop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400800" y="1600200"/>
            <a:ext cx="1989720" cy="1447920"/>
            <a:chOff x="6400800" y="1600200"/>
            <a:chExt cx="1989720" cy="1447920"/>
          </a:xfrm>
        </p:grpSpPr>
        <p:sp>
          <p:nvSpPr>
            <p:cNvPr id="396" name=""/>
            <p:cNvSpPr/>
            <p:nvPr/>
          </p:nvSpPr>
          <p:spPr>
            <a:xfrm>
              <a:off x="7507080" y="1600200"/>
              <a:ext cx="88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Tekton"/>
                </a:rPr>
                <a:t>&lt;&lt;prop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29400" y="1752480"/>
              <a:ext cx="990720" cy="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24680" y="1828800"/>
              <a:ext cx="0" cy="99072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400800" y="1828800"/>
              <a:ext cx="1371600" cy="99072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477120" y="1828800"/>
              <a:ext cx="1371600" cy="121932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D54F-D15B-4C19-8552-949A3C9B8D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CON</dc:creator>
  <dc:description/>
  <dc:language>en-US</dc:language>
  <cp:lastModifiedBy>DSOUD1</cp:lastModifiedBy>
  <cp:lastPrinted>1997-12-01T02:16:00Z</cp:lastPrinted>
  <dcterms:modified xsi:type="dcterms:W3CDTF">1999-09-01T05:41:11Z</dcterms:modified>
  <cp:revision>119</cp:revision>
  <dc:subject/>
  <dc:title>Java: Whither and Whence</dc:title>
</cp:coreProperties>
</file>